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23F-B673-487F-9D50-1EBA5E87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F79-2D65-49D2-8D8C-D62B8674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4B7-F9F7-404F-B81A-5F4902B4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3BE-57B7-4B69-B78E-B823AF03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F8A7-314F-4117-9F23-714A9802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6633-97F5-417E-9D2D-0E323B60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E62D-3DB5-4036-92F7-D78F7B99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DFDD-0FD0-446A-8186-8898E3C6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7672-817F-448A-97E5-D09B6BA1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A4F2-AC30-4F16-A566-5D6CB660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F7ED-10A4-468B-812C-61A68587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D76-416B-4562-BD4D-FD634D21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A0AB-EEBC-4084-8782-E6B69EF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AC48-2456-4931-A1C7-F7A77085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77EA-A3A7-4090-8031-195EC8ED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9144-164A-4E54-B4C9-002C78B8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1D72-87CA-4A9A-B182-97B81EAA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462-D1CC-476C-BBFB-8229F754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8C7-DBB7-4C41-8281-22826580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AB6-3410-486A-915A-967C8382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926-76E3-4F0C-9EDD-8EB4BD20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5BF-7D14-44E2-B15B-D1145415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059-2D63-46FE-B8E7-2B4B48C1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C2D-C022-49FE-8141-0B4B6853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7B70-7E22-4095-A08C-D23FD5CB4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5F42-751E-4430-8429-E79B756E6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38080" y="1728720"/>
                <a:ext cx="769788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ba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</m:ba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</m:ba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≠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rubahan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d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ru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dd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aera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ukup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ecil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bih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ai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il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aplikasika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AKT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LU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LOW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Perubahan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d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erah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ka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nding</m:t>
                    </m: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sang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rastis</m:t>
                        </m:r>
                      </m:e>
                    </m:ba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la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jara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y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nga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nde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r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dany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ngaruh</m:t>
                    </m: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ifu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lekuler</m:t>
                        </m:r>
                      </m:e>
                    </m:ba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da</m:t>
                    </m: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aera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MINER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1143000" y="1676520"/>
            <a:ext cx="1752480" cy="53316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9440" y="279360"/>
            <a:ext cx="929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Ch.10</a:t>
            </a:r>
            <a:r>
              <a:rPr b="0" lang="en-US" sz="2400" spc="-1" strike="noStrike">
                <a:solidFill>
                  <a:srgbClr val="0000ff"/>
                </a:solidFill>
                <a:latin typeface="Tempus Sans ITC"/>
              </a:rPr>
              <a:t>.  </a:t>
            </a:r>
            <a:r>
              <a:rPr b="1" lang="en-US" sz="2500" spc="-1" strike="noStrike">
                <a:solidFill>
                  <a:srgbClr val="000000"/>
                </a:solidFill>
                <a:latin typeface="Tempus Sans ITC"/>
              </a:rPr>
              <a:t>DISTRIBUSI KONSENTRASI pada ALIRAN TURBUL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0400" y="955800"/>
            <a:ext cx="79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 Fluktuasi Konsentrasi (       ) &amp; time-smoothed conc. (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962520" y="990720"/>
                <a:ext cx="533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848720" y="977760"/>
                <a:ext cx="4539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4500720" y="1523880"/>
          <a:ext cx="44146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523880"/>
                    <a:ext cx="44146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304920" y="1447920"/>
          <a:ext cx="4419360" cy="47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47920"/>
                    <a:ext cx="4419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Grs2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297320" cy="4495680"/>
          </a:xfrm>
          <a:prstGeom prst="rect">
            <a:avLst/>
          </a:prstGeom>
          <a:ln w="0">
            <a:noFill/>
          </a:ln>
        </p:spPr>
      </p:pic>
      <p:pic>
        <p:nvPicPr>
          <p:cNvPr id="361" name="Grs1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535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24080" y="1143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Aliran Fl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565164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fik/korel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uk memprediksi kelakuan sistem aliran untuk geometri terten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2130480"/>
            <a:ext cx="297180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iran dlm “chann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i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al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2130480"/>
            <a:ext cx="449568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iran sekeliling ob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gerakan udara sekitar sayap pesaw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gerakan fluida di sekeliling portikal sa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dimentasi, d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09520" y="4572000"/>
                <a:ext cx="18194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H="1">
            <a:off x="2209320" y="1600200"/>
            <a:ext cx="20574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7080" y="1600200"/>
            <a:ext cx="175284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380988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4829040" y="4572000"/>
                <a:ext cx="314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ital </m:t>
                    </m:r>
                    <m:r>
                      <m:t xml:space="preserve">drag</m:t>
                    </m:r>
                    <m:r>
                      <m:rPr>
                        <m:lit/>
                        <m:nor/>
                      </m:rPr>
                      <m:t xml:space="preserve">` ital </m:t>
                    </m:r>
                    <m:r>
                      <m:t xml:space="preserve">force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 flipH="1">
            <a:off x="5866920" y="5181480"/>
            <a:ext cx="114300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86600" y="38862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5105520"/>
            <a:ext cx="152424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270000"/>
            <a:ext cx="88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Ch.11</a:t>
            </a:r>
            <a:r>
              <a:rPr b="0" lang="en-US" sz="2800" spc="-1" strike="noStrike">
                <a:solidFill>
                  <a:srgbClr val="0000ff"/>
                </a:solidFill>
                <a:latin typeface="Tempus Sans ITC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PERPINDAHAN MOMENTUM ANTAR F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933480" y="990720"/>
                <a:ext cx="750708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ay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a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berik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le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i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am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ay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a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berik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le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ida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a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rgerak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ay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esek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u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arakteristik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tted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rface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erg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netik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rakteristi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kt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ks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8029440" y="4572000"/>
            <a:ext cx="505080" cy="457200"/>
          </a:xfrm>
          <a:prstGeom prst="ellipse">
            <a:avLst/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38680" y="4572000"/>
            <a:ext cx="1905120" cy="4572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188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57840" y="502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62960" y="326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# Faktor frik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2095200" y="3466440"/>
            <a:ext cx="685800" cy="2286000"/>
          </a:xfrm>
          <a:prstGeom prst="can">
            <a:avLst>
              <a:gd name="adj" fmla="val 150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3880" y="5105520"/>
            <a:ext cx="19814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74920" y="5070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0400" y="461016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762120" y="4191120"/>
                <a:ext cx="457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230480" y="5600880"/>
                <a:ext cx="16650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L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ρ</m:t>
                        </m:r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4648320" y="480060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859280" y="4410000"/>
                <a:ext cx="474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940360" y="5467320"/>
                <a:ext cx="1451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8215920" y="499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55680" y="977760"/>
                <a:ext cx="8513640" cy="39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L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ρ</m:t>
                            </m:r>
                            <m:sSup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ukur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a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uku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alah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vasi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ρ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D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r>
                                  <m:t xml:space="preserve">ρ</m:t>
                                </m:r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nn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1490040" y="3268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# Aliran dalam pipa (condu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bd05152_" descr=""/>
          <p:cNvPicPr/>
          <p:nvPr/>
        </p:nvPicPr>
        <p:blipFill>
          <a:blip r:embed="rId1"/>
          <a:stretch/>
        </p:blipFill>
        <p:spPr>
          <a:xfrm>
            <a:off x="5562720" y="4656240"/>
            <a:ext cx="30477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39720" y="990720"/>
                <a:ext cx="7918560" cy="31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u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yek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bjek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en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datny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a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da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a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ga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uru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a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ecepat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kit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o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dius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  <m:r>
                              <m:t xml:space="preserve">ρ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ecepat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ital </m:t>
                        </m:r>
                        <m:r>
                          <m:t xml:space="preserve">pendekata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pproac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elocit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ida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ara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uku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au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bje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adata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3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3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990720" y="1981080"/>
            <a:ext cx="304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2057400"/>
            <a:ext cx="304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2133720"/>
            <a:ext cx="304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1905120"/>
            <a:ext cx="2133720" cy="38088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1905120"/>
            <a:ext cx="457200" cy="380880"/>
          </a:xfrm>
          <a:prstGeom prst="ellipse">
            <a:avLst/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95480" y="19051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19520" y="2286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9200" y="2133720"/>
            <a:ext cx="68580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80240" y="32688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# Aliran sekeliling obj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30360" y="4429080"/>
                <a:ext cx="7818480" cy="20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amaa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∧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ρ</m:t>
                                </m:r>
                                <m:sSub>
                                  <m:e>
                                    <m:r>
                                      <m:t xml:space="preserve"> 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sit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ida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sitas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bje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adatan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r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sebur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ug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ra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1143000" y="4724280"/>
            <a:ext cx="2666880" cy="6858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623880" y="1112760"/>
                <a:ext cx="8124840" cy="37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jua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c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u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tara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rdimensi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D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ed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sta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ay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i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muka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l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pa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miner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alah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r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7" name=""/>
          <p:cNvGrpSpPr/>
          <p:nvPr/>
        </p:nvGrpSpPr>
        <p:grpSpPr>
          <a:xfrm>
            <a:off x="1066680" y="1828800"/>
            <a:ext cx="4190760" cy="1218960"/>
            <a:chOff x="1066680" y="1828800"/>
            <a:chExt cx="4190760" cy="1218960"/>
          </a:xfrm>
        </p:grpSpPr>
        <p:sp>
          <p:nvSpPr>
            <p:cNvPr id="408" name=""/>
            <p:cNvSpPr/>
            <p:nvPr/>
          </p:nvSpPr>
          <p:spPr>
            <a:xfrm>
              <a:off x="1842480" y="2167200"/>
              <a:ext cx="3414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42480" y="2844720"/>
              <a:ext cx="3414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1842480" y="2031840"/>
              <a:ext cx="0" cy="135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42480" y="2844720"/>
              <a:ext cx="0" cy="203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37480" y="1828800"/>
              <a:ext cx="387720" cy="2707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36440" y="1828800"/>
              <a:ext cx="388080" cy="2707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2099520"/>
              <a:ext cx="0" cy="67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91960" y="2099520"/>
              <a:ext cx="0" cy="67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40880" y="2844720"/>
              <a:ext cx="0" cy="203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91960" y="2844720"/>
              <a:ext cx="0" cy="203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9960" y="2154600"/>
              <a:ext cx="0" cy="702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66680" y="2438280"/>
              <a:ext cx="542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720" y="2031840"/>
              <a:ext cx="543240" cy="270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1066680" y="2573640"/>
              <a:ext cx="620640" cy="338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63480" y="1896120"/>
              <a:ext cx="154800" cy="135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791960" y="1896120"/>
              <a:ext cx="154800" cy="135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527120" y="32688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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Faktor friksi aliran dalam pi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466560" y="4930920"/>
                <a:ext cx="850752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bstitu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μ</m:t>
                                        </m:r>
                                        <m:r>
                                          <m:t xml:space="preserve"> </m:t>
                                        </m:r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r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</m:nary>
                                <m:sSub>
                                  <m:e>
                                    <m:r>
                                      <m:t xml:space="preserve">|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dθ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</m:nary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L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22440" y="966960"/>
                <a:ext cx="8100720" cy="31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p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tul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l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iab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rdimensi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 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ρ</m:t>
                            </m:r>
                            <m:sSup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jadi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r>
                                          <m:t xml:space="preserve">D</m:t>
                                        </m:r>
                                      </m:den>
                                    </m:f>
                                  </m:sup>
                                  <m:e>
                                    <m:r>
                                      <m:t xml:space="preserve"> </m:t>
                                    </m:r>
                                    <m:nary>
                                      <m:naryPr>
                                        <m:chr m:val="∫"/>
                                      </m:naryPr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Sup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z</m:t>
                                                    </m:r>
                                                  </m:sub>
                                                  <m:sup/>
                                                </m:sSubSup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sSup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  <m:sup/>
                                                </m:sSup>
                                              </m:den>
                                            </m:f>
                                          </m:e>
                                        </m:d>
                                        <m:sSub>
                                          <m:e>
                                            <m:r>
                                              <m:t xml:space="preserve">|</m:t>
                                            </m:r>
                                          </m:e>
                                          <m:sub>
                                            <m:sSup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p/>
                                            </m:sSup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r>
                                      <m:t xml:space="preserve">dθ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 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z</m:t>
                                        </m:r>
                                      </m:e>
                                      <m:sup/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hasi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tergrasi</m:t>
                            </m:r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,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lim>
                        </m:limLow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79320" y="4191120"/>
                <a:ext cx="809640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,</m:t>
                            </m:r>
                            <m:r>
                              <m:t xml:space="preserve"> </m:t>
                            </m:r>
                            <m:r>
                              <m:t xml:space="preserve">L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i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fil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ital </m:t>
                        </m:r>
                        <m:r>
                          <m:t xml:space="preserve">is</m:t>
                        </m:r>
                        <m:r>
                          <m:rPr>
                            <m:lit/>
                            <m:nor/>
                          </m:rPr>
                          <m:t xml:space="preserve">` ital </m:t>
                        </m:r>
                        <m:r>
                          <m:t xml:space="preserve">fully</m:t>
                        </m:r>
                        <m:r>
                          <m:rPr>
                            <m:lit/>
                            <m:nor/>
                          </m:rPr>
                          <m:t xml:space="preserve">` ital </m:t>
                        </m:r>
                        <m:r>
                          <m:t xml:space="preserve">developed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∂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/>
                            </m:sSubSup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/>
                            </m:sSup>
                          </m:den>
                        </m:f>
                        <m:r>
                          <m:t xml:space="preserve">≠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/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gra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d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≈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jadi</m:t>
                        </m:r>
                        <m:r>
                          <m:t xml:space="preserve">: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jug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rlak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4495680" y="5715000"/>
            <a:ext cx="1447920" cy="38088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4038480"/>
            <a:ext cx="1981080" cy="60984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001880" y="533520"/>
                <a:ext cx="797076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MINER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ge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iseuille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0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lasiu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9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,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&lt;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ird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1" name=""/>
          <p:cNvGrpSpPr/>
          <p:nvPr/>
        </p:nvGrpSpPr>
        <p:grpSpPr>
          <a:xfrm>
            <a:off x="685800" y="2437920"/>
            <a:ext cx="5943240" cy="2931480"/>
            <a:chOff x="685800" y="2437920"/>
            <a:chExt cx="5943240" cy="2931480"/>
          </a:xfrm>
        </p:grpSpPr>
        <p:grpSp>
          <p:nvGrpSpPr>
            <p:cNvPr id="432" name=""/>
            <p:cNvGrpSpPr/>
            <p:nvPr/>
          </p:nvGrpSpPr>
          <p:grpSpPr>
            <a:xfrm>
              <a:off x="975600" y="2437920"/>
              <a:ext cx="5653440" cy="2542320"/>
              <a:chOff x="975600" y="2437920"/>
              <a:chExt cx="5653440" cy="2542320"/>
            </a:xfrm>
          </p:grpSpPr>
          <mc:AlternateContent>
            <mc:Choice xmlns:a14="http://schemas.microsoft.com/office/drawing/2010/main" Requires="a14">
              <p:sp>
                <p:nvSpPr>
                  <p:cNvPr id="433" name=""/>
                  <p:cNvSpPr txBox="1"/>
                  <p:nvPr/>
                </p:nvSpPr>
                <p:spPr>
                  <a:xfrm>
                    <a:off x="4110120" y="4150800"/>
                    <a:ext cx="108720" cy="205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434" name=""/>
              <p:cNvSpPr/>
              <p:nvPr/>
            </p:nvSpPr>
            <p:spPr>
              <a:xfrm flipV="1">
                <a:off x="975600" y="2437920"/>
                <a:ext cx="0" cy="25419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20320" y="2873880"/>
                <a:ext cx="1449360" cy="18154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75600" y="4980240"/>
                <a:ext cx="56534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1508800">
                <a:off x="2569320" y="3973320"/>
                <a:ext cx="2590920" cy="84600"/>
              </a:xfrm>
              <a:custGeom>
                <a:avLst/>
                <a:gdLst/>
                <a:ahLst/>
                <a:rect l="l" t="t" r="r" b="b"/>
                <a:pathLst>
                  <a:path w="1584" h="152">
                    <a:moveTo>
                      <a:pt x="0" y="0"/>
                    </a:moveTo>
                    <a:cubicBezTo>
                      <a:pt x="136" y="36"/>
                      <a:pt x="272" y="72"/>
                      <a:pt x="432" y="96"/>
                    </a:cubicBezTo>
                    <a:cubicBezTo>
                      <a:pt x="592" y="120"/>
                      <a:pt x="768" y="136"/>
                      <a:pt x="960" y="144"/>
                    </a:cubicBezTo>
                    <a:cubicBezTo>
                      <a:pt x="1152" y="152"/>
                      <a:pt x="1472" y="144"/>
                      <a:pt x="1584" y="144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497680" y="4108680"/>
                <a:ext cx="2663280" cy="229680"/>
              </a:xfrm>
              <a:custGeom>
                <a:avLst/>
                <a:gdLst/>
                <a:ahLst/>
                <a:rect l="l" t="t" r="r" b="b"/>
                <a:pathLst>
                  <a:path w="1584" h="152">
                    <a:moveTo>
                      <a:pt x="0" y="0"/>
                    </a:moveTo>
                    <a:cubicBezTo>
                      <a:pt x="136" y="36"/>
                      <a:pt x="272" y="72"/>
                      <a:pt x="432" y="96"/>
                    </a:cubicBezTo>
                    <a:cubicBezTo>
                      <a:pt x="592" y="120"/>
                      <a:pt x="768" y="136"/>
                      <a:pt x="960" y="144"/>
                    </a:cubicBezTo>
                    <a:cubicBezTo>
                      <a:pt x="1152" y="152"/>
                      <a:pt x="1472" y="144"/>
                      <a:pt x="1584" y="144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60000">
                <a:off x="2498760" y="4246200"/>
                <a:ext cx="2609280" cy="302400"/>
              </a:xfrm>
              <a:custGeom>
                <a:avLst/>
                <a:gdLst/>
                <a:ahLst/>
                <a:rect l="l" t="t" r="r" b="b"/>
                <a:pathLst>
                  <a:path w="1584" h="152">
                    <a:moveTo>
                      <a:pt x="0" y="0"/>
                    </a:moveTo>
                    <a:cubicBezTo>
                      <a:pt x="136" y="36"/>
                      <a:pt x="272" y="72"/>
                      <a:pt x="432" y="96"/>
                    </a:cubicBezTo>
                    <a:cubicBezTo>
                      <a:pt x="592" y="120"/>
                      <a:pt x="768" y="136"/>
                      <a:pt x="960" y="144"/>
                    </a:cubicBezTo>
                    <a:cubicBezTo>
                      <a:pt x="1152" y="152"/>
                      <a:pt x="1472" y="144"/>
                      <a:pt x="1584" y="144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56000">
                <a:off x="2421360" y="4397400"/>
                <a:ext cx="2613600" cy="357120"/>
              </a:xfrm>
              <a:custGeom>
                <a:avLst/>
                <a:gdLst/>
                <a:ahLst/>
                <a:rect l="l" t="t" r="r" b="b"/>
                <a:pathLst>
                  <a:path w="1584" h="152">
                    <a:moveTo>
                      <a:pt x="0" y="0"/>
                    </a:moveTo>
                    <a:cubicBezTo>
                      <a:pt x="136" y="36"/>
                      <a:pt x="272" y="72"/>
                      <a:pt x="432" y="96"/>
                    </a:cubicBezTo>
                    <a:cubicBezTo>
                      <a:pt x="592" y="120"/>
                      <a:pt x="768" y="136"/>
                      <a:pt x="960" y="144"/>
                    </a:cubicBezTo>
                    <a:cubicBezTo>
                      <a:pt x="1152" y="152"/>
                      <a:pt x="1472" y="144"/>
                      <a:pt x="1584" y="144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3716280" y="4909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" y="300312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"/>
                <p:cNvSpPr txBox="1"/>
                <p:nvPr/>
              </p:nvSpPr>
              <p:spPr>
                <a:xfrm>
                  <a:off x="1193040" y="3485520"/>
                  <a:ext cx="483120" cy="36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4" name=""/>
            <p:cNvSpPr/>
            <p:nvPr/>
          </p:nvSpPr>
          <p:spPr>
            <a:xfrm rot="2944200">
              <a:off x="1189080" y="308376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mi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07600" y="318276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urbu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83280" y="3756240"/>
              <a:ext cx="80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k/D)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25040" y="4118040"/>
              <a:ext cx="80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k/D)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83280" y="4415400"/>
              <a:ext cx="80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k/D)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012000" y="2895480"/>
            <a:ext cx="305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   : tinggi ‘protuberanc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da permukaan pi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D: relative rough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aktor kekasaran p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905040" y="5343480"/>
                <a:ext cx="78246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Ji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bungny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uk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ital </m:t>
                        </m:r>
                        <m:r>
                          <m:t xml:space="preserve">circular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dp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ggunak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ρ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ros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tio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wetted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rimete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ntuk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urbule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61960" y="990720"/>
                <a:ext cx="8013600" cy="346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tinuit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mpone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k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m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d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'</m:t>
                            </m:r>
                          </m:sup>
                        </m:sSub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u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r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nga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aks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der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au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ba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ba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bar>
                          <m:barPr>
                            <m:pos m:val="top"/>
                          </m:bar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ba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bar>
                          <m:barPr>
                            <m:pos m:val="top"/>
                          </m:bar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bar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'''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ba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244520" y="304920"/>
            <a:ext cx="72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ime-smoot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ersamaan kontinuitas kompone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11200" y="4724280"/>
                <a:ext cx="816300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k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k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MENTU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nsor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ρ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k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ERG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ktor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ba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ρ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k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ktor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ba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 </m:t>
                                </m:r>
                              </m:sup>
                            </m:sSubSup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533520" y="1058760"/>
                <a:ext cx="8356320" cy="549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hitungan</m:t>
                        </m:r>
                        <m:r>
                          <m:t xml:space="preserve"> </m:t>
                        </m:r>
                        <m:r>
                          <m:t xml:space="preserve">Δ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a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luk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galirk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ida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besar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a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gali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l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p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ket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,1</m:t>
                        </m:r>
                        <m:r>
                          <m:t xml:space="preserve"> </m:t>
                        </m:r>
                        <m:r>
                          <m:t xml:space="preserve">ℓt</m:t>
                        </m:r>
                        <m:r>
                          <m:rPr>
                            <m:lit/>
                            <m:nor/>
                          </m:rPr>
                          <m:t xml:space="preserve">/det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5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p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lus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tanya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awab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Qρ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Dμ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63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⇒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ρ</m:t>
                        </m:r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  <m:r>
                                      <m:t xml:space="preserve">Q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r>
                                      <m:t xml:space="preserve"> </m:t>
                                    </m:r>
                                    <m:sSup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ne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1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H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1445760" y="3222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# Contoh 1. Car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p, flow rate diketa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457200" y="1066680"/>
                <a:ext cx="845820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i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gali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w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pa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risonta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1</m:t>
                        </m:r>
                        <m:r>
                          <m:rPr>
                            <m:lit/>
                            <m:nor/>
                          </m:rPr>
                          <m:t xml:space="preserve">}  {} # 
 ital </m:t>
                        </m:r>
                        <m:r>
                          <m:t xml:space="preserve">pd</m:t>
                        </m:r>
                        <m:r>
                          <m:rPr>
                            <m:lit/>
                            <m:nor/>
                          </m:rPr>
                          <m:t xml:space="preserve">`Δp`=`3,</m:t>
                        </m:r>
                        <m:r>
                          <m:t xml:space="preserve">00</m:t>
                        </m:r>
                        <m:r>
                          <m:rPr>
                            <m:lit/>
                            <m:nor/>
                          </m:rPr>
                          <m:t xml:space="preserve">` ital </m:t>
                        </m:r>
                        <m:r>
                          <m:t xml:space="preserve">psi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`````k/D=2,3x</m:t>
                        </m:r>
                        <m: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 rSup { size 8{ - 4} }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` ital </m:t>
                        </m:r>
                        <m:r>
                          <m:t xml:space="preserve">Hitung</m:t>
                        </m:r>
                        <m:r>
                          <m:rPr>
                            <m:lit/>
                            <m:nor/>
                          </m:rPr>
                          <m:t xml:space="preserve">` ital </m:t>
                        </m:r>
                        <m:r>
                          <m:t xml:space="preserve">flow</m:t>
                        </m:r>
                        <m:r>
                          <m:rPr>
                            <m:lit/>
                            <m:nor/>
                          </m:rPr>
                          <m:t xml:space="preserve">` ital </m:t>
                        </m:r>
                        <m:r>
                          <m:t xml:space="preserve">rate</m:t>
                        </m:r>
                        <m:r>
                          <m:rPr>
                            <m:lit/>
                            <m:nor/>
                          </m:rPr>
                          <m:t xml:space="preserve">` left (ℓ ital </m:t>
                        </m:r>
                        <m:r>
                          <m:t xml:space="preserve">bm</m:t>
                        </m:r>
                        <m:r>
                          <m:rPr>
                            <m:lit/>
                            <m:nor/>
                          </m:rPr>
                          <m:t xml:space="preserve">/ ital </m:t>
                        </m:r>
                        <m:r>
                          <m:t xml:space="preserve">jam</m:t>
                        </m:r>
                        <m:r>
                          <m:rPr>
                            <m:lit/>
                            <m:nor/>
                          </m:rPr>
                          <m:t xml:space="preserve"> right ) {} # 
 ital </m:t>
                        </m:r>
                        <m:r>
                          <m:t xml:space="preserve">Diket</m:t>
                        </m:r>
                        <m:r>
                          <m:rPr>
                            <m:lit/>
                            <m:nor/>
                          </m:rPr>
                          <m:t xml:space="preserve">:`p rSub { size 8{0} }  - p rSub { size 8{L} } `=`Δp=3 {  {ℓ ital </m:t>
                        </m:r>
                        <m:r>
                          <m:t xml:space="preserve">bf</m:t>
                        </m:r>
                        <m:r>
                          <m:rPr>
                            <m:lit/>
                            <m:nor/>
                          </m:rPr>
                          <m:t xml:space="preserve">}  over  { ital 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rSup { size 8{2} } } } `x`</m:t>
                        </m:r>
                        <m: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,</m:t>
                        </m:r>
                        <m: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` {  {ℓ ital </m:t>
                        </m:r>
                        <m:r>
                          <m:t xml:space="preserve">bm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tal </m:t>
                        </m:r>
                        <m: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}  over  {ℓ ital </m:t>
                        </m:r>
                        <m:r>
                          <m:t xml:space="preserve">bf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det</m:t>
                        </m:r>
                        <m:r>
                          <m:rPr>
                            <m:lit/>
                            <m:nor/>
                          </m:rPr>
                          <m:t xml:space="preserve"> rSup { size 8{2} } } }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`</m:t>
                        </m:r>
                        <m:r>
                          <m:t xml:space="preserve">144</m:t>
                        </m:r>
                        <m:r>
                          <m:rPr>
                            <m:lit/>
                            <m:nor/>
                          </m:rPr>
                          <m:t xml:space="preserve"> {  { ital 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rSup { size 8{2} } }  over  { ital </m:t>
                        </m:r>
                        <m: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 rSup { size 8{2} } } }  {} # 
``````````````````````````````````````=`1,</m:t>
                        </m:r>
                        <m: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x</m:t>
                        </m:r>
                        <m: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 rSup { size 8{4} } ` {  {ℓ ital </m:t>
                        </m:r>
                        <m:r>
                          <m:t xml:space="preserve">bm</m:t>
                        </m:r>
                        <m:r>
                          <m:rPr>
                            <m:lit/>
                            <m:nor/>
                          </m:rPr>
                          <m:t xml:space="preserve">}  over  { ital </m:t>
                        </m:r>
                        <m: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det</m:t>
                        </m:r>
                        <m:r>
                          <m:rPr>
                            <m:lit/>
                            <m:nor/>
                          </m:rPr>
                          <m:t xml:space="preserve"> rSup { size 8{2} } } }  {} # 
``````````D=7,</m:t>
                        </m:r>
                        <m:r>
                          <m:t xml:space="preserve">981</m:t>
                        </m:r>
                        <m:r>
                          <m:rPr>
                            <m:lit/>
                            <m:nor/>
                          </m:rPr>
                          <m:t xml:space="preserve">`` ital 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``=``0,</m:t>
                        </m:r>
                        <m:r>
                          <m:t xml:space="preserve">665</m:t>
                        </m:r>
                        <m:r>
                          <m:rPr>
                            <m:lit/>
                            <m:nor/>
                          </m:rPr>
                          <m:t xml:space="preserve">` ital </m:t>
                        </m:r>
                        <m: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 {} # 
``````````L`=`</m:t>
                        </m:r>
                        <m: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` ital </m:t>
                        </m:r>
                        <m: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 {} # 
`````````ρ``=</m:t>
                        </m:r>
                        <m: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,3``ℓ ital </m:t>
                        </m:r>
                        <m:r>
                          <m:t xml:space="preserve">bm</m:t>
                        </m:r>
                        <m:r>
                          <m:rPr>
                            <m:lit/>
                            <m:nor/>
                          </m:rPr>
                          <m:t xml:space="preserve">/ ital </m:t>
                        </m:r>
                        <m: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 rSup { size 8{3} }  {} # 
``````````μ=`1,</m:t>
                        </m:r>
                        <m:r>
                          <m:t xml:space="preserve">03</m:t>
                        </m:r>
                        <m:r>
                          <m:rPr>
                            <m:lit/>
                            <m:nor/>
                          </m:rPr>
                          <m:t xml:space="preserve">` ital </m:t>
                        </m:r>
                        <m:r>
                          <m:t xml:space="preserve">cp</m:t>
                        </m:r>
                        <m:r>
                          <m:rPr>
                            <m:lit/>
                            <m:nor/>
                          </m:rPr>
                          <m:t xml:space="preserve">`=`6,</m:t>
                        </m:r>
                        <m: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x</m:t>
                        </m:r>
                        <m: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 rSup { size 8{ - 4`} } ` {  {ℓ ital </m:t>
                        </m:r>
                        <m:r>
                          <m:t xml:space="preserve">bm</m:t>
                        </m:r>
                        <m:r>
                          <m:rPr>
                            <m:lit/>
                            <m:nor/>
                          </m:rPr>
                          <m:t xml:space="preserve">}  over  { ital </m:t>
                        </m:r>
                        <m: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det</m:t>
                        </m:r>
                        <m:r>
                          <m:rPr>
                            <m:lit/>
                            <m:nor/>
                          </m:rPr>
                          <m:t xml:space="preserve">} 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1466280" y="3222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# Contoh 2. Cari flow rate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p diketa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20760" y="847800"/>
                <a:ext cx="8748720" cy="591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awab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f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L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e>
                      <m:e>
                        <m:r>
                          <m:t xml:space="preserve">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tode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e>
                        </m:ba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c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itu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f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afikk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f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a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ketahui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itu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f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si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itung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ngkah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c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a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sua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afi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a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bu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ngkah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tela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j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p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hitung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au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7010640" cy="50148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600200" y="5680080"/>
            <a:ext cx="63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waban : Re = 2,4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 = 3,18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98400" y="1008000"/>
                <a:ext cx="8148600" cy="560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tod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nyelesai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c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afi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mult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,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ra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uru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lop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lat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s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a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a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</m:e>
                              <m:sup>
                                <m:r>
                                  <m:t xml:space="preserve">f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1,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r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e>
                            </m:d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ilalu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leh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s</m:t>
                            </m:r>
                            <m:r>
                              <m:t xml:space="preserve"> 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304920" y="1219320"/>
            <a:ext cx="6997680" cy="5031720"/>
            <a:chOff x="304920" y="1219320"/>
            <a:chExt cx="6997680" cy="5031720"/>
          </a:xfrm>
        </p:grpSpPr>
        <p:sp>
          <p:nvSpPr>
            <p:cNvPr id="460" name=""/>
            <p:cNvSpPr/>
            <p:nvPr/>
          </p:nvSpPr>
          <p:spPr>
            <a:xfrm>
              <a:off x="990720" y="1219320"/>
              <a:ext cx="6172200" cy="4572000"/>
            </a:xfrm>
            <a:custGeom>
              <a:avLst/>
              <a:gdLst/>
              <a:ahLst/>
              <a:rect l="l" t="t" r="r" b="b"/>
              <a:pathLst>
                <a:path w="3888" h="2256">
                  <a:moveTo>
                    <a:pt x="0" y="0"/>
                  </a:moveTo>
                  <a:lnTo>
                    <a:pt x="0" y="2256"/>
                  </a:lnTo>
                  <a:lnTo>
                    <a:pt x="3888" y="2256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90720" y="2971800"/>
              <a:ext cx="1600200" cy="1752840"/>
            </a:xfrm>
            <a:prstGeom prst="line">
              <a:avLst/>
            </a:prstGeom>
            <a:ln cap="sq" w="316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2438280" y="4343400"/>
              <a:ext cx="4191120" cy="1143000"/>
              <a:chOff x="2438280" y="4343400"/>
              <a:chExt cx="4191120" cy="1143000"/>
            </a:xfrm>
          </p:grpSpPr>
          <p:sp>
            <p:nvSpPr>
              <p:cNvPr id="463" name=""/>
              <p:cNvSpPr/>
              <p:nvPr/>
            </p:nvSpPr>
            <p:spPr>
              <a:xfrm>
                <a:off x="2438280" y="4343400"/>
                <a:ext cx="4191120" cy="914400"/>
              </a:xfrm>
              <a:custGeom>
                <a:avLst/>
                <a:gdLst/>
                <a:ahLst/>
                <a:rect l="l" t="t" r="r" b="b"/>
                <a:pathLst>
                  <a:path w="2736" h="672">
                    <a:moveTo>
                      <a:pt x="0" y="0"/>
                    </a:moveTo>
                    <a:cubicBezTo>
                      <a:pt x="252" y="160"/>
                      <a:pt x="504" y="320"/>
                      <a:pt x="960" y="432"/>
                    </a:cubicBezTo>
                    <a:cubicBezTo>
                      <a:pt x="1416" y="544"/>
                      <a:pt x="2076" y="608"/>
                      <a:pt x="2736" y="672"/>
                    </a:cubicBezTo>
                  </a:path>
                </a:pathLst>
              </a:custGeom>
              <a:noFill/>
              <a:ln w="31680">
                <a:solidFill>
                  <a:srgbClr val="3333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438280" y="4343400"/>
                <a:ext cx="4191120" cy="1143000"/>
              </a:xfrm>
              <a:custGeom>
                <a:avLst/>
                <a:gdLst/>
                <a:ahLst/>
                <a:rect l="l" t="t" r="r" b="b"/>
                <a:pathLst>
                  <a:path w="2736" h="672">
                    <a:moveTo>
                      <a:pt x="0" y="0"/>
                    </a:moveTo>
                    <a:cubicBezTo>
                      <a:pt x="252" y="160"/>
                      <a:pt x="504" y="320"/>
                      <a:pt x="960" y="432"/>
                    </a:cubicBezTo>
                    <a:cubicBezTo>
                      <a:pt x="1416" y="544"/>
                      <a:pt x="2076" y="608"/>
                      <a:pt x="2736" y="672"/>
                    </a:cubicBezTo>
                  </a:path>
                </a:pathLst>
              </a:custGeom>
              <a:noFill/>
              <a:ln cap="sq" w="3168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635800" y="480060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/D = 0,000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31200" y="57913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4600" y="1981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52680" y="1600200"/>
              <a:ext cx="0" cy="419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52880" y="457200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88920" y="4572000"/>
              <a:ext cx="3963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88920" y="1600200"/>
              <a:ext cx="2363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4920" y="43927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1240" y="14209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1240" y="3021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52680" y="1600200"/>
              <a:ext cx="1600200" cy="2971800"/>
            </a:xfrm>
            <a:prstGeom prst="line">
              <a:avLst/>
            </a:prstGeom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952880" y="4572000"/>
              <a:ext cx="457200" cy="91440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38720" y="5143680"/>
              <a:ext cx="0" cy="685800"/>
            </a:xfrm>
            <a:prstGeom prst="line">
              <a:avLst/>
            </a:prstGeom>
            <a:ln cap="sq"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22040" y="5791320"/>
              <a:ext cx="10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63x0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57000" y="5854680"/>
              <a:ext cx="779400" cy="3052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.4x01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91760" y="5775480"/>
              <a:ext cx="10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63x0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5315760" y="1374840"/>
            <a:ext cx="366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i Gb sebelah diperole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 = 2,4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a dg pers.(6-17) d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hitung flow rate (w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).D.Re.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,1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bm/j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49920" y="990720"/>
                <a:ext cx="3801960" cy="24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alo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penjaba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pa</m:t>
                        </m:r>
                        <m:r>
                          <m:t xml:space="preserve">→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iame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ola</m:t>
                        </m:r>
                      </m:e>
                      <m:e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li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rd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1494720" y="3268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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Faktor friksi aliran sekitar b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85800" y="1143000"/>
            <a:ext cx="3733560" cy="1980720"/>
            <a:chOff x="685800" y="1143000"/>
            <a:chExt cx="3733560" cy="1980720"/>
          </a:xfrm>
        </p:grpSpPr>
        <p:grpSp>
          <p:nvGrpSpPr>
            <p:cNvPr id="485" name=""/>
            <p:cNvGrpSpPr/>
            <p:nvPr/>
          </p:nvGrpSpPr>
          <p:grpSpPr>
            <a:xfrm>
              <a:off x="685800" y="1143000"/>
              <a:ext cx="3733560" cy="1980720"/>
              <a:chOff x="685800" y="1143000"/>
              <a:chExt cx="3733560" cy="1980720"/>
            </a:xfrm>
          </p:grpSpPr>
          <p:sp>
            <p:nvSpPr>
              <p:cNvPr id="486" name=""/>
              <p:cNvSpPr/>
              <p:nvPr/>
            </p:nvSpPr>
            <p:spPr>
              <a:xfrm>
                <a:off x="1971360" y="1543680"/>
                <a:ext cx="878760" cy="855720"/>
              </a:xfrm>
              <a:prstGeom prst="ellipse">
                <a:avLst/>
              </a:prstGeom>
              <a:solidFill>
                <a:srgbClr val="c0c0c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78320" y="1346040"/>
                <a:ext cx="3641040" cy="394920"/>
              </a:xfrm>
              <a:custGeom>
                <a:avLst/>
                <a:gdLst/>
                <a:ahLst/>
                <a:rect l="l" t="t" r="r" b="b"/>
                <a:pathLst>
                  <a:path w="2816" h="278">
                    <a:moveTo>
                      <a:pt x="0" y="241"/>
                    </a:moveTo>
                    <a:cubicBezTo>
                      <a:pt x="207" y="238"/>
                      <a:pt x="415" y="240"/>
                      <a:pt x="622" y="232"/>
                    </a:cubicBezTo>
                    <a:cubicBezTo>
                      <a:pt x="641" y="231"/>
                      <a:pt x="677" y="214"/>
                      <a:pt x="677" y="214"/>
                    </a:cubicBezTo>
                    <a:cubicBezTo>
                      <a:pt x="748" y="167"/>
                      <a:pt x="792" y="98"/>
                      <a:pt x="878" y="77"/>
                    </a:cubicBezTo>
                    <a:cubicBezTo>
                      <a:pt x="986" y="23"/>
                      <a:pt x="1096" y="13"/>
                      <a:pt x="1216" y="4"/>
                    </a:cubicBezTo>
                    <a:cubicBezTo>
                      <a:pt x="1365" y="10"/>
                      <a:pt x="1430" y="0"/>
                      <a:pt x="1545" y="59"/>
                    </a:cubicBezTo>
                    <a:cubicBezTo>
                      <a:pt x="1602" y="88"/>
                      <a:pt x="1657" y="143"/>
                      <a:pt x="1701" y="187"/>
                    </a:cubicBezTo>
                    <a:cubicBezTo>
                      <a:pt x="1703" y="189"/>
                      <a:pt x="1754" y="240"/>
                      <a:pt x="1756" y="241"/>
                    </a:cubicBezTo>
                    <a:cubicBezTo>
                      <a:pt x="1822" y="265"/>
                      <a:pt x="1838" y="271"/>
                      <a:pt x="1920" y="278"/>
                    </a:cubicBezTo>
                    <a:cubicBezTo>
                      <a:pt x="2219" y="275"/>
                      <a:pt x="2816" y="269"/>
                      <a:pt x="2816" y="269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85800" y="2070360"/>
                <a:ext cx="3482640" cy="501840"/>
              </a:xfrm>
              <a:custGeom>
                <a:avLst/>
                <a:gdLst/>
                <a:ahLst/>
                <a:rect l="l" t="t" r="r" b="b"/>
                <a:pathLst>
                  <a:path w="2569" h="374">
                    <a:moveTo>
                      <a:pt x="0" y="17"/>
                    </a:moveTo>
                    <a:cubicBezTo>
                      <a:pt x="131" y="3"/>
                      <a:pt x="253" y="0"/>
                      <a:pt x="384" y="8"/>
                    </a:cubicBezTo>
                    <a:cubicBezTo>
                      <a:pt x="477" y="39"/>
                      <a:pt x="622" y="23"/>
                      <a:pt x="695" y="72"/>
                    </a:cubicBezTo>
                    <a:cubicBezTo>
                      <a:pt x="770" y="122"/>
                      <a:pt x="822" y="186"/>
                      <a:pt x="878" y="255"/>
                    </a:cubicBezTo>
                    <a:cubicBezTo>
                      <a:pt x="914" y="299"/>
                      <a:pt x="970" y="340"/>
                      <a:pt x="1024" y="355"/>
                    </a:cubicBezTo>
                    <a:cubicBezTo>
                      <a:pt x="1048" y="362"/>
                      <a:pt x="1097" y="374"/>
                      <a:pt x="1097" y="374"/>
                    </a:cubicBezTo>
                    <a:cubicBezTo>
                      <a:pt x="1189" y="371"/>
                      <a:pt x="1281" y="373"/>
                      <a:pt x="1372" y="365"/>
                    </a:cubicBezTo>
                    <a:cubicBezTo>
                      <a:pt x="1428" y="360"/>
                      <a:pt x="1482" y="314"/>
                      <a:pt x="1536" y="301"/>
                    </a:cubicBezTo>
                    <a:cubicBezTo>
                      <a:pt x="1574" y="272"/>
                      <a:pt x="1601" y="272"/>
                      <a:pt x="1637" y="246"/>
                    </a:cubicBezTo>
                    <a:cubicBezTo>
                      <a:pt x="1668" y="224"/>
                      <a:pt x="1684" y="203"/>
                      <a:pt x="1719" y="191"/>
                    </a:cubicBezTo>
                    <a:cubicBezTo>
                      <a:pt x="1794" y="37"/>
                      <a:pt x="1917" y="55"/>
                      <a:pt x="2076" y="45"/>
                    </a:cubicBezTo>
                    <a:cubicBezTo>
                      <a:pt x="2502" y="55"/>
                      <a:pt x="2338" y="54"/>
                      <a:pt x="2569" y="54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85800" y="2358360"/>
                <a:ext cx="3598920" cy="401760"/>
              </a:xfrm>
              <a:custGeom>
                <a:avLst/>
                <a:gdLst/>
                <a:ahLst/>
                <a:rect l="l" t="t" r="r" b="b"/>
                <a:pathLst>
                  <a:path w="2752" h="293">
                    <a:moveTo>
                      <a:pt x="0" y="92"/>
                    </a:moveTo>
                    <a:cubicBezTo>
                      <a:pt x="424" y="99"/>
                      <a:pt x="521" y="85"/>
                      <a:pt x="841" y="165"/>
                    </a:cubicBezTo>
                    <a:cubicBezTo>
                      <a:pt x="959" y="241"/>
                      <a:pt x="770" y="124"/>
                      <a:pt x="905" y="192"/>
                    </a:cubicBezTo>
                    <a:cubicBezTo>
                      <a:pt x="919" y="199"/>
                      <a:pt x="928" y="213"/>
                      <a:pt x="942" y="220"/>
                    </a:cubicBezTo>
                    <a:cubicBezTo>
                      <a:pt x="1039" y="268"/>
                      <a:pt x="1185" y="282"/>
                      <a:pt x="1289" y="293"/>
                    </a:cubicBezTo>
                    <a:cubicBezTo>
                      <a:pt x="1346" y="290"/>
                      <a:pt x="1477" y="291"/>
                      <a:pt x="1554" y="275"/>
                    </a:cubicBezTo>
                    <a:cubicBezTo>
                      <a:pt x="1610" y="264"/>
                      <a:pt x="1653" y="216"/>
                      <a:pt x="1701" y="192"/>
                    </a:cubicBezTo>
                    <a:cubicBezTo>
                      <a:pt x="1733" y="176"/>
                      <a:pt x="1768" y="169"/>
                      <a:pt x="1801" y="156"/>
                    </a:cubicBezTo>
                    <a:cubicBezTo>
                      <a:pt x="1848" y="109"/>
                      <a:pt x="1789" y="163"/>
                      <a:pt x="1847" y="128"/>
                    </a:cubicBezTo>
                    <a:cubicBezTo>
                      <a:pt x="1877" y="110"/>
                      <a:pt x="1922" y="61"/>
                      <a:pt x="1957" y="46"/>
                    </a:cubicBezTo>
                    <a:cubicBezTo>
                      <a:pt x="2020" y="19"/>
                      <a:pt x="2100" y="11"/>
                      <a:pt x="2167" y="9"/>
                    </a:cubicBezTo>
                    <a:cubicBezTo>
                      <a:pt x="2487" y="0"/>
                      <a:pt x="2553" y="0"/>
                      <a:pt x="2752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09200" y="1143000"/>
                <a:ext cx="3528720" cy="316800"/>
              </a:xfrm>
              <a:custGeom>
                <a:avLst/>
                <a:gdLst/>
                <a:ahLst/>
                <a:rect l="l" t="t" r="r" b="b"/>
                <a:pathLst>
                  <a:path w="2698" h="231">
                    <a:moveTo>
                      <a:pt x="0" y="164"/>
                    </a:moveTo>
                    <a:cubicBezTo>
                      <a:pt x="249" y="160"/>
                      <a:pt x="524" y="173"/>
                      <a:pt x="778" y="137"/>
                    </a:cubicBezTo>
                    <a:cubicBezTo>
                      <a:pt x="807" y="126"/>
                      <a:pt x="841" y="123"/>
                      <a:pt x="869" y="109"/>
                    </a:cubicBezTo>
                    <a:cubicBezTo>
                      <a:pt x="915" y="86"/>
                      <a:pt x="954" y="69"/>
                      <a:pt x="1006" y="63"/>
                    </a:cubicBezTo>
                    <a:cubicBezTo>
                      <a:pt x="1073" y="56"/>
                      <a:pt x="1207" y="45"/>
                      <a:pt x="1207" y="45"/>
                    </a:cubicBezTo>
                    <a:cubicBezTo>
                      <a:pt x="1347" y="0"/>
                      <a:pt x="1502" y="34"/>
                      <a:pt x="1646" y="54"/>
                    </a:cubicBezTo>
                    <a:cubicBezTo>
                      <a:pt x="1711" y="75"/>
                      <a:pt x="1771" y="159"/>
                      <a:pt x="1838" y="173"/>
                    </a:cubicBezTo>
                    <a:cubicBezTo>
                      <a:pt x="1868" y="179"/>
                      <a:pt x="1899" y="179"/>
                      <a:pt x="1930" y="182"/>
                    </a:cubicBezTo>
                    <a:cubicBezTo>
                      <a:pt x="2177" y="231"/>
                      <a:pt x="2453" y="210"/>
                      <a:pt x="2698" y="21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200" y="2684880"/>
                <a:ext cx="3575520" cy="438840"/>
              </a:xfrm>
              <a:custGeom>
                <a:avLst/>
                <a:gdLst/>
                <a:ahLst/>
                <a:rect l="l" t="t" r="r" b="b"/>
                <a:pathLst>
                  <a:path w="2734" h="320">
                    <a:moveTo>
                      <a:pt x="0" y="73"/>
                    </a:moveTo>
                    <a:cubicBezTo>
                      <a:pt x="189" y="76"/>
                      <a:pt x="378" y="76"/>
                      <a:pt x="567" y="82"/>
                    </a:cubicBezTo>
                    <a:cubicBezTo>
                      <a:pt x="611" y="83"/>
                      <a:pt x="671" y="107"/>
                      <a:pt x="713" y="119"/>
                    </a:cubicBezTo>
                    <a:cubicBezTo>
                      <a:pt x="731" y="124"/>
                      <a:pt x="768" y="137"/>
                      <a:pt x="768" y="137"/>
                    </a:cubicBezTo>
                    <a:cubicBezTo>
                      <a:pt x="801" y="168"/>
                      <a:pt x="846" y="190"/>
                      <a:pt x="887" y="210"/>
                    </a:cubicBezTo>
                    <a:cubicBezTo>
                      <a:pt x="926" y="251"/>
                      <a:pt x="881" y="210"/>
                      <a:pt x="933" y="238"/>
                    </a:cubicBezTo>
                    <a:cubicBezTo>
                      <a:pt x="987" y="267"/>
                      <a:pt x="1039" y="301"/>
                      <a:pt x="1097" y="320"/>
                    </a:cubicBezTo>
                    <a:cubicBezTo>
                      <a:pt x="1213" y="317"/>
                      <a:pt x="1329" y="318"/>
                      <a:pt x="1445" y="311"/>
                    </a:cubicBezTo>
                    <a:cubicBezTo>
                      <a:pt x="1470" y="309"/>
                      <a:pt x="1518" y="293"/>
                      <a:pt x="1518" y="293"/>
                    </a:cubicBezTo>
                    <a:cubicBezTo>
                      <a:pt x="1547" y="278"/>
                      <a:pt x="1581" y="274"/>
                      <a:pt x="1609" y="256"/>
                    </a:cubicBezTo>
                    <a:cubicBezTo>
                      <a:pt x="1645" y="233"/>
                      <a:pt x="1626" y="242"/>
                      <a:pt x="1664" y="229"/>
                    </a:cubicBezTo>
                    <a:cubicBezTo>
                      <a:pt x="1788" y="105"/>
                      <a:pt x="1941" y="14"/>
                      <a:pt x="2121" y="9"/>
                    </a:cubicBezTo>
                    <a:cubicBezTo>
                      <a:pt x="2325" y="4"/>
                      <a:pt x="2734" y="0"/>
                      <a:pt x="2734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685800" y="1656720"/>
                  <a:ext cx="863640" cy="47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746280" y="3505320"/>
                <a:ext cx="806760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reep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o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gio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okes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0,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ermedia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gion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wton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gion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elaj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rd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77800" y="990720"/>
                <a:ext cx="8275680" cy="29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alo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i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l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pa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  <m:r>
                              <m:t xml:space="preserve">ρ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ame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tikel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ecepat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perficial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njang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olom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i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min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l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pa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902160" y="326880"/>
            <a:ext cx="77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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Faktor friksi pada kolom isian (packed colum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-15840" y="3981600"/>
                <a:ext cx="8993160" cy="26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i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l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l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ia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alo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ros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tio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wetted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rimete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olum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vailabl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lo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etted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rface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l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oi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ol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ed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tted</m:t>
                                </m:r>
                                <m:r>
                                  <m:t xml:space="preserve"> 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urface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ol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ed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∈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406440" y="714240"/>
                <a:ext cx="818352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∈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pecif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rfac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ticle</m:t>
                            </m:r>
                            <m:r>
                              <m:t xml:space="preserve">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urfac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ticle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33360" y="2590920"/>
                <a:ext cx="86454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a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jadi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∈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∈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787320" y="3762360"/>
                <a:ext cx="767736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si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ksperim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gka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ru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gant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menjadi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∈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∈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LAKE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OZENY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∗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0,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∗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∈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miner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685800" y="990720"/>
                <a:ext cx="7672320" cy="28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∈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∈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urk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lumm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bb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,5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∈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∈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703440" y="3733920"/>
                <a:ext cx="740700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∈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∈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rlak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∈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738000" y="5349960"/>
            <a:ext cx="84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a pers laminer (pers. 11-33) dan turbulen (pers. 11-35) digabu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a menjadi pers. ERGUN sb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0" y="457200"/>
                <a:ext cx="9144000" cy="617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u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-smooth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t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TURBUL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otermal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t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mpu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ui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n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st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ala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bb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moothed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tinuity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moothed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tion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∇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τ</m:t>
                                    </m:r>
                                  </m:e>
                                </m:ba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ℓ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τ</m:t>
                                    </m:r>
                                  </m:e>
                                </m:ba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moothed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tinuity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J</m:t>
                                    </m:r>
                                  </m:e>
                                </m:bar>
                              </m:e>
                              <m:sub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ℓ</m:t>
                                        </m:r>
                                      </m:e>
                                    </m:d>
                                  </m:sup>
                                </m:sSup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J</m:t>
                                    </m:r>
                                  </m:e>
                                </m:bar>
                              </m:e>
                              <m:sub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</m:sup>
                                </m:sSup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b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''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260280" y="1295280"/>
                <a:ext cx="8740800" cy="23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f>
                          <m:num>
                            <m:r>
                              <m:t xml:space="preserve">μ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∈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∈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∈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a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l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elompo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rdimen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bb</m:t>
                        </m:r>
                        <m:r>
                          <m:t xml:space="preserve">: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ρ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∈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∈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∈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μ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1153800" y="4511520"/>
            <a:ext cx="685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aja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-problem: 6-B, 6-C, 6-D, 6-E, dan 6-F   (Bi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0" y="914400"/>
                <a:ext cx="91440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fusivit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ddy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alo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uku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ck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J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bSup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alog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t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nsf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nas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asumsi</m:t>
                        </m:r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alog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t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nsf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mentu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mentum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asumsi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ν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5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668160" y="32868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# Persamaan empiris utk fluks massa TURB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98440" y="3184560"/>
                <a:ext cx="8524800" cy="33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x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ng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andtl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ylor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J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arm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milarity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alog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nsf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ergi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J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|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∂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</m:den>
                                    </m:f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</m:den>
                                    </m:f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mpir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issler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tk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erah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ka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nding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J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y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ν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735120" y="1265400"/>
                <a:ext cx="8066160" cy="53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ggunak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alog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t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nsf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nas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massa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k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erole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stribu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sentra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ir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l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pa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κ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≥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s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p>
                                            <m:r>
                                              <m:t xml:space="preserve">+</m:t>
                                            </m:r>
                                          </m:sup>
                                        </m:s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s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p>
                                            <m:r>
                                              <m:t xml:space="preserve">+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≤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j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nsf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nd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s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p>
                                            <m:r>
                                              <m:t xml:space="preserve">+</m:t>
                                            </m:r>
                                          </m:sup>
                                        </m:s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s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p>
                                            <m:r>
                                              <m:t xml:space="preserve">+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a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r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rd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573480" y="328680"/>
            <a:ext cx="87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#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empus Sans ITC"/>
              </a:rPr>
              <a:t>Contoh 1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. Distribusi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empus Sans ITC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pada aliran TURBULEN dlm pi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2057400"/>
            <a:ext cx="2590920" cy="83808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2971800"/>
            <a:ext cx="4572000" cy="106668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144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92280" y="838080"/>
                <a:ext cx="8142120" cy="556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/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chmid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κ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/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esimpulan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r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p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paka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tu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yelesaikan</m:t>
                        </m:r>
                      </m:e>
                      <m:e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ermasalaha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erhitungan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nsf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bulen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gganti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g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14479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800" spc="-1" strike="noStrike">
                <a:solidFill>
                  <a:srgbClr val="000000"/>
                </a:solidFill>
                <a:latin typeface="Times New Roman"/>
              </a:rPr>
              <a:t>Larutan NH</a:t>
            </a:r>
            <a:r>
              <a:rPr b="0" i="1" lang="id-ID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d-ID" sz="2800" spc="-1" strike="noStrike">
                <a:solidFill>
                  <a:srgbClr val="000000"/>
                </a:solidFill>
                <a:latin typeface="Times New Roman"/>
              </a:rPr>
              <a:t> pd suhu 68</a:t>
            </a:r>
            <a:r>
              <a:rPr b="0" i="1" lang="id-ID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id-ID" sz="2800" spc="-1" strike="noStrike">
                <a:solidFill>
                  <a:srgbClr val="000000"/>
                </a:solidFill>
                <a:latin typeface="Times New Roman"/>
              </a:rPr>
              <a:t>F mengalir ke bawah pada lapisan (film) tipis di permukaan bagian dalam dari suatu pipa tegak (ID = 2”). Udara jenuh (dg air) mengalir ke atas dalam pipa tsb dgn  Re = 25.000.</a:t>
            </a:r>
            <a:br>
              <a:rPr sz="2800"/>
            </a:br>
            <a:br>
              <a:rPr sz="2800"/>
            </a:br>
            <a:r>
              <a:rPr b="0" i="1" lang="id-ID" sz="2800" spc="-1" strike="noStrike">
                <a:solidFill>
                  <a:srgbClr val="000000"/>
                </a:solidFill>
                <a:latin typeface="Times New Roman"/>
              </a:rPr>
              <a:t>Diket :    Sc = (</a:t>
            </a:r>
            <a:r>
              <a:rPr b="0" i="1" lang="id-ID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id-ID" sz="2800" spc="-1" strike="noStrike">
                <a:solidFill>
                  <a:srgbClr val="000000"/>
                </a:solidFill>
                <a:latin typeface="Times New Roman"/>
              </a:rPr>
              <a:t> udara) / (</a:t>
            </a:r>
            <a:r>
              <a:rPr b="0" i="1" lang="id-ID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id-ID" sz="2800" spc="-1" strike="noStrike">
                <a:solidFill>
                  <a:srgbClr val="000000"/>
                </a:solidFill>
                <a:latin typeface="Times New Roman"/>
              </a:rPr>
              <a:t> ud . </a:t>
            </a:r>
            <a:r>
              <a:rPr b="0" lang="id-ID" sz="2800" spc="-1" strike="noStrike">
                <a:solidFill>
                  <a:srgbClr val="000000"/>
                </a:solidFill>
                <a:latin typeface="Lucida Calligraphy"/>
              </a:rPr>
              <a:t>D</a:t>
            </a:r>
            <a:r>
              <a:rPr b="0" i="1" lang="id-ID" sz="2800" spc="-1" strike="noStrike" baseline="-25000">
                <a:solidFill>
                  <a:srgbClr val="000000"/>
                </a:solidFill>
                <a:latin typeface="Times New Roman"/>
              </a:rPr>
              <a:t>ud-NH3</a:t>
            </a:r>
            <a:r>
              <a:rPr b="0" i="1" lang="id-ID" sz="2800" spc="-1" strike="noStrike">
                <a:solidFill>
                  <a:srgbClr val="000000"/>
                </a:solidFill>
                <a:latin typeface="Times New Roman"/>
              </a:rPr>
              <a:t>) = 0,61</a:t>
            </a:r>
            <a:br>
              <a:rPr sz="2800"/>
            </a:br>
            <a:r>
              <a:rPr b="0" i="1" lang="id-ID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d-ID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id-ID" sz="28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0" i="1" lang="id-ID" sz="2800" spc="-1" strike="noStrike">
                <a:solidFill>
                  <a:srgbClr val="000000"/>
                </a:solidFill>
                <a:latin typeface="Times New Roman"/>
              </a:rPr>
              <a:t>  =  faktor friksi aliran udara = 0,007</a:t>
            </a:r>
            <a:br>
              <a:rPr sz="2800"/>
            </a:br>
            <a:br>
              <a:rPr sz="2800"/>
            </a:br>
            <a:r>
              <a:rPr b="0" i="1" lang="id-ID" sz="2800" spc="-1" strike="noStrike">
                <a:solidFill>
                  <a:srgbClr val="000000"/>
                </a:solidFill>
                <a:latin typeface="Times New Roman"/>
              </a:rPr>
              <a:t>Gambarkan Profil Konsentrasi NH</a:t>
            </a:r>
            <a:r>
              <a:rPr b="0" i="1" lang="id-ID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d-ID" sz="2800" spc="-1" strike="noStrike">
                <a:solidFill>
                  <a:srgbClr val="000000"/>
                </a:solidFill>
                <a:latin typeface="Times New Roman"/>
              </a:rPr>
              <a:t> dalam kolom tersebu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3000" y="328680"/>
            <a:ext cx="67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#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empus Sans ITC"/>
              </a:rPr>
              <a:t>Contoh 2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. Evaporasi Ammonia pada W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42920" y="1066680"/>
                <a:ext cx="8996400" cy="53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υ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μ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d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,6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/det</m:t>
                        </m:r>
                      </m:e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υ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00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,6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7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de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/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τ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 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/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/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det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Pus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pa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</m:sSub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</m:d>
                          </m:num>
                          <m:den>
                            <m:r>
                              <m:t xml:space="preserve">1,6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737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fi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onsentrasi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5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154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s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p>
                                            <m:r>
                                              <m:t xml:space="preserve">+</m:t>
                                            </m:r>
                                          </m:sup>
                                        </m:s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s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p>
                                            <m:r>
                                              <m:t xml:space="preserve">+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737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9,3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*ln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,3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∗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4038480" y="2590920"/>
            <a:ext cx="457200" cy="685800"/>
          </a:xfrm>
          <a:custGeom>
            <a:avLst/>
            <a:gdLst>
              <a:gd name="textAreaLeft" fmla="*/ 0 w 457200"/>
              <a:gd name="textAreaRight" fmla="*/ 164880 w 4572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2720" y="304920"/>
            <a:ext cx="15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empus Sans ITC"/>
              </a:rPr>
              <a:t>Jawa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629400" cy="53132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558360" y="304920"/>
            <a:ext cx="85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Perhitungan profil konsentrasi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empus Sans ITC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dlm aliran turb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09:44:03Z</dcterms:created>
  <dc:creator>mmm</dc:creator>
  <dc:description/>
  <dc:language>en-US</dc:language>
  <cp:lastModifiedBy>Bismillah</cp:lastModifiedBy>
  <dcterms:modified xsi:type="dcterms:W3CDTF">2004-03-29T16:33:24Z</dcterms:modified>
  <cp:revision>57</cp:revision>
  <dc:subject/>
  <dc:title>Ch.6  Perpindahan Momentum Antar Fasa</dc:title>
</cp:coreProperties>
</file>