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CFF-FE10-48AD-BE83-8E92FA0C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637-12C9-4D9F-BC66-98B15FF6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046-FE5E-4A4C-A999-CD83C52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FC6-EAE0-4434-86A0-3C51A226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D90-866E-49AE-976B-B07D673B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667-42A0-460D-BD7F-3066AECE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A51-9339-47C2-818E-DC5698C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959-B712-4181-AD5E-802779C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322-A53A-4A11-9125-00B48AD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F68-A667-42B1-AC54-B03B9847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7A3-5DA6-4A30-8BDB-AA33280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66B-221B-412E-BBBC-57041E0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C996-F7BB-463C-8C51-97F8D33B7050}" type="slidenum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1920" y="228600"/>
            <a:ext cx="59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ff"/>
                </a:solidFill>
                <a:latin typeface="Times New Roman"/>
              </a:rPr>
              <a:t>Ch. 9     DISTRIBUSI TEMPERATUR 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id-ID" sz="2400" spc="-1" strike="noStrike">
                <a:solidFill>
                  <a:srgbClr val="0000ff"/>
                </a:solidFill>
                <a:latin typeface="Times New Roman"/>
              </a:rPr>
              <a:t>ALIRAN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1752480"/>
            <a:ext cx="525780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Pada daerah turbulen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Energi termal di transport dengan sangat cepat oleh olakan (Eddy) dari aliran turbulen. 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Variasi T pada daerah turbulen sangat kecil (T relatif konst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Pd daerah dekat dinding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aktivitas “eddy” dpt diabaikan (daerah laminer)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Energi hanya ditransport oleh konduksi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Prosesnya lebih lamb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Times New Roman"/>
              </a:rPr>
              <a:t>T  =  T +  T’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  ..............................................(9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T’  =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’.T’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       T  =  time-smoothed te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’.T’       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        T’ =  fluktuasi te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’.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117000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3300"/>
                </a:solidFill>
                <a:latin typeface="Times New Roman"/>
              </a:rPr>
              <a:t>*  </a:t>
            </a:r>
            <a:r>
              <a:rPr b="0" lang="id-ID" sz="2400" spc="-1" strike="noStrike" u="sng">
                <a:solidFill>
                  <a:srgbClr val="ff3300"/>
                </a:solidFill>
                <a:uFillTx/>
                <a:latin typeface="Times New Roman"/>
              </a:rPr>
              <a:t>Fluktuasi Temper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0848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4840" y="5199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04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5815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181480"/>
            <a:ext cx="304920" cy="838440"/>
          </a:xfrm>
          <a:custGeom>
            <a:avLst/>
            <a:gdLst>
              <a:gd name="textAreaLeft" fmla="*/ 0 w 304920"/>
              <a:gd name="textAreaRight" fmla="*/ 110160 w 3049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2057400"/>
            <a:ext cx="3048120" cy="4117320"/>
            <a:chOff x="380880" y="2057400"/>
            <a:chExt cx="3048120" cy="4117320"/>
          </a:xfrm>
        </p:grpSpPr>
        <p:sp>
          <p:nvSpPr>
            <p:cNvPr id="51" name=""/>
            <p:cNvSpPr/>
            <p:nvPr/>
          </p:nvSpPr>
          <p:spPr>
            <a:xfrm>
              <a:off x="990720" y="24382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2438280"/>
              <a:ext cx="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71800" y="24382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2438280"/>
              <a:ext cx="0" cy="3048120"/>
            </a:xfrm>
            <a:prstGeom prst="line">
              <a:avLst/>
            </a:prstGeom>
            <a:ln w="9360">
              <a:solidFill>
                <a:srgbClr val="00cc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0720" y="3048120"/>
              <a:ext cx="1981080" cy="1600200"/>
            </a:xfrm>
            <a:custGeom>
              <a:avLst/>
              <a:gdLst/>
              <a:ahLst/>
              <a:rect l="l" t="t" r="r" b="b"/>
              <a:pathLst>
                <a:path w="1248" h="1008">
                  <a:moveTo>
                    <a:pt x="0" y="1008"/>
                  </a:moveTo>
                  <a:cubicBezTo>
                    <a:pt x="16" y="684"/>
                    <a:pt x="32" y="360"/>
                    <a:pt x="240" y="192"/>
                  </a:cubicBezTo>
                  <a:cubicBezTo>
                    <a:pt x="448" y="24"/>
                    <a:pt x="848" y="12"/>
                    <a:pt x="12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57160" y="2457360"/>
              <a:ext cx="114480" cy="297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20574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3300"/>
                  </a:solidFill>
                  <a:latin typeface="Times New Roman"/>
                </a:rPr>
                <a:t>Lami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1600" y="22096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8000"/>
                  </a:solidFill>
                  <a:latin typeface="Times New Roman"/>
                </a:rPr>
                <a:t>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228600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47920" y="243828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9080" y="33861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2133360" y="31237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9680" y="21636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Times New Roman"/>
                </a:rPr>
                <a:t>Turbu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37339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2096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80" y="5654520"/>
              <a:ext cx="281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000000"/>
                  </a:solidFill>
                  <a:latin typeface="Times New Roman"/>
                </a:rPr>
                <a:t>Fluida Panas mengalir pd pipa dg dinding dingin, Re &gt;&gt; 2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73392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92520" y="4471920"/>
            <a:ext cx="144792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s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9246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0400" y="838080"/>
                <a:ext cx="7610760" cy="27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ent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ab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i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ama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gant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gant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mudi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s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rat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a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ktu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94720" y="304920"/>
            <a:ext cx="47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0" lang="id-ID" sz="2400" spc="-1" strike="noStrike" u="sng">
                <a:solidFill>
                  <a:srgbClr val="ff3300"/>
                </a:solidFill>
                <a:uFillTx/>
                <a:latin typeface="Times New Roman"/>
              </a:rPr>
              <a:t>Persamaan Energi </a:t>
            </a:r>
            <a:r>
              <a:rPr b="0" i="1" lang="id-ID" sz="2400" spc="-1" strike="noStrike" u="sng">
                <a:solidFill>
                  <a:srgbClr val="ff3300"/>
                </a:solidFill>
                <a:uFillTx/>
                <a:latin typeface="Times New Roman"/>
              </a:rPr>
              <a:t>(Time Smoot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19320"/>
            <a:ext cx="76960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93960" y="17524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80880" y="3733920"/>
                <a:ext cx="8229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'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ba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ba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  <m:r>
                                      <m:t xml:space="preserve">'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ba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80880" y="3733920"/>
            <a:ext cx="8229600" cy="274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1680" y="56228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029200"/>
            <a:ext cx="47242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6400800"/>
            <a:ext cx="35812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183240" y="5438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3300"/>
                </a:solidFill>
                <a:latin typeface="Times New Roman"/>
              </a:rPr>
              <a:t>Turb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90720" y="5105520"/>
            <a:ext cx="6858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6176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77920" y="1220760"/>
                <a:ext cx="8597880" cy="45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isi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Flux energi turbulen : </m:t>
                        </m: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g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sipasi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mburan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'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'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ba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'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'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bar>
                                    <m:r>
                                      <m:t xml:space="preserve"> </m:t>
                                    </m:r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simpulan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uba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tinuity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tio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∇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52280" y="4114800"/>
            <a:ext cx="815364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6680" y="2286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ff"/>
                </a:solidFill>
                <a:uFillTx/>
                <a:latin typeface="Arial"/>
              </a:rPr>
              <a:t>Persamaan-persamaan Empiris utk Fluks Energi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66720" y="762120"/>
                <a:ext cx="81644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onduktivita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rm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ddy</m:t>
                            </m:r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uri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duk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na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duktiv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d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ru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arakterist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f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s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s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p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gantu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s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a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f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iskos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mat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dy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usiv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dy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,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971800" y="3962520"/>
            <a:ext cx="174636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3276720"/>
            <a:ext cx="121896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276720"/>
            <a:ext cx="11430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523880"/>
            <a:ext cx="17524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92080" y="4724280"/>
                <a:ext cx="7329600" cy="20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xi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ressio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tl</m:t>
                            </m:r>
                            <m:r>
                              <m:t xml:space="preserve"> </m:t>
                            </m:r>
                            <m:r>
                              <m:t xml:space="preserve">∧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ylor</m:t>
                            </m:r>
                          </m:e>
                        </m:ba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andt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x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ngth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r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143000" y="5181480"/>
            <a:ext cx="312408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03160" y="590400"/>
                <a:ext cx="7610760" cy="24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arma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milarity</m:t>
                            </m:r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umsi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d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 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 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 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iversa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828800"/>
            <a:ext cx="441972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4320" y="3746520"/>
                <a:ext cx="737100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issler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er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K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D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υ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f>
                          <m:num>
                            <m:r>
                              <m:t xml:space="preserve">d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ums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t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066680" y="4114800"/>
            <a:ext cx="5257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0400" y="2819520"/>
            <a:ext cx="7415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Karena Flux panas pd dinding  pipa  konstan (q</a:t>
            </a:r>
            <a:r>
              <a:rPr b="0" lang="id-ID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), maka profil T ke arah ra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menjadi stabil  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hanya fungsi  r saj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01920" y="3657600"/>
                <a:ext cx="67863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02000" y="4052880"/>
            <a:ext cx="76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Times New Roman"/>
              </a:rPr>
              <a:t>Dari pers. (8) , dg menghilangkan term dissipasi viscous &amp; akumulasi, diperole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4200" y="4433760"/>
                <a:ext cx="42544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∇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q</m:t>
                            </m:r>
                          </m:e>
                        </m:ba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q</m:t>
                            </m:r>
                          </m:e>
                        </m:ba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65640" y="499752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Times New Roman"/>
              </a:rPr>
              <a:t>Pada Koordinat Silinder 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5264280"/>
                <a:ext cx="712620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θ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7920" y="3505320"/>
            <a:ext cx="228600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43200" y="3124080"/>
                <a:ext cx="1608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990720" y="1092240"/>
            <a:ext cx="7010280" cy="1682280"/>
            <a:chOff x="990720" y="1092240"/>
            <a:chExt cx="7010280" cy="1682280"/>
          </a:xfrm>
        </p:grpSpPr>
        <p:sp>
          <p:nvSpPr>
            <p:cNvPr id="105" name=""/>
            <p:cNvSpPr/>
            <p:nvPr/>
          </p:nvSpPr>
          <p:spPr>
            <a:xfrm>
              <a:off x="990720" y="1231200"/>
              <a:ext cx="7010280" cy="6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50920" y="1092240"/>
              <a:ext cx="5028840" cy="12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2189520"/>
              <a:ext cx="7010280" cy="6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2247840"/>
              <a:ext cx="5028840" cy="12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7395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8960" y="1929960"/>
              <a:ext cx="1295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ff3300"/>
                  </a:solidFill>
                  <a:latin typeface="Times New Roman"/>
                </a:rPr>
                <a:t>Fluida pd T</a:t>
              </a:r>
              <a:r>
                <a:rPr b="0" lang="id-ID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2438280"/>
              <a:ext cx="4419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400" spc="-1" strike="noStrike">
                  <a:solidFill>
                    <a:srgbClr val="ff3300"/>
                  </a:solidFill>
                  <a:latin typeface="Times New Roman"/>
                </a:rPr>
                <a:t>Coil Pendingin dg. Heat flux q</a:t>
              </a:r>
              <a:r>
                <a:rPr b="0" lang="id-ID" sz="1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r>
                <a:rPr b="0" lang="id-ID" sz="1400" spc="-1" strike="noStrike">
                  <a:solidFill>
                    <a:srgbClr val="ff3300"/>
                  </a:solidFill>
                  <a:latin typeface="Times New Roman"/>
                </a:rPr>
                <a:t> konstan sepanjang di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66880" y="1294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657600" y="1357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173952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8440" y="1421640"/>
              <a:ext cx="25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4640" y="12960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6240" y="17395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2057040"/>
              <a:ext cx="4568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19000" y="15228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h 1. Profil temperatur pd aliran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erah jauh dari di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20240" y="2438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Z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58680" y="228600"/>
                <a:ext cx="7597800" cy="411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q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q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e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d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di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aika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a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umsi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leh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andtl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90720" y="3657600"/>
            <a:ext cx="31240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895480"/>
            <a:ext cx="11430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7560" y="838080"/>
            <a:ext cx="451656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47600" y="4713120"/>
                <a:ext cx="7504200" cy="21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nyederhana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andt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τ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52560" y="457200"/>
                <a:ext cx="7238880" cy="34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p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,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ab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κ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κ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124080" y="3124080"/>
            <a:ext cx="2286000" cy="762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50760" y="4076640"/>
                <a:ext cx="712656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T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τ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a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t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er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22240" y="1220760"/>
                <a:ext cx="76233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uri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issler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14400" y="1143000"/>
            <a:ext cx="23623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676520"/>
            <a:ext cx="457200" cy="685800"/>
          </a:xfrm>
          <a:custGeom>
            <a:avLst/>
            <a:gdLst>
              <a:gd name="textAreaLeft" fmla="*/ 0 w 457200"/>
              <a:gd name="textAreaRight" fmla="*/ 164880 w 4572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000" y="152280"/>
            <a:ext cx="64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h 2. Profil temperatur pd aliran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erah dekat di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36400" y="2514600"/>
                <a:ext cx="7929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υ</m:t>
                                </m:r>
                              </m:den>
                            </m:f>
                          </m:e>
                        </m:d>
                      </m:e>
                    </m:d>
                    <m:f>
                      <m:num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00160" y="3284640"/>
                <a:ext cx="718200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abel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bb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P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 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 </m:t>
                                        </m:r>
                                        <m:s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</m: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evalua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 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 </m:t>
                                        </m:r>
                                        <m:s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</m: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i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p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li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f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iku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838080" y="3886200"/>
            <a:ext cx="5105520" cy="762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6:06:07Z</dcterms:created>
  <dc:creator>HADI SUPRAYITNO</dc:creator>
  <dc:description/>
  <dc:language>en-US</dc:language>
  <cp:lastModifiedBy>Bismillah</cp:lastModifiedBy>
  <dcterms:modified xsi:type="dcterms:W3CDTF">2004-03-29T15:36:31Z</dcterms:modified>
  <cp:revision>23</cp:revision>
  <dc:subject/>
  <dc:title>PowerPoint Presentation</dc:title>
</cp:coreProperties>
</file>