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3C5-38BE-42DB-A8AE-BBC358E7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FB9-552C-436F-B7B1-0B8E1BC8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3A4-0253-4A33-899E-87175BB5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5E0-C334-4564-AA21-3D233407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DE37-7060-4392-97B3-AAC1E107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6639-5320-43E0-99D9-270489D8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FD84-25E9-48E8-A937-F96510D2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7392-1649-4DC8-9E05-BEDA22DB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9D64-1EDA-4C1D-A8EA-651C6303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7290-B374-42E5-9373-E368C200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44D9-4773-4A8D-B31A-4E94CDCF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880-99A9-4880-9817-D56A6375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6B33-6CD7-4A48-AD70-B81C8124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8D4B-6467-40D2-B576-2F6101B1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F72F-0C9F-43D9-ABC2-81066B17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397C-1783-47B5-ACCA-CA12967C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4871-862F-4170-A950-3A67D39C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FCE-BC88-42F2-BEC8-E72BDA15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059-3A67-4908-9547-82D80B27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1DD-1867-4D5E-B60C-4D73F314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E11-05F6-4EC7-AD4D-7D349463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144-EA15-42D7-B8D9-D01543F8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E43-8503-4284-9403-5912C011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FE0-93EC-4A2A-BFF8-ECE8240C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55E6-739B-4EAA-9378-15710D0AC5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2655-EF79-41CD-9163-22ED7090BE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09800" y="654120"/>
            <a:ext cx="753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Chapter 13. NERACA MAKROSKOPIK p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SISTEM NON-IS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22480" y="2579760"/>
                <a:ext cx="7405560" cy="413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stead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at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r>
                                  <m:t xml:space="preserve">p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f>
                                  <m:num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s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num>
                                  <m:den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den>
                                </m:f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ead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ate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s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</m:d>
                              </m:den>
                            </m:f>
                            <m:r>
                              <m:t xml:space="preserve">+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berap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ste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l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dust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mi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erg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netik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tensia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ital </m:t>
                        </m:r>
                        <m:r>
                          <m:t xml:space="preserve">kerj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ang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eci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band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talpi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724680" y="190512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. Neraca Energi Makroskop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13640" y="82224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waban pertanyaan (b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0240" y="2025720"/>
            <a:ext cx="75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da saat tangki penuh, aliran air masuk dihentika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ers (13-11)  menja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33520" y="2362320"/>
                <a:ext cx="363204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182200" y="2570040"/>
            <a:ext cx="3033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Diketahu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= 76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 = 1000 cu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 = 105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Uo.Ao)/(w.Cp) = 2,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62,4 lbm/cu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20 lb/men = 1200 lb/j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o.Ao/Cp = 2,74 x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3288 lb/j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2666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8280" y="4876920"/>
            <a:ext cx="7610040" cy="1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ri pers. di atas, maka diperoleh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 = 2,82 jam = 169 meni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waktu utk menaikkan T dari 76 ke 80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aktu utk menaikkan T dari 20 ke 76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(dari tangki kosong hingga penuh)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Vo/w = 52 jam = 3120 men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adi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= 52 + 2,82 = 54,82 jam = 3289 meni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00440" y="68580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2). Neraca Energi Mekanik (pers. Bernoul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04880" y="2112840"/>
                <a:ext cx="8085240" cy="446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stead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at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otermal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f>
                                  <m:num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s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num>
                                  <m:den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den>
                                </m:f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entropik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f>
                                  <m:num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s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num>
                                  <m:den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den>
                                </m:f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ead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ate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Δ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+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39680" y="176040"/>
            <a:ext cx="506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likasi Neraca Makroskopi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a Sistem Steady-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25800" y="1325520"/>
            <a:ext cx="57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Contoh 15.4-1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. Pendinginan gas i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2040" y="2009880"/>
            <a:ext cx="3399120" cy="4616280"/>
            <a:chOff x="302040" y="2009880"/>
            <a:chExt cx="3399120" cy="4616280"/>
          </a:xfrm>
        </p:grpSpPr>
        <p:grpSp>
          <p:nvGrpSpPr>
            <p:cNvPr id="106" name=""/>
            <p:cNvGrpSpPr/>
            <p:nvPr/>
          </p:nvGrpSpPr>
          <p:grpSpPr>
            <a:xfrm>
              <a:off x="812880" y="2971800"/>
              <a:ext cx="101160" cy="2498040"/>
              <a:chOff x="812880" y="2971800"/>
              <a:chExt cx="101160" cy="2498040"/>
            </a:xfrm>
          </p:grpSpPr>
          <p:sp>
            <p:nvSpPr>
              <p:cNvPr id="107" name=""/>
              <p:cNvSpPr/>
              <p:nvPr/>
            </p:nvSpPr>
            <p:spPr>
              <a:xfrm>
                <a:off x="861480" y="3073320"/>
                <a:ext cx="1800" cy="229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2880" y="2971800"/>
                <a:ext cx="101160" cy="1130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50" y="52"/>
                    </a:moveTo>
                    <a:lnTo>
                      <a:pt x="24" y="0"/>
                    </a:lnTo>
                    <a:lnTo>
                      <a:pt x="0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2880" y="5363640"/>
                <a:ext cx="101160" cy="1062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4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3273480" y="2800080"/>
              <a:ext cx="307800" cy="30780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143000" y="2514600"/>
              <a:ext cx="1777320" cy="3351600"/>
              <a:chOff x="1143000" y="2514600"/>
              <a:chExt cx="1777320" cy="335160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1929600" y="5515200"/>
                <a:ext cx="173880" cy="351000"/>
                <a:chOff x="1929600" y="5515200"/>
                <a:chExt cx="173880" cy="351000"/>
              </a:xfrm>
            </p:grpSpPr>
            <p:sp>
              <p:nvSpPr>
                <p:cNvPr id="113" name=""/>
                <p:cNvSpPr/>
                <p:nvPr/>
              </p:nvSpPr>
              <p:spPr>
                <a:xfrm flipV="1">
                  <a:off x="2013120" y="5622120"/>
                  <a:ext cx="3600" cy="244080"/>
                </a:xfrm>
                <a:prstGeom prst="line">
                  <a:avLst/>
                </a:prstGeom>
                <a:ln w="79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929600" y="5515200"/>
                  <a:ext cx="173880" cy="118440"/>
                </a:xfrm>
                <a:custGeom>
                  <a:avLst/>
                  <a:gdLst/>
                  <a:ahLst/>
                  <a:rect l="l" t="t" r="r" b="b"/>
                  <a:pathLst>
                    <a:path w="50" h="52">
                      <a:moveTo>
                        <a:pt x="50" y="52"/>
                      </a:moveTo>
                      <a:lnTo>
                        <a:pt x="24" y="0"/>
                      </a:lnTo>
                      <a:lnTo>
                        <a:pt x="0" y="52"/>
                      </a:lnTo>
                      <a:lnTo>
                        <a:pt x="50" y="5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143000" y="3510000"/>
                <a:ext cx="280080" cy="91080"/>
                <a:chOff x="1143000" y="3510000"/>
                <a:chExt cx="280080" cy="910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143000" y="3553560"/>
                  <a:ext cx="1947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332000" y="3510000"/>
                  <a:ext cx="91080" cy="91080"/>
                </a:xfrm>
                <a:custGeom>
                  <a:avLst/>
                  <a:gdLst/>
                  <a:ahLst/>
                  <a:rect l="l" t="t" r="r" b="b"/>
                  <a:pathLst>
                    <a:path w="50" h="50">
                      <a:moveTo>
                        <a:pt x="0" y="50"/>
                      </a:moveTo>
                      <a:lnTo>
                        <a:pt x="50" y="24"/>
                      </a:lnTo>
                      <a:lnTo>
                        <a:pt x="0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640240" y="4915080"/>
                <a:ext cx="280080" cy="90720"/>
                <a:chOff x="2640240" y="4915080"/>
                <a:chExt cx="280080" cy="907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640240" y="4958280"/>
                  <a:ext cx="19476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829240" y="4915080"/>
                  <a:ext cx="91080" cy="90720"/>
                </a:xfrm>
                <a:custGeom>
                  <a:avLst/>
                  <a:gdLst/>
                  <a:ahLst/>
                  <a:rect l="l" t="t" r="r" b="b"/>
                  <a:pathLst>
                    <a:path w="50" h="50">
                      <a:moveTo>
                        <a:pt x="0" y="50"/>
                      </a:moveTo>
                      <a:lnTo>
                        <a:pt x="50" y="24"/>
                      </a:lnTo>
                      <a:lnTo>
                        <a:pt x="0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929600" y="2514600"/>
                <a:ext cx="173880" cy="368640"/>
                <a:chOff x="1929600" y="2514600"/>
                <a:chExt cx="173880" cy="368640"/>
              </a:xfrm>
            </p:grpSpPr>
            <p:sp>
              <p:nvSpPr>
                <p:cNvPr id="122" name=""/>
                <p:cNvSpPr/>
                <p:nvPr/>
              </p:nvSpPr>
              <p:spPr>
                <a:xfrm flipV="1">
                  <a:off x="2013120" y="2626920"/>
                  <a:ext cx="3600" cy="256320"/>
                </a:xfrm>
                <a:prstGeom prst="line">
                  <a:avLst/>
                </a:prstGeom>
                <a:ln w="79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929600" y="2514600"/>
                  <a:ext cx="173880" cy="124200"/>
                </a:xfrm>
                <a:custGeom>
                  <a:avLst/>
                  <a:gdLst/>
                  <a:ahLst/>
                  <a:rect l="l" t="t" r="r" b="b"/>
                  <a:pathLst>
                    <a:path w="50" h="52">
                      <a:moveTo>
                        <a:pt x="50" y="52"/>
                      </a:moveTo>
                      <a:lnTo>
                        <a:pt x="24" y="0"/>
                      </a:lnTo>
                      <a:lnTo>
                        <a:pt x="0" y="52"/>
                      </a:lnTo>
                      <a:lnTo>
                        <a:pt x="50" y="5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463040" y="2939040"/>
                <a:ext cx="1136160" cy="2546640"/>
                <a:chOff x="1463040" y="2939040"/>
                <a:chExt cx="1136160" cy="2546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900080" y="5134320"/>
                  <a:ext cx="262080" cy="351360"/>
                </a:xfrm>
                <a:prstGeom prst="can">
                  <a:avLst>
                    <a:gd name="adj" fmla="val 24481"/>
                  </a:avLst>
                </a:prstGeom>
                <a:gradFill rotWithShape="0">
                  <a:gsLst>
                    <a:gs pos="0">
                      <a:srgbClr val="fbb5f4"/>
                    </a:gs>
                    <a:gs pos="50000">
                      <a:srgbClr val="ffffff"/>
                    </a:gs>
                    <a:gs pos="100000">
                      <a:srgbClr val="fbb5f4"/>
                    </a:gs>
                  </a:gsLst>
                  <a:lin ang="10800000"/>
                </a:gra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5400000">
                  <a:off x="1549800" y="3378600"/>
                  <a:ext cx="175680" cy="34956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cd97ef"/>
                    </a:gs>
                    <a:gs pos="50000">
                      <a:srgbClr val="ffffff"/>
                    </a:gs>
                    <a:gs pos="100000">
                      <a:srgbClr val="cd97ef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725480" y="3202200"/>
                  <a:ext cx="612000" cy="2019960"/>
                </a:xfrm>
                <a:prstGeom prst="can">
                  <a:avLst>
                    <a:gd name="adj" fmla="val 6333"/>
                  </a:avLst>
                </a:prstGeom>
                <a:gradFill rotWithShape="0">
                  <a:gsLst>
                    <a:gs pos="0">
                      <a:srgbClr val="da8fef"/>
                    </a:gs>
                    <a:gs pos="50000">
                      <a:srgbClr val="ffffff"/>
                    </a:gs>
                    <a:gs pos="100000">
                      <a:srgbClr val="da8fef"/>
                    </a:gs>
                  </a:gsLst>
                  <a:lin ang="108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5400000">
                  <a:off x="2336760" y="4783680"/>
                  <a:ext cx="175320" cy="34956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cd97ef"/>
                    </a:gs>
                    <a:gs pos="50000">
                      <a:srgbClr val="ffffff"/>
                    </a:gs>
                    <a:gs pos="100000">
                      <a:srgbClr val="cd97ef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900080" y="2939040"/>
                  <a:ext cx="262080" cy="351360"/>
                </a:xfrm>
                <a:prstGeom prst="can">
                  <a:avLst>
                    <a:gd name="adj" fmla="val 24481"/>
                  </a:avLst>
                </a:prstGeom>
                <a:gradFill rotWithShape="0">
                  <a:gsLst>
                    <a:gs pos="0">
                      <a:srgbClr val="fbb5f4"/>
                    </a:gs>
                    <a:gs pos="50000">
                      <a:srgbClr val="ffffff"/>
                    </a:gs>
                    <a:gs pos="100000">
                      <a:srgbClr val="fbb5f4"/>
                    </a:gs>
                  </a:gsLst>
                  <a:lin ang="10800000"/>
                </a:gra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762120" y="29718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120" y="54291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3480" y="5254560"/>
              <a:ext cx="307800" cy="30744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2040" y="39304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 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7160" y="5895720"/>
              <a:ext cx="20732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Udar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T = 300 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 = 30 ps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= 100 ft/de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84360" y="2009880"/>
              <a:ext cx="20732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Udar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T = 0 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 = 15 ps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=  ?   ft/de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55640" y="4572000"/>
              <a:ext cx="11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endin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495680" y="3124080"/>
                <a:ext cx="36576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,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Btu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b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4248720" y="2494080"/>
            <a:ext cx="394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ketahu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ju alir massa udara (w) = 200 lb/j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01440" y="310356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3-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87240" y="4322880"/>
            <a:ext cx="234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ums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aliran turbulen, d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gas id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03080" y="5346720"/>
            <a:ext cx="3443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tany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kecepatan udara keluar HE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Laju pemindahan panas,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197000" y="1346040"/>
                <a:ext cx="7816680" cy="497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rac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erg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kroskopi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ead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at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ntuk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as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s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 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ird</m:t>
                                        </m:r>
                                      </m:e>
                                    </m:d>
                                  </m:e>
                                </m:d>
                                <m:r>
                                  <m:t xml:space="preserve">→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tau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</m:nary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M</m:t>
                                    </m:r>
                                  </m:den>
                                </m:f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ri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eraca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ssa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kroskopik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: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M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219320" y="5410080"/>
            <a:ext cx="563868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49920" y="59364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wab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85800" y="2057400"/>
                <a:ext cx="800100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9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,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8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76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8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78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78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gc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3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28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lb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↑</m:t>
                        </m:r>
                        <m:r>
                          <m:t xml:space="preserve"> </m:t>
                        </m:r>
                        <m:r>
                          <m:t xml:space="preserve">↑</m:t>
                        </m:r>
                        <m:r>
                          <m:t xml:space="preserve"> </m:t>
                        </m:r>
                        <m:r>
                          <m:t xml:space="preserve">↑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talp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erg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ergi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neti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tensial</m:t>
                        </m:r>
                      </m:e>
                      <m:e/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j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minda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na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jam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t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t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jam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90720" y="604800"/>
                <a:ext cx="45720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939680" y="176040"/>
            <a:ext cx="506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likasi Neraca Makroskopi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a Sistem Unsteady-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4600" y="1325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Contoh 15.5-1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. Pemanasan air pd tang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17960" y="1905120"/>
            <a:ext cx="3620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Diketahu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Volum tangki (Vo) = 1000 cu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Coil: pipa dg OD=1” yg disus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lingkar sebanyak 10 bu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g diameter 4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Uo = 100 Btu/(j.f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Pada saat t=0, tangki kos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1905120"/>
            <a:ext cx="3441960" cy="4452120"/>
            <a:chOff x="838080" y="1905120"/>
            <a:chExt cx="3441960" cy="4452120"/>
          </a:xfrm>
        </p:grpSpPr>
        <p:sp>
          <p:nvSpPr>
            <p:cNvPr id="151" name=""/>
            <p:cNvSpPr/>
            <p:nvPr/>
          </p:nvSpPr>
          <p:spPr>
            <a:xfrm>
              <a:off x="838080" y="3662280"/>
              <a:ext cx="1905120" cy="203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828800" y="2744640"/>
              <a:ext cx="685440" cy="3225600"/>
              <a:chOff x="1828800" y="2744640"/>
              <a:chExt cx="685440" cy="322560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1828800" y="3169080"/>
                <a:ext cx="685440" cy="2376360"/>
                <a:chOff x="1828800" y="3169080"/>
                <a:chExt cx="685440" cy="237636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1828800" y="3466080"/>
                  <a:ext cx="685440" cy="296640"/>
                  <a:chOff x="1828800" y="3466080"/>
                  <a:chExt cx="685440" cy="29664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10800000">
                    <a:off x="2140560" y="346608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 rot="10800000">
                    <a:off x="1828800" y="361440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1828800" y="4060440"/>
                  <a:ext cx="685440" cy="296640"/>
                  <a:chOff x="1828800" y="4060440"/>
                  <a:chExt cx="685440" cy="2966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10800000">
                    <a:off x="2140560" y="406044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10800000">
                    <a:off x="1828800" y="420876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1828800" y="3763080"/>
                  <a:ext cx="685440" cy="296640"/>
                  <a:chOff x="1828800" y="3763080"/>
                  <a:chExt cx="685440" cy="2966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rot="10800000">
                    <a:off x="2140560" y="376308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10800000">
                    <a:off x="1828800" y="391140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1828800" y="4357440"/>
                  <a:ext cx="685440" cy="296640"/>
                  <a:chOff x="1828800" y="4357440"/>
                  <a:chExt cx="685440" cy="29664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rot="10800000">
                    <a:off x="2140560" y="435744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10800000">
                    <a:off x="1828800" y="450576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1828800" y="3169080"/>
                  <a:ext cx="685440" cy="296640"/>
                  <a:chOff x="1828800" y="3169080"/>
                  <a:chExt cx="685440" cy="29664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rot="10800000">
                    <a:off x="2140560" y="316908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10800000">
                    <a:off x="1828800" y="331740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828800" y="4654440"/>
                  <a:ext cx="685440" cy="296640"/>
                  <a:chOff x="1828800" y="4654440"/>
                  <a:chExt cx="685440" cy="2966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10800000">
                    <a:off x="2140560" y="465444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10800000">
                    <a:off x="1828800" y="480276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1828800" y="4951800"/>
                  <a:ext cx="685440" cy="296640"/>
                  <a:chOff x="1828800" y="4951800"/>
                  <a:chExt cx="685440" cy="2966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10800000">
                    <a:off x="2140560" y="495180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10800000">
                    <a:off x="1828800" y="510012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1828800" y="5248800"/>
                  <a:ext cx="685440" cy="296640"/>
                  <a:chOff x="1828800" y="5248800"/>
                  <a:chExt cx="685440" cy="2966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rot="10800000">
                    <a:off x="2140560" y="524880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10800000">
                    <a:off x="1828800" y="5397120"/>
                    <a:ext cx="373680" cy="148320"/>
                  </a:xfrm>
                  <a:custGeom>
                    <a:avLst/>
                    <a:gdLst>
                      <a:gd name="textAreaLeft" fmla="*/ 109800 w 373680"/>
                      <a:gd name="textAreaRight" fmla="*/ 374040 w 373680"/>
                      <a:gd name="textAreaTop" fmla="*/ 26280 h 148320"/>
                      <a:gd name="textAreaBottom" fmla="*/ 122040 h 148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0800" y="0"/>
                          <a:pt x="0" y="3825"/>
                          <a:pt x="0" y="7650"/>
                        </a:cubicBezTo>
                        <a:lnTo>
                          <a:pt x="0" y="13950"/>
                        </a:lnTo>
                        <a:cubicBezTo>
                          <a:pt x="0" y="17775"/>
                          <a:pt x="10800" y="21600"/>
                          <a:pt x="21600" y="21600"/>
                        </a:cubicBezTo>
                      </a:path>
                    </a:pathLst>
                  </a:custGeom>
                  <a:noFill/>
                  <a:ln w="63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8" name=""/>
              <p:cNvSpPr/>
              <p:nvPr/>
            </p:nvSpPr>
            <p:spPr>
              <a:xfrm>
                <a:off x="1828800" y="2744640"/>
                <a:ext cx="304560" cy="441360"/>
              </a:xfrm>
              <a:custGeom>
                <a:avLst/>
                <a:gdLst/>
                <a:ahLst/>
                <a:rect l="l" t="t" r="r" b="b"/>
                <a:pathLst>
                  <a:path w="200" h="312">
                    <a:moveTo>
                      <a:pt x="200" y="288"/>
                    </a:moveTo>
                    <a:cubicBezTo>
                      <a:pt x="144" y="300"/>
                      <a:pt x="88" y="312"/>
                      <a:pt x="56" y="288"/>
                    </a:cubicBezTo>
                    <a:cubicBezTo>
                      <a:pt x="24" y="264"/>
                      <a:pt x="16" y="192"/>
                      <a:pt x="8" y="144"/>
                    </a:cubicBezTo>
                    <a:cubicBezTo>
                      <a:pt x="0" y="96"/>
                      <a:pt x="24" y="48"/>
                      <a:pt x="8" y="0"/>
                    </a:cubicBezTo>
                  </a:path>
                </a:pathLst>
              </a:custGeom>
              <a:noFill/>
              <a:ln w="63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2170800" y="5528880"/>
                <a:ext cx="304920" cy="441360"/>
              </a:xfrm>
              <a:custGeom>
                <a:avLst/>
                <a:gdLst/>
                <a:ahLst/>
                <a:rect l="l" t="t" r="r" b="b"/>
                <a:pathLst>
                  <a:path w="200" h="312">
                    <a:moveTo>
                      <a:pt x="200" y="288"/>
                    </a:moveTo>
                    <a:cubicBezTo>
                      <a:pt x="144" y="300"/>
                      <a:pt x="88" y="312"/>
                      <a:pt x="56" y="288"/>
                    </a:cubicBezTo>
                    <a:cubicBezTo>
                      <a:pt x="24" y="264"/>
                      <a:pt x="16" y="192"/>
                      <a:pt x="8" y="144"/>
                    </a:cubicBezTo>
                    <a:cubicBezTo>
                      <a:pt x="0" y="96"/>
                      <a:pt x="24" y="48"/>
                      <a:pt x="8" y="0"/>
                    </a:cubicBezTo>
                  </a:path>
                </a:pathLst>
              </a:custGeom>
              <a:noFill/>
              <a:ln w="63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 flipV="1">
              <a:off x="838080" y="2642760"/>
              <a:ext cx="0" cy="10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43200" y="2642760"/>
              <a:ext cx="0" cy="10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90720" y="2506680"/>
              <a:ext cx="609480" cy="2241000"/>
              <a:chOff x="990720" y="2506680"/>
              <a:chExt cx="609480" cy="2241000"/>
            </a:xfrm>
          </p:grpSpPr>
          <p:sp>
            <p:nvSpPr>
              <p:cNvPr id="183" name=""/>
              <p:cNvSpPr/>
              <p:nvPr/>
            </p:nvSpPr>
            <p:spPr>
              <a:xfrm>
                <a:off x="990720" y="4579920"/>
                <a:ext cx="609480" cy="167760"/>
              </a:xfrm>
              <a:custGeom>
                <a:avLst/>
                <a:gdLst/>
                <a:ahLst/>
                <a:rect l="l" t="t" r="r" b="b"/>
                <a:pathLst>
                  <a:path w="1504" h="224">
                    <a:moveTo>
                      <a:pt x="144" y="24"/>
                    </a:moveTo>
                    <a:cubicBezTo>
                      <a:pt x="0" y="24"/>
                      <a:pt x="368" y="208"/>
                      <a:pt x="480" y="216"/>
                    </a:cubicBezTo>
                    <a:cubicBezTo>
                      <a:pt x="592" y="224"/>
                      <a:pt x="704" y="104"/>
                      <a:pt x="816" y="72"/>
                    </a:cubicBezTo>
                    <a:cubicBezTo>
                      <a:pt x="928" y="40"/>
                      <a:pt x="1064" y="0"/>
                      <a:pt x="1152" y="24"/>
                    </a:cubicBezTo>
                    <a:cubicBezTo>
                      <a:pt x="1240" y="48"/>
                      <a:pt x="1504" y="216"/>
                      <a:pt x="1344" y="216"/>
                    </a:cubicBezTo>
                    <a:cubicBezTo>
                      <a:pt x="1184" y="216"/>
                      <a:pt x="288" y="24"/>
                      <a:pt x="144" y="24"/>
                    </a:cubicBezTo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61440" y="2506680"/>
                <a:ext cx="67320" cy="2185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066680" y="2440080"/>
              <a:ext cx="482760" cy="203040"/>
            </a:xfrm>
            <a:custGeom>
              <a:avLst/>
              <a:gdLst/>
              <a:ahLst/>
              <a:rect l="l" t="t" r="r" b="b"/>
              <a:pathLst>
                <a:path w="640" h="520">
                  <a:moveTo>
                    <a:pt x="0" y="256"/>
                  </a:moveTo>
                  <a:cubicBezTo>
                    <a:pt x="48" y="364"/>
                    <a:pt x="96" y="472"/>
                    <a:pt x="192" y="496"/>
                  </a:cubicBezTo>
                  <a:cubicBezTo>
                    <a:pt x="288" y="520"/>
                    <a:pt x="512" y="456"/>
                    <a:pt x="576" y="400"/>
                  </a:cubicBezTo>
                  <a:cubicBezTo>
                    <a:pt x="640" y="344"/>
                    <a:pt x="600" y="224"/>
                    <a:pt x="576" y="160"/>
                  </a:cubicBezTo>
                  <a:cubicBezTo>
                    <a:pt x="552" y="96"/>
                    <a:pt x="504" y="32"/>
                    <a:pt x="432" y="16"/>
                  </a:cubicBezTo>
                  <a:cubicBezTo>
                    <a:pt x="360" y="0"/>
                    <a:pt x="200" y="48"/>
                    <a:pt x="144" y="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2362320" y="2371680"/>
              <a:ext cx="914400" cy="407520"/>
              <a:chOff x="2362320" y="2371680"/>
              <a:chExt cx="914400" cy="407520"/>
            </a:xfrm>
          </p:grpSpPr>
          <p:sp>
            <p:nvSpPr>
              <p:cNvPr id="187" name=""/>
              <p:cNvSpPr/>
              <p:nvPr/>
            </p:nvSpPr>
            <p:spPr>
              <a:xfrm>
                <a:off x="2362320" y="2371680"/>
                <a:ext cx="397440" cy="27180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12160" stAng="10800000" swAng="5400000"/>
                    <a:lnTo>
                      <a:pt x="21600" y="0"/>
                    </a:lnTo>
                    <a:lnTo>
                      <a:pt x="21600" y="0"/>
                    </a:lnTo>
                    <a:lnTo>
                      <a:pt x="21600" y="6079"/>
                    </a:lnTo>
                    <a:lnTo>
                      <a:pt x="21600" y="12158"/>
                    </a:lnTo>
                    <a:lnTo>
                      <a:pt x="21600" y="12158"/>
                    </a:lnTo>
                    <a:lnTo>
                      <a:pt x="12427" y="12158"/>
                    </a:lnTo>
                    <a:arcTo wR="269" hR="2" stAng="16200000" swAng="-5400000"/>
                    <a:lnTo>
                      <a:pt x="12158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82120" y="2643480"/>
                <a:ext cx="188640" cy="13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6200000">
                <a:off x="2950200" y="2187720"/>
                <a:ext cx="136080" cy="51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 flipH="1">
              <a:off x="2209680" y="2846520"/>
              <a:ext cx="152640" cy="20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361960" y="2779560"/>
              <a:ext cx="75960" cy="3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4600" y="2779560"/>
              <a:ext cx="76320" cy="3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52040" y="2779560"/>
              <a:ext cx="152280" cy="27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58760" y="2286000"/>
              <a:ext cx="14212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=20 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=20 lb/m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80960" y="1905120"/>
              <a:ext cx="105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=105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8800" y="24382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85320" y="6019920"/>
              <a:ext cx="12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Kondens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90920" y="587376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28800" y="5943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25720" y="5676840"/>
              <a:ext cx="33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381480" y="3733920"/>
            <a:ext cx="52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Pertanyaa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). Berapa T air dlm tangki saat tangki penuh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). Berapa waktu yg diperlukan untuk memanask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ir hingga 8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, jika pada saat tangki penu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iran air masuk dihentik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41240" y="5181480"/>
            <a:ext cx="5074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sum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a). Ts dlm coil kons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).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an Cp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f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). Incompressibl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p=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). Pengadukan sempurn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 uni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). Koefisien perpindahan pana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f(posisi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). Dinding tangki adiabati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09680" y="1960560"/>
                <a:ext cx="8402400" cy="474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ika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iambil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bg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eference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ρ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ρ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u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r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iperoleh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 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313280" y="822240"/>
            <a:ext cx="328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waban pertanyaan (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903240" y="228600"/>
                <a:ext cx="8099640" cy="35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ρ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ndi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t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wal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nyatak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l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iab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rdimensi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duced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iable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τ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ρ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92080" y="3914640"/>
                <a:ext cx="7969320" cy="24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k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p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tulis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w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t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au</m:t>
                        </m:r>
                      </m:e>
                      <m:e>
                        <m:r>
                          <m:t xml:space="preserve">Nτ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311120" y="228600"/>
                <a:ext cx="738684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p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tulis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t xml:space="preserve">dη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ngan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42840" y="2246400"/>
                <a:ext cx="7667640" cy="449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nyelesai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</m:e>
                            </m:d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Li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rd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etik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gk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nuh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τ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p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tulis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w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w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07:31:12Z</dcterms:created>
  <dc:creator>Ir. Slamet, MT.</dc:creator>
  <dc:description/>
  <dc:language>en-US</dc:language>
  <cp:lastModifiedBy>Bismillah</cp:lastModifiedBy>
  <dcterms:modified xsi:type="dcterms:W3CDTF">2004-03-29T16:46:33Z</dcterms:modified>
  <cp:revision>18</cp:revision>
  <dc:subject/>
  <dc:title>PowerPoint Presentation</dc:title>
</cp:coreProperties>
</file>