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4AC-B327-41C7-8057-D73B4A4D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C8C-C94D-4690-854A-DC0313C6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681-A38E-4AD6-8C98-567CEF9B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E0C-30B1-4AB3-AB66-0190DCC2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C8AA-708A-4EF8-85A5-4A8D986A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FEC7-B5A3-4868-97B4-2110E7FE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FB68-A6A6-48DC-B1C1-D30F08C0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5771-40AA-4794-8491-06A782CC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DAA5-B64F-4C1B-93EE-233F3ED3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30E7-D4BB-4A0A-AA20-458A4048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46ED-1F88-4DF0-BBC5-FA19B421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176-74A3-4EBF-82EB-1F7428FC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2C99-F11A-45A2-82E9-A1DDAFC2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EA9C-7904-4E6F-871A-37108254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494A-9491-4EB8-9E74-14967D94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D337-B705-414D-BA37-53A70323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B7AC-2083-473E-BEE4-197D5E0C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47F5-CA33-41E2-8509-2ABC267E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8211-A398-4FBF-8DBB-8663A6FC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FDE-77E1-4DDD-878F-F02A6D04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8A8-1113-46A4-A4DD-70CD94BF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D2D8-F28A-49A9-A1C4-C2F53B63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D90-F7E0-4CC6-A60C-62E2D9D9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DA7-5F7E-4A9D-98D5-09B6F29F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FB10-96F9-420B-9B1A-B873D5F0C3F2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7957-DF1A-465C-A10C-1603CAA44739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5cf4"/>
                </a:solidFill>
                <a:latin typeface="Tempus Sans ITC"/>
              </a:rPr>
              <a:t>Ch. 12. NERACA MOMENTUM MAKROSKOPIK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990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Sistem aliran Flui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320" y="1676520"/>
          <a:ext cx="5987880" cy="50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676520"/>
                    <a:ext cx="59878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5378400" y="3749760"/>
            <a:ext cx="380880" cy="22860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49200" y="5121360"/>
            <a:ext cx="38088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1880" y="63244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1909-6232-4E6A-8E95-4313F50162F6}" type="slidenum"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0" y="2209680"/>
            <a:ext cx="304812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40458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, 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: Luas penampang (tegak lurus pipa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40458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Asumsi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.  Pada tititk “1” dan “2”,  &lt;v&gt; paralel terhadap dinding pip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2.  Pada tititk “1” dan “2”,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ρ dan </a:t>
            </a:r>
            <a:r>
              <a:rPr b="0" i="1" lang="en-US" sz="1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hysical properties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lain tidak bervariasi sepanjang penampang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(≠  f(r)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502160" y="3282840"/>
                <a:ext cx="139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200240" y="1644480"/>
                <a:ext cx="6648480" cy="422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3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3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ft/deti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mengindikasikan kerja perunit massa yang dilakukan fluida dalam pomp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adi, Kerja yang dilakukan oleh pompa  adalah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83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ft/deti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8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b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b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bm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bf</m:t>
                        </m:r>
                        <m:r>
                          <m:rPr>
                            <m:lit/>
                            <m:nor/>
                          </m:rPr>
                          <m:t xml:space="preserve">/det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h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riction loss 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3 ft/de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30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8381880" y="6400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86BE-AB8A-4AA9-BC30-E084C649E380}" type="slidenum"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57200" y="228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Soal 7 F</a:t>
            </a: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 Perhitungan Laju alir dalam rangkaian pip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35956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Dari persamaan 7.4-10 Bird (pers Bernoully) diperoleh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05920" y="6248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C5B0-D93B-4A98-A4A0-CFE28F97D44D}" type="slidenum"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914400" y="3997440"/>
                <a:ext cx="487692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sSup>
                                      <m:e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au:       </m:t>
                        </m:r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Dρ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f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Dρ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57200" y="52578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Dengan memasukan data-data yang diketahui diperoleh persamaan sebagai berikut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838080" y="5715000"/>
                <a:ext cx="3060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457200" y="60199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Persamaan tersebut dapat diselesaikan dengan </a:t>
            </a:r>
            <a:r>
              <a:rPr b="0" i="1" lang="en-US" sz="1800" spc="-1" strike="noStrike">
                <a:solidFill>
                  <a:srgbClr val="40458c"/>
                </a:solidFill>
                <a:latin typeface="Times New Roman"/>
              </a:rPr>
              <a:t>trial and erro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15000" y="609480"/>
            <a:ext cx="33526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Diketahui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40458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= 6,72 x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imes New Roman"/>
              </a:rPr>
              <a:t>-4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lbm/ft.de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40458c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= 62,4 lbm/ft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D        = 5/12 f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L         = 27 + 11 + 14 = 52 f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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(e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)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= 0,05+ 0,45+ 2(0,7) = 1,9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H + h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= 12 + 27 + 14 = 53 f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685800"/>
            <a:ext cx="0" cy="5335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3000" y="1219320"/>
            <a:ext cx="1143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0" y="685800"/>
            <a:ext cx="0" cy="5335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28800" y="1219320"/>
            <a:ext cx="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76520" y="121932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81080" y="2057400"/>
            <a:ext cx="1371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828800" y="2209680"/>
            <a:ext cx="1371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220968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28800" y="1905120"/>
            <a:ext cx="15228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0"/>
                </a:moveTo>
                <a:lnTo>
                  <a:pt x="12" y="72"/>
                </a:lnTo>
                <a:lnTo>
                  <a:pt x="96" y="96"/>
                </a:lnTo>
              </a:path>
            </a:pathLst>
          </a:custGeom>
          <a:noFill/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76520" y="2057400"/>
            <a:ext cx="15228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0"/>
                </a:moveTo>
                <a:lnTo>
                  <a:pt x="12" y="72"/>
                </a:lnTo>
                <a:lnTo>
                  <a:pt x="96" y="96"/>
                </a:lnTo>
              </a:path>
            </a:pathLst>
          </a:custGeom>
          <a:noFill/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76520" y="1981080"/>
            <a:ext cx="1522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05120" y="205740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00400" y="2209680"/>
            <a:ext cx="152280" cy="15264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0"/>
                </a:moveTo>
                <a:lnTo>
                  <a:pt x="72" y="24"/>
                </a:lnTo>
                <a:lnTo>
                  <a:pt x="96" y="96"/>
                </a:lnTo>
              </a:path>
            </a:pathLst>
          </a:custGeom>
          <a:noFill/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52680" y="2057400"/>
            <a:ext cx="15264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0"/>
                </a:moveTo>
                <a:lnTo>
                  <a:pt x="72" y="24"/>
                </a:lnTo>
                <a:lnTo>
                  <a:pt x="96" y="96"/>
                </a:lnTo>
              </a:path>
            </a:pathLst>
          </a:custGeom>
          <a:noFill/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200400" y="205704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52680" y="2362320"/>
            <a:ext cx="1526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895480" y="2819520"/>
            <a:ext cx="1143000" cy="609480"/>
            <a:chOff x="2895480" y="2819520"/>
            <a:chExt cx="1143000" cy="609480"/>
          </a:xfrm>
        </p:grpSpPr>
        <p:sp>
          <p:nvSpPr>
            <p:cNvPr id="407" name=""/>
            <p:cNvSpPr/>
            <p:nvPr/>
          </p:nvSpPr>
          <p:spPr>
            <a:xfrm>
              <a:off x="2895480" y="2819520"/>
              <a:ext cx="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95480" y="3429000"/>
              <a:ext cx="11430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38480" y="2819520"/>
              <a:ext cx="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95480" y="3048120"/>
              <a:ext cx="1143000" cy="0"/>
            </a:xfrm>
            <a:prstGeom prst="line">
              <a:avLst/>
            </a:prstGeom>
            <a:ln w="936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1143000" y="762120"/>
            <a:ext cx="1143000" cy="0"/>
          </a:xfrm>
          <a:prstGeom prst="line">
            <a:avLst/>
          </a:prstGeom>
          <a:ln w="93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3880" y="1295280"/>
            <a:ext cx="0" cy="3812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14600" y="762120"/>
            <a:ext cx="0" cy="4572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90920" y="838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H = 12’ (konstan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1080" y="1219320"/>
            <a:ext cx="0" cy="9144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81080" y="1447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27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52480" y="2362320"/>
            <a:ext cx="167652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3720" y="2362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1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2590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 pipa = 5”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57600" y="2133720"/>
            <a:ext cx="0" cy="6858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76720" y="2133720"/>
            <a:ext cx="533160" cy="0"/>
          </a:xfrm>
          <a:prstGeom prst="line">
            <a:avLst/>
          </a:prstGeom>
          <a:ln cap="rnd" w="9360">
            <a:solidFill>
              <a:srgbClr val="40458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752480" y="2209680"/>
            <a:ext cx="0" cy="228600"/>
          </a:xfrm>
          <a:prstGeom prst="line">
            <a:avLst/>
          </a:prstGeom>
          <a:ln cap="rnd" w="9360">
            <a:solidFill>
              <a:srgbClr val="40458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762120"/>
            <a:ext cx="304920" cy="0"/>
          </a:xfrm>
          <a:prstGeom prst="line">
            <a:avLst/>
          </a:prstGeom>
          <a:ln cap="rnd" w="9360">
            <a:solidFill>
              <a:srgbClr val="40458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0" y="1219320"/>
            <a:ext cx="304920" cy="0"/>
          </a:xfrm>
          <a:prstGeom prst="line">
            <a:avLst/>
          </a:prstGeom>
          <a:ln cap="rnd" w="9360">
            <a:solidFill>
              <a:srgbClr val="40458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5760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4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2362320"/>
            <a:ext cx="152640" cy="457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200040" y="2895480"/>
            <a:ext cx="152280" cy="76320"/>
          </a:xfrm>
          <a:prstGeom prst="line">
            <a:avLst/>
          </a:prstGeom>
          <a:ln w="93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2895480"/>
            <a:ext cx="152280" cy="76320"/>
          </a:xfrm>
          <a:prstGeom prst="line">
            <a:avLst/>
          </a:prstGeom>
          <a:ln w="93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29000" y="289548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19320" y="914400"/>
            <a:ext cx="1066680" cy="0"/>
          </a:xfrm>
          <a:prstGeom prst="line">
            <a:avLst/>
          </a:prstGeom>
          <a:ln w="9360">
            <a:solidFill>
              <a:srgbClr val="40458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68560" y="1066680"/>
            <a:ext cx="1066680" cy="0"/>
          </a:xfrm>
          <a:prstGeom prst="line">
            <a:avLst/>
          </a:prstGeom>
          <a:ln w="9360">
            <a:solidFill>
              <a:srgbClr val="40458c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21040" y="3200400"/>
            <a:ext cx="1066680" cy="0"/>
          </a:xfrm>
          <a:prstGeom prst="line">
            <a:avLst/>
          </a:prstGeom>
          <a:ln w="9360">
            <a:solidFill>
              <a:srgbClr val="40458c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08440" y="3327480"/>
            <a:ext cx="1066680" cy="0"/>
          </a:xfrm>
          <a:prstGeom prst="line">
            <a:avLst/>
          </a:prstGeom>
          <a:ln w="9360">
            <a:solidFill>
              <a:srgbClr val="40458c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8610480" y="65214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58E4-884E-412B-9CEC-6CBB32190B5B}" type="slidenum"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990720" y="304920"/>
            <a:ext cx="7390800" cy="1706400"/>
            <a:chOff x="990720" y="304920"/>
            <a:chExt cx="7390800" cy="1706400"/>
          </a:xfrm>
        </p:grpSpPr>
        <p:sp>
          <p:nvSpPr>
            <p:cNvPr id="436" name=""/>
            <p:cNvSpPr/>
            <p:nvPr/>
          </p:nvSpPr>
          <p:spPr>
            <a:xfrm>
              <a:off x="5782680" y="916920"/>
              <a:ext cx="259884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2.5 x 10</a:t>
              </a:r>
              <a:r>
                <a:rPr b="0" lang="en-US" sz="1800" spc="-1" strike="noStrike" baseline="30000">
                  <a:solidFill>
                    <a:srgbClr val="40458c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0.67 x 10</a:t>
              </a:r>
              <a:r>
                <a:rPr b="0" lang="en-US" sz="1800" spc="-1" strike="noStrike" baseline="30000">
                  <a:solidFill>
                    <a:srgbClr val="40458c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1.47 x 10</a:t>
              </a:r>
              <a:r>
                <a:rPr b="0" lang="en-US" sz="1800" spc="-1" strike="noStrike" baseline="30000">
                  <a:solidFill>
                    <a:srgbClr val="40458c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58360" y="916920"/>
              <a:ext cx="162432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1 x 10</a:t>
              </a:r>
              <a:r>
                <a:rPr b="0" lang="en-US" sz="1800" spc="-1" strike="noStrike" baseline="30000">
                  <a:solidFill>
                    <a:srgbClr val="40458c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0.29 x 10</a:t>
              </a:r>
              <a:r>
                <a:rPr b="0" lang="en-US" sz="1800" spc="-1" strike="noStrike" baseline="30000">
                  <a:solidFill>
                    <a:srgbClr val="40458c"/>
                  </a:solidFill>
                  <a:latin typeface="Tahoma"/>
                </a:rPr>
                <a:t>10</a:t>
              </a:r>
              <a:br>
                <a:rPr sz="1800"/>
              </a:b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0.61 x 10</a:t>
              </a:r>
              <a:r>
                <a:rPr b="0" lang="en-US" sz="1800" spc="-1" strike="noStrike" baseline="30000">
                  <a:solidFill>
                    <a:srgbClr val="40458c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33680" y="916920"/>
              <a:ext cx="162468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0.0025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0.0029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0.0027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990720" y="916920"/>
              <a:ext cx="154296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2 x 10</a:t>
              </a:r>
              <a:r>
                <a:rPr b="0" lang="en-US" sz="1800" spc="-1" strike="noStrike" baseline="30000">
                  <a:solidFill>
                    <a:srgbClr val="40458c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1 x 10</a:t>
              </a:r>
              <a:r>
                <a:rPr b="0" lang="en-US" sz="1800" spc="-1" strike="noStrike" baseline="30000">
                  <a:solidFill>
                    <a:srgbClr val="40458c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1.5 x 10</a:t>
              </a:r>
              <a:r>
                <a:rPr b="0" lang="en-US" sz="1800" spc="-1" strike="noStrike" baseline="30000">
                  <a:solidFill>
                    <a:srgbClr val="40458c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82680" y="304920"/>
              <a:ext cx="2598840" cy="612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(Re</a:t>
              </a:r>
              <a:r>
                <a:rPr b="1" lang="en-US" sz="1800" spc="-1" strike="noStrike" baseline="30000">
                  <a:solidFill>
                    <a:srgbClr val="40458c"/>
                  </a:solidFill>
                  <a:latin typeface="Tahoma"/>
                </a:rPr>
                <a:t>2</a:t>
              </a: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f + 3.8x10</a:t>
              </a:r>
              <a:r>
                <a:rPr b="1" lang="en-US" sz="1800" spc="-1" strike="noStrike" baseline="30000">
                  <a:solidFill>
                    <a:srgbClr val="40458c"/>
                  </a:solidFill>
                  <a:latin typeface="Tahoma"/>
                </a:rPr>
                <a:t>-3 </a:t>
              </a: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Re</a:t>
              </a:r>
              <a:r>
                <a:rPr b="1" lang="en-US" sz="1800" spc="-1" strike="noStrike" baseline="30000">
                  <a:solidFill>
                    <a:srgbClr val="40458c"/>
                  </a:solidFill>
                  <a:latin typeface="Tahoma"/>
                </a:rPr>
                <a:t>2</a:t>
              </a: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158360" y="304920"/>
              <a:ext cx="1624320" cy="612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Re</a:t>
              </a:r>
              <a:r>
                <a:rPr b="1" lang="en-US" sz="1800" spc="-1" strike="noStrike" baseline="30000">
                  <a:solidFill>
                    <a:srgbClr val="40458c"/>
                  </a:solidFill>
                  <a:latin typeface="Tahoma"/>
                </a:rPr>
                <a:t>2</a:t>
              </a: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33680" y="304920"/>
              <a:ext cx="1624680" cy="612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90720" y="304920"/>
              <a:ext cx="1542960" cy="612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R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90720" y="304920"/>
              <a:ext cx="7390800" cy="0"/>
            </a:xfrm>
            <a:prstGeom prst="line">
              <a:avLst/>
            </a:prstGeom>
            <a:ln cap="sq"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90720" y="916920"/>
              <a:ext cx="739080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90720" y="2011320"/>
              <a:ext cx="7390800" cy="0"/>
            </a:xfrm>
            <a:prstGeom prst="line">
              <a:avLst/>
            </a:prstGeom>
            <a:ln cap="sq"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90720" y="304920"/>
              <a:ext cx="0" cy="1706400"/>
            </a:xfrm>
            <a:prstGeom prst="line">
              <a:avLst/>
            </a:prstGeom>
            <a:ln cap="sq"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33680" y="304920"/>
              <a:ext cx="0" cy="17064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58360" y="304920"/>
              <a:ext cx="0" cy="17064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82680" y="304920"/>
              <a:ext cx="0" cy="17064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381520" y="304920"/>
              <a:ext cx="0" cy="1706400"/>
            </a:xfrm>
            <a:prstGeom prst="line">
              <a:avLst/>
            </a:prstGeom>
            <a:ln cap="sq"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1066680" y="213372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Dengan melakukan interpolasi diperoleh harga Re = 1.23 x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752480" y="2514600"/>
                <a:ext cx="572796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&gt;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⋅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⋅</m:t>
                            </m:r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 ft/detik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     </m:t>
                        </m:r>
                        <m:r>
                          <m:rPr>
                            <m:lit/>
                            <m:nor/>
                          </m:rPr>
                          <m:t xml:space="preserve">=&lt;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&gt;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49</m:t>
                        </m:r>
                        <m:r>
                          <m:t xml:space="preserve">)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alon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enit</m:t>
                                </m:r>
                              </m:den>
                            </m:f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/de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den>
                        </m:f>
                      </m:e>
                    </m:eqAr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930 galon/meni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"/>
          <p:cNvSpPr/>
          <p:nvPr/>
        </p:nvSpPr>
        <p:spPr>
          <a:xfrm>
            <a:off x="1143000" y="4952880"/>
            <a:ext cx="1523880" cy="1676520"/>
          </a:xfrm>
          <a:prstGeom prst="can">
            <a:avLst>
              <a:gd name="adj" fmla="val 44319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90720" y="41911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Soal 7 C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 Aliran fluida incompressible dalam anulu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23880" y="5181480"/>
            <a:ext cx="7621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86000" y="5334120"/>
            <a:ext cx="0" cy="1066680"/>
          </a:xfrm>
          <a:prstGeom prst="line">
            <a:avLst/>
          </a:prstGeom>
          <a:ln w="9360">
            <a:solidFill>
              <a:srgbClr val="40458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23880" y="5334120"/>
            <a:ext cx="0" cy="1066680"/>
          </a:xfrm>
          <a:prstGeom prst="line">
            <a:avLst/>
          </a:prstGeom>
          <a:ln w="9360">
            <a:solidFill>
              <a:srgbClr val="40458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23880" y="6172200"/>
            <a:ext cx="7621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5334120"/>
            <a:ext cx="0" cy="99036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05120" y="5867280"/>
            <a:ext cx="761760" cy="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28800" y="58672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523520" y="5791320"/>
            <a:ext cx="381240" cy="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038480" y="4648320"/>
                <a:ext cx="39182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&gt;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Qρ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Qρ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μ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350532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(i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05320" y="6019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(ii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8534520" y="6400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0C04-474D-4BAE-A638-22A7B47A8FA9}" type="slidenum"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14400" y="304920"/>
            <a:ext cx="75438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Dari data yang diketahui, maka dapat dihitung harga Re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dan 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Re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= 7.56 x 1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 (aliran turbulen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= 0.0047  (dari figure 6.2-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(iii) Dari persamaan Bernoully (persamaan 7.4-10 Bird) sebagai berikut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447920" y="2352600"/>
                <a:ext cx="5257800" cy="26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ρ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ρQ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ρQ</m:t>
                        </m:r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  <m:r>
                          <m:t xml:space="preserve">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ρQ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ρ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-W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6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470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bm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-W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b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e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  h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1600200" y="5791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PR:     7 B, 7E,  dan 7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429000" y="1828800"/>
            <a:ext cx="763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14400" y="1752480"/>
            <a:ext cx="6095520" cy="1066680"/>
            <a:chOff x="914400" y="1752480"/>
            <a:chExt cx="6095520" cy="1066680"/>
          </a:xfrm>
        </p:grpSpPr>
        <p:sp>
          <p:nvSpPr>
            <p:cNvPr id="217" name=""/>
            <p:cNvSpPr/>
            <p:nvPr/>
          </p:nvSpPr>
          <p:spPr>
            <a:xfrm>
              <a:off x="914400" y="1752480"/>
              <a:ext cx="1599840" cy="10666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24080" y="1752480"/>
              <a:ext cx="1599840" cy="10666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1752480"/>
              <a:ext cx="1599840" cy="10666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42640" y="19047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Laju massa akumulasi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66880" y="1981080"/>
              <a:ext cx="22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76360" y="198108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Laju massa masuk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10080" y="1904760"/>
              <a:ext cx="159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Laju massa     kelua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76560" y="1981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57200" y="4495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066680" y="3232080"/>
                <a:ext cx="5257800" cy="255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Δ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tuk steady state:</m:t>
                        </m:r>
                      </m:e>
                      <m:e>
                        <m:r>
                          <m:t xml:space="preserve">ΔW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8305920" y="64008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E5C9-13B1-44EA-A368-13313FE438EA}" type="slidenum"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990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Neraca massa makroskopi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3200400"/>
            <a:ext cx="5486400" cy="1752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5334120"/>
            <a:ext cx="152424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04360" y="38098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20200" y="5334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914400" y="990720"/>
            <a:ext cx="7620120" cy="1343160"/>
            <a:chOff x="914400" y="990720"/>
            <a:chExt cx="7620120" cy="1343160"/>
          </a:xfrm>
        </p:grpSpPr>
        <p:sp>
          <p:nvSpPr>
            <p:cNvPr id="234" name=""/>
            <p:cNvSpPr/>
            <p:nvPr/>
          </p:nvSpPr>
          <p:spPr>
            <a:xfrm>
              <a:off x="3048120" y="1066680"/>
              <a:ext cx="1447560" cy="114264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14400" y="1066680"/>
              <a:ext cx="1447920" cy="114264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86600" y="990720"/>
              <a:ext cx="1447920" cy="114264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81480" y="990720"/>
              <a:ext cx="1447920" cy="114264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90720" y="114264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Laju momentun akumulasi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90920" y="14475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24280" y="1447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-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89880" y="1371240"/>
              <a:ext cx="24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8120" y="114264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Laju momentum masuk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81480" y="114264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Laju momentum kelua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38880" y="1066680"/>
              <a:ext cx="129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Gaya  yg bekerja pd sistem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990720" y="13716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914400" y="2435400"/>
                <a:ext cx="5715000" cy="16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⟨"/>
                            <m:endChr m:val="⟩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⟨"/>
                            <m:endChr m:val="⟩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ρ</m:t>
                            </m:r>
                            <m:r>
                              <m:t xml:space="preserve">d</m:t>
                            </m:r>
                          </m:e>
                        </m:nary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ρ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d</m:t>
                            </m:r>
                          </m:e>
                        </m:nary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mentum total flui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914400" y="4325760"/>
            <a:ext cx="52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Momentum by viscous transfer 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F </a:t>
            </a:r>
            <a:r>
              <a:rPr b="0" lang="en-US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Gaya fluida pada padatan (pressure + friksi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990720" y="5338800"/>
                <a:ext cx="403848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S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s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</m:d>
                              </m:den>
                            </m:f>
                            <m:r>
                              <m:t xml:space="preserve">W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8381880" y="6400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2046-82A3-4417-9B19-8F1E1A28EE75}" type="slidenum"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3049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Neraca momentum makroskopi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2362320"/>
            <a:ext cx="5943600" cy="761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04360" y="251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04360" y="5867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4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5715000"/>
            <a:ext cx="4800600" cy="1066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066680" y="142920"/>
                <a:ext cx="5334120" cy="28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ad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ate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ka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s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</m:d>
                              </m:den>
                            </m:f>
                            <m:r>
                              <m:t xml:space="preserve">W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  <m:r>
                          <m:t xml:space="preserve">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tuk turbulen : </m:t>
                        </m:r>
                        <m:f>
                          <m:num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den>
                        </m:f>
                        <m:r>
                          <m:t xml:space="preserve">≈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</m:e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harus dicari dg profil kecepata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g pendekata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900000" y="3505320"/>
                <a:ext cx="7634520" cy="33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f>
                                  <m:num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sSup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num>
                                  <m:den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den>
                                </m:f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ρ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Energi Kinetik</m:t>
                        </m:r>
                      </m:e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ρ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φ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Energi Potensial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: Energi beba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lmholtz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-T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W   : Kerja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nergi bebas Gibbs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: Kehilangan karena friks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8381880" y="6400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9538-8196-4AAE-9283-2A7ACC5713FF}" type="slidenum"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04360" y="10666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5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762120"/>
            <a:ext cx="380988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30481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Neraca energi mekanik makroskopi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720200" y="38098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6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3505320"/>
            <a:ext cx="5943600" cy="99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219320" y="371520"/>
                <a:ext cx="6781680" cy="62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da kondis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eady state</m:t>
                            </m:r>
                            <m:r>
                              <m:t xml:space="preserve">→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≃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</m:e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arena: 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, dan </m:t>
                            </m:r>
                            <m:r>
                              <m:t xml:space="preserve">u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k sistem isotermal </m:t>
                            </m:r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Δ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p2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ρ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</m:nary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ka diperoleh persamaan Bernoulli berikut:</m:t>
                            </m:r>
                          </m:e>
                          <m:e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f>
                              <m:num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s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</m:d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φ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p2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ρ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g: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</m:eqArr>
                        <m:r>
                          <m:t xml:space="preserve">=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w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,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w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, dan    </m:t>
                    </m:r>
                    <m:r>
                      <m:t xml:space="preserve">Δ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φ</m:t>
                        </m:r>
                      </m:e>
                    </m:acc>
                    <m:r>
                      <m:t xml:space="preserve">=</m:t>
                    </m:r>
                    <m:r>
                      <m:t xml:space="preserve">gΔh</m:t>
                    </m:r>
                    <m:r>
                      <m:t xml:space="preserve">⊗</m:t>
                    </m:r>
                    <m:r>
                      <m:rPr>
                        <m:lit/>
                        <m:nor/>
                      </m:rPr>
                      <m:t xml:space="preserve">Untuk gas ideal isotermal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mpressible fluid</m:t>
                    </m:r>
                    <m:r>
                      <m:t xml:space="preserve">)</m:t>
                    </m:r>
                    <m:r>
                      <m:t xml:space="preserve">: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p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2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p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2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p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⊗</m:t>
                    </m:r>
                    <m:r>
                      <m:rPr>
                        <m:lit/>
                        <m:nor/>
                      </m:rPr>
                      <m:t xml:space="preserve">Untuk incompressible fluid: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p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2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8305920" y="6324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FCB4-E067-4C6D-B6FB-A0439EF5C957}" type="slidenum"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16960" y="26668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1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2362320"/>
            <a:ext cx="464832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88000" y="457200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12.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75400" y="579132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12.b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66680" y="136440"/>
                <a:ext cx="5075280" cy="22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:</m:t>
                                </m:r>
                                <m:r>
                                  <m:t xml:space="preserve">∇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e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r>
                              <m:t xml:space="preserve">μ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e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g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w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dan  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aktor kehilangan friks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914400" y="30160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Untuk saluran (conduit) sembarang dengan aliran  steady state dan 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konstan, mempunyai penampang S dan panjang L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886200" y="25146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993600" y="3657600"/>
                <a:ext cx="6931080" cy="29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mentum </m:t>
                        </m:r>
                        <m:r>
                          <m:rPr>
                            <m:lit/>
                            <m:nor/>
                          </m:rPr>
                          <m:t xml:space="preserve">: F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ρ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nergi mekanik</m:t>
                        </m:r>
                        <m:r>
                          <m:t xml:space="preserve">: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ik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iranny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bule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  <m:r>
                          <m:t xml:space="preserve">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ri 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an 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e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8534520" y="62485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0285-179E-4DFB-816C-FBA4B689C402}" type="slidenum"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82120" y="1143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8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143000"/>
            <a:ext cx="198108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2514600"/>
            <a:ext cx="670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Hubungan antara       , f dan e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5867280"/>
            <a:ext cx="144756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5105520"/>
            <a:ext cx="182880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35600" y="601992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10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82120" y="5105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9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3809880"/>
            <a:ext cx="380880" cy="990720"/>
          </a:xfrm>
          <a:custGeom>
            <a:avLst/>
            <a:gdLst>
              <a:gd name="textAreaLeft" fmla="*/ 0 w 380880"/>
              <a:gd name="textAreaRight" fmla="*/ 137520 w 3808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066680" y="1447920"/>
                <a:ext cx="670572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gΔh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2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ρ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Δ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gΔh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2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ρ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sSup>
                                      <m:e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f>
                                      <m:num>
                                        <m:r>
                                          <m:t xml:space="preserve">L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h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sSup>
                                      <m:e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990720" y="3214800"/>
            <a:ext cx="7315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Nilai e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dapat dilihat di Tabel 7.4-1 buku Bir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90720" y="3581280"/>
            <a:ext cx="5105160" cy="1143000"/>
            <a:chOff x="990720" y="3581280"/>
            <a:chExt cx="5105160" cy="1143000"/>
          </a:xfrm>
        </p:grpSpPr>
        <p:sp>
          <p:nvSpPr>
            <p:cNvPr id="285" name=""/>
            <p:cNvSpPr/>
            <p:nvPr/>
          </p:nvSpPr>
          <p:spPr>
            <a:xfrm>
              <a:off x="1066680" y="4114440"/>
              <a:ext cx="533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00200" y="3733560"/>
              <a:ext cx="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00200" y="3733560"/>
              <a:ext cx="10666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66680" y="4419360"/>
              <a:ext cx="533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00200" y="4419360"/>
              <a:ext cx="0" cy="304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00200" y="4724280"/>
              <a:ext cx="11430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90720" y="4267080"/>
              <a:ext cx="761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52480" y="3809880"/>
              <a:ext cx="476280" cy="457200"/>
            </a:xfrm>
            <a:custGeom>
              <a:avLst/>
              <a:gdLst/>
              <a:ahLst/>
              <a:rect l="l" t="t" r="r" b="b"/>
              <a:pathLst>
                <a:path w="300" h="288">
                  <a:moveTo>
                    <a:pt x="0" y="288"/>
                  </a:moveTo>
                  <a:lnTo>
                    <a:pt x="24" y="168"/>
                  </a:lnTo>
                  <a:lnTo>
                    <a:pt x="84" y="96"/>
                  </a:lnTo>
                  <a:lnTo>
                    <a:pt x="180" y="24"/>
                  </a:lnTo>
                  <a:lnTo>
                    <a:pt x="300" y="0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52480" y="4267080"/>
              <a:ext cx="514440" cy="342720"/>
            </a:xfrm>
            <a:custGeom>
              <a:avLst/>
              <a:gdLst/>
              <a:ahLst/>
              <a:rect l="l" t="t" r="r" b="b"/>
              <a:pathLst>
                <a:path w="324" h="216">
                  <a:moveTo>
                    <a:pt x="0" y="0"/>
                  </a:moveTo>
                  <a:lnTo>
                    <a:pt x="84" y="168"/>
                  </a:lnTo>
                  <a:lnTo>
                    <a:pt x="204" y="216"/>
                  </a:lnTo>
                  <a:lnTo>
                    <a:pt x="324" y="216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00400" y="3733560"/>
              <a:ext cx="9907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00400" y="4724280"/>
              <a:ext cx="9907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91120" y="3733560"/>
              <a:ext cx="0" cy="304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191120" y="4419000"/>
              <a:ext cx="0" cy="304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91120" y="403848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1120" y="4419360"/>
              <a:ext cx="6094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76720" y="4286160"/>
              <a:ext cx="971280" cy="361800"/>
            </a:xfrm>
            <a:custGeom>
              <a:avLst/>
              <a:gdLst/>
              <a:ahLst/>
              <a:rect l="l" t="t" r="r" b="b"/>
              <a:pathLst>
                <a:path w="612" h="228">
                  <a:moveTo>
                    <a:pt x="0" y="228"/>
                  </a:moveTo>
                  <a:lnTo>
                    <a:pt x="324" y="228"/>
                  </a:lnTo>
                  <a:lnTo>
                    <a:pt x="480" y="168"/>
                  </a:lnTo>
                  <a:lnTo>
                    <a:pt x="612" y="0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33600" y="3828960"/>
              <a:ext cx="990720" cy="361800"/>
            </a:xfrm>
            <a:custGeom>
              <a:avLst/>
              <a:gdLst/>
              <a:ahLst/>
              <a:rect l="l" t="t" r="r" b="b"/>
              <a:pathLst>
                <a:path w="624" h="228">
                  <a:moveTo>
                    <a:pt x="0" y="0"/>
                  </a:moveTo>
                  <a:lnTo>
                    <a:pt x="132" y="0"/>
                  </a:lnTo>
                  <a:lnTo>
                    <a:pt x="288" y="12"/>
                  </a:lnTo>
                  <a:lnTo>
                    <a:pt x="456" y="96"/>
                  </a:lnTo>
                  <a:lnTo>
                    <a:pt x="624" y="228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67080" y="4267080"/>
              <a:ext cx="533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81480" y="3581280"/>
              <a:ext cx="914400" cy="11430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200" stAng="10800000" swAng="5400000"/>
                  <a:lnTo>
                    <a:pt x="21600" y="3960"/>
                  </a:lnTo>
                  <a:lnTo>
                    <a:pt x="21600" y="0"/>
                  </a:lnTo>
                  <a:lnTo>
                    <a:pt x="21600" y="6079"/>
                  </a:lnTo>
                  <a:lnTo>
                    <a:pt x="21600" y="12158"/>
                  </a:lnTo>
                  <a:lnTo>
                    <a:pt x="21600" y="8198"/>
                  </a:lnTo>
                  <a:lnTo>
                    <a:pt x="12427" y="8198"/>
                  </a:lnTo>
                  <a:arcTo wR="8189" hR="3962" stAng="16200000" swAng="-5400000"/>
                  <a:lnTo>
                    <a:pt x="423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219320" y="46926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udden enlarge expans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8120" y="4692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udden contrac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05520" y="4738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Elbow 90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5362560"/>
            <a:ext cx="80010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Dari Tabel 7.4-1 ( Bird )</a:t>
            </a:r>
            <a:r>
              <a:rPr b="0" lang="en-US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notasi 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= (smaller </a:t>
            </a:r>
            <a:r>
              <a:rPr b="0" i="1" lang="en-US" sz="1800" spc="-1" strike="noStrike">
                <a:solidFill>
                  <a:srgbClr val="40458c"/>
                </a:solidFill>
                <a:latin typeface="Times New Roman"/>
              </a:rPr>
              <a:t>cross sectional area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)/(larger </a:t>
            </a:r>
            <a:r>
              <a:rPr b="0" i="1" lang="en-US" sz="1800" spc="-1" strike="noStrike">
                <a:solidFill>
                  <a:srgbClr val="40458c"/>
                </a:solidFill>
                <a:latin typeface="Times New Roman"/>
              </a:rPr>
              <a:t>cross sectional area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). Bila </a:t>
            </a:r>
            <a:r>
              <a:rPr b="0" i="1" lang="en-US" sz="1800" spc="-1" strike="noStrike">
                <a:solidFill>
                  <a:srgbClr val="40458c"/>
                </a:solidFill>
                <a:latin typeface="Times New Roman"/>
              </a:rPr>
              <a:t>cross sectional area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yang kecil jauh lebih rendah dibanding yang besar, maka 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=0, dan untuk s</a:t>
            </a:r>
            <a:r>
              <a:rPr b="0" i="1" lang="en-US" sz="1800" spc="-1" strike="noStrike">
                <a:solidFill>
                  <a:srgbClr val="40458c"/>
                </a:solidFill>
                <a:latin typeface="Times New Roman"/>
              </a:rPr>
              <a:t>udden enlargement/expansion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=1 (dg v = kecep. Upstream)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153280" y="64771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EADA-7EFF-4EC5-B338-71D573EE32CB}" type="slidenum"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304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Utk saluran lurus + valve, fitting, dll (obstacl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Untuk aliran fluida (turbulen) melalui saluran/pipa lurus dg berbagai jenis obstacle/penghalang, maka pers. Bernoulli dpt ditulis sbb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183520" y="236232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1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2286000"/>
            <a:ext cx="7010280" cy="762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28600" y="228600"/>
            <a:ext cx="8610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Soal 1 (Contoh 7.4-1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Berapa Horse-power (Hp) pompa untuk memindahkan air dari tangki A ke tangki B berikut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480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Jawab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905120" y="5105520"/>
                <a:ext cx="61722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π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 ft/detik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ρ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  <m:r>
                              <m:t xml:space="preserve">,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,0</m:t>
                            </m:r>
                            <m:r>
                              <m:t xml:space="preserve">x</m:t>
                            </m:r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Turbule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8305920" y="64008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C1D5-3C30-40AC-A0A3-7B8687E28342}" type="slidenum"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838080" y="1066680"/>
            <a:ext cx="8001000" cy="3448800"/>
            <a:chOff x="838080" y="1066680"/>
            <a:chExt cx="8001000" cy="3448800"/>
          </a:xfrm>
        </p:grpSpPr>
        <p:grpSp>
          <p:nvGrpSpPr>
            <p:cNvPr id="318" name=""/>
            <p:cNvGrpSpPr/>
            <p:nvPr/>
          </p:nvGrpSpPr>
          <p:grpSpPr>
            <a:xfrm>
              <a:off x="838080" y="1066680"/>
              <a:ext cx="8001000" cy="3448800"/>
              <a:chOff x="838080" y="1066680"/>
              <a:chExt cx="8001000" cy="3448800"/>
            </a:xfrm>
          </p:grpSpPr>
          <p:sp>
            <p:nvSpPr>
              <p:cNvPr id="319" name=""/>
              <p:cNvSpPr/>
              <p:nvPr/>
            </p:nvSpPr>
            <p:spPr>
              <a:xfrm>
                <a:off x="990720" y="3809880"/>
                <a:ext cx="0" cy="60984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990720" y="4419720"/>
                <a:ext cx="10666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057400" y="3733920"/>
                <a:ext cx="0" cy="6858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334120" y="1981080"/>
                <a:ext cx="0" cy="60984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2590920"/>
                <a:ext cx="10666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1905120"/>
                <a:ext cx="0" cy="6858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676520" y="3048120"/>
                <a:ext cx="2628720" cy="75960"/>
              </a:xfrm>
              <a:custGeom>
                <a:avLst/>
                <a:gdLst/>
                <a:ahLst/>
                <a:rect l="l" t="t" r="r" b="b"/>
                <a:pathLst>
                  <a:path w="1752" h="1">
                    <a:moveTo>
                      <a:pt x="0" y="0"/>
                    </a:moveTo>
                    <a:lnTo>
                      <a:pt x="1752" y="0"/>
                    </a:lnTo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0240" bIns="302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28800" y="3200400"/>
                <a:ext cx="25909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72000" y="1523880"/>
                <a:ext cx="11430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24280" y="1676520"/>
                <a:ext cx="83844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572000" y="1828440"/>
                <a:ext cx="0" cy="12193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23880" y="3352680"/>
                <a:ext cx="0" cy="7621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676520" y="3352680"/>
                <a:ext cx="0" cy="7621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267080" y="2895480"/>
                <a:ext cx="152640" cy="1526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72" y="72"/>
                    </a:lnTo>
                    <a:lnTo>
                      <a:pt x="0" y="96"/>
                    </a:lnTo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19720" y="3048120"/>
                <a:ext cx="152280" cy="1522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72" y="72"/>
                    </a:lnTo>
                    <a:lnTo>
                      <a:pt x="0" y="96"/>
                    </a:lnTo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267080" y="3048120"/>
                <a:ext cx="0" cy="15228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19720" y="2895480"/>
                <a:ext cx="1522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19720" y="1523880"/>
                <a:ext cx="152280" cy="1526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36" y="36"/>
                    </a:lnTo>
                    <a:lnTo>
                      <a:pt x="0" y="96"/>
                    </a:lnTo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4419720" y="1676520"/>
                <a:ext cx="0" cy="12189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72000" y="1676520"/>
                <a:ext cx="152280" cy="1522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36" y="36"/>
                    </a:lnTo>
                    <a:lnTo>
                      <a:pt x="0" y="96"/>
                    </a:lnTo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4419360" y="1828800"/>
                <a:ext cx="1522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4724280" y="1523880"/>
                <a:ext cx="0" cy="15264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91320" y="1828800"/>
                <a:ext cx="0" cy="4572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943600" y="1676520"/>
                <a:ext cx="0" cy="60948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62720" y="167652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96" y="24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715000" y="1523880"/>
                <a:ext cx="228600" cy="15264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96" y="24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5562720" y="1523880"/>
                <a:ext cx="0" cy="15264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91320" y="1828800"/>
                <a:ext cx="1522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34120" y="2133720"/>
                <a:ext cx="4572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943600" y="2133720"/>
                <a:ext cx="4572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867280" y="2133720"/>
                <a:ext cx="0" cy="228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62720" y="22860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90720" y="3886200"/>
                <a:ext cx="53316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76520" y="3886200"/>
                <a:ext cx="3808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600200" y="3809520"/>
                <a:ext cx="0" cy="3049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295280" y="4038480"/>
                <a:ext cx="5335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71600" y="3200400"/>
                <a:ext cx="5335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71600" y="289548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419720" y="1371600"/>
                <a:ext cx="144756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00600" y="10666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80’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095880" y="1523880"/>
                <a:ext cx="0" cy="60984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095880" y="15238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40’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00600" y="1600200"/>
                <a:ext cx="0" cy="16002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24280" y="236232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120’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1600200" y="2819520"/>
                <a:ext cx="28195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362320" y="251460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300’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19320" y="3048120"/>
                <a:ext cx="0" cy="83808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38080" y="32767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5’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638680" y="2895480"/>
                <a:ext cx="3200400" cy="162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Diketahui: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ID pipa = 4”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Symbol"/>
                    <a:ea typeface="Symbol"/>
                  </a:rPr>
                  <a:t>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= 62.4 lbm/ft</a:t>
                </a:r>
                <a:r>
                  <a:rPr b="0" lang="en-US" sz="1800" spc="-1" strike="noStrike" baseline="30000">
                    <a:solidFill>
                      <a:srgbClr val="40458c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buClr>
                    <a:srgbClr val="40458c"/>
                  </a:buClr>
                  <a:buFont typeface="Symbol" charset="2"/>
                  <a:buChar char="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= 1.0 cp  dan  Q = 12 ft</a:t>
                </a:r>
                <a:r>
                  <a:rPr b="0" lang="en-US" sz="1800" spc="-1" strike="noStrike" baseline="30000">
                    <a:solidFill>
                      <a:srgbClr val="40458c"/>
                    </a:solidFill>
                    <a:latin typeface="Times New Roman"/>
                  </a:rPr>
                  <a:t>3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/meni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600200" y="2590920"/>
                <a:ext cx="0" cy="304560"/>
              </a:xfrm>
              <a:prstGeom prst="line">
                <a:avLst/>
              </a:prstGeom>
              <a:ln cap="rnd" w="9360">
                <a:solidFill>
                  <a:srgbClr val="40458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3600" y="1523880"/>
                <a:ext cx="304920" cy="0"/>
              </a:xfrm>
              <a:prstGeom prst="line">
                <a:avLst/>
              </a:prstGeom>
              <a:ln cap="rnd" w="9360">
                <a:solidFill>
                  <a:srgbClr val="40458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419720" y="3200400"/>
                <a:ext cx="457200" cy="0"/>
              </a:xfrm>
              <a:prstGeom prst="line">
                <a:avLst/>
              </a:prstGeom>
              <a:ln cap="rnd" w="9360">
                <a:solidFill>
                  <a:srgbClr val="40458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990720" y="3048120"/>
                <a:ext cx="380880" cy="0"/>
              </a:xfrm>
              <a:prstGeom prst="line">
                <a:avLst/>
              </a:prstGeom>
              <a:ln cap="rnd" w="9360">
                <a:solidFill>
                  <a:srgbClr val="40458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2209680" y="3657600"/>
              <a:ext cx="381240" cy="38088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09480" y="243000"/>
            <a:ext cx="1524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85cf4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5cf4"/>
                </a:solidFill>
                <a:latin typeface="Tempus Sans ITC"/>
              </a:rPr>
              <a:t> </a:t>
            </a:r>
            <a:r>
              <a:rPr b="1" lang="en-US" sz="1800" spc="-1" strike="noStrike">
                <a:solidFill>
                  <a:srgbClr val="385cf4"/>
                </a:solidFill>
                <a:latin typeface="Tempus Sans ITC"/>
              </a:rPr>
              <a:t>Cari </a:t>
            </a:r>
            <a:r>
              <a:rPr b="1" i="1" lang="en-US" sz="1800" spc="-1" strike="noStrike">
                <a:solidFill>
                  <a:srgbClr val="385cf4"/>
                </a:solidFill>
                <a:latin typeface="Tempus Sans ITC"/>
              </a:rPr>
              <a:t>E</a:t>
            </a:r>
            <a:r>
              <a:rPr b="1" i="1" lang="en-US" sz="1800" spc="-1" strike="noStrike" baseline="-25000">
                <a:solidFill>
                  <a:srgbClr val="385cf4"/>
                </a:solidFill>
                <a:latin typeface="Tempus Sans ITC"/>
              </a:rPr>
              <a:t>v</a:t>
            </a:r>
            <a:r>
              <a:rPr b="1" i="1" lang="en-US" sz="1800" spc="-1" strike="noStrike">
                <a:solidFill>
                  <a:srgbClr val="385cf4"/>
                </a:solidFill>
                <a:latin typeface="Tempus Sans ITC"/>
              </a:rPr>
              <a:t> </a:t>
            </a:r>
            <a:r>
              <a:rPr b="1" lang="en-US" sz="1800" spc="-1" strike="noStrike">
                <a:solidFill>
                  <a:srgbClr val="385cf4"/>
                </a:solidFill>
                <a:latin typeface="Tempus Sans ITC"/>
              </a:rPr>
              <a:t>pipa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066680" y="719280"/>
                <a:ext cx="5867640" cy="24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f>
                                  <m:num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D</m:t>
                                    </m:r>
                                  </m:den>
                                </m:f>
                                <m:r>
                                  <m:t xml:space="preserve">4</m:t>
                                </m:r>
                                <m:r>
                                  <m:t xml:space="preserve">f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p>
                                  <m:e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dicari dari figure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-2 atau dengan rumus sebagai berikut: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9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sehingga:</m:t>
                        </m:r>
                      </m:e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2,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49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de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609480" y="3443400"/>
            <a:ext cx="7467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85cf4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85cf4"/>
                </a:solidFill>
                <a:uFillTx/>
                <a:latin typeface="Tempus Sans ITC"/>
              </a:rPr>
              <a:t> </a:t>
            </a:r>
            <a:r>
              <a:rPr b="1" lang="en-US" sz="1800" spc="-1" strike="noStrike" u="sng">
                <a:solidFill>
                  <a:srgbClr val="385cf4"/>
                </a:solidFill>
                <a:uFillTx/>
                <a:latin typeface="Tempus Sans ITC"/>
              </a:rPr>
              <a:t>Cari </a:t>
            </a:r>
            <a:r>
              <a:rPr b="1" i="1" lang="en-US" sz="1800" spc="-1" strike="noStrike" u="sng">
                <a:solidFill>
                  <a:srgbClr val="385cf4"/>
                </a:solidFill>
                <a:uFillTx/>
                <a:latin typeface="Tempus Sans ITC"/>
              </a:rPr>
              <a:t>E</a:t>
            </a:r>
            <a:r>
              <a:rPr b="1" i="1" lang="en-US" sz="1800" spc="-1" strike="noStrike" u="sng" baseline="-25000">
                <a:solidFill>
                  <a:srgbClr val="385cf4"/>
                </a:solidFill>
                <a:uFillTx/>
                <a:latin typeface="Tempus Sans ITC"/>
              </a:rPr>
              <a:t>v</a:t>
            </a:r>
            <a:r>
              <a:rPr b="1" i="1" lang="en-US" sz="1800" spc="-1" strike="noStrike" u="sng">
                <a:solidFill>
                  <a:srgbClr val="385cf4"/>
                </a:solidFill>
                <a:uFillTx/>
                <a:latin typeface="Tempus Sans ITC"/>
              </a:rPr>
              <a:t> </a:t>
            </a:r>
            <a:r>
              <a:rPr b="1" lang="en-US" sz="1800" spc="-1" strike="noStrike" u="sng">
                <a:solidFill>
                  <a:srgbClr val="385cf4"/>
                </a:solidFill>
                <a:uFillTx/>
                <a:latin typeface="Tempus Sans ITC"/>
              </a:rPr>
              <a:t>selain pipa (</a:t>
            </a:r>
            <a:r>
              <a:rPr b="1" i="1" lang="en-US" sz="1800" spc="-1" strike="noStrike" u="sng">
                <a:solidFill>
                  <a:srgbClr val="385cf4"/>
                </a:solidFill>
                <a:uFillTx/>
                <a:latin typeface="Tempus Sans ITC"/>
              </a:rPr>
              <a:t>sudden contraction, elbow </a:t>
            </a:r>
            <a:r>
              <a:rPr b="1" lang="en-US" sz="1800" spc="-1" strike="noStrike" u="sng">
                <a:solidFill>
                  <a:srgbClr val="385cf4"/>
                </a:solidFill>
                <a:uFillTx/>
                <a:latin typeface="Tempus Sans ITC"/>
              </a:rPr>
              <a:t>dan </a:t>
            </a:r>
            <a:r>
              <a:rPr b="1" i="1" lang="en-US" sz="1800" spc="-1" strike="noStrike" u="sng">
                <a:solidFill>
                  <a:srgbClr val="385cf4"/>
                </a:solidFill>
                <a:uFillTx/>
                <a:latin typeface="Tempus Sans ITC"/>
              </a:rPr>
              <a:t>sudden expansion</a:t>
            </a:r>
            <a:r>
              <a:rPr b="1" lang="en-US" sz="1800" spc="-1" strike="noStrike" u="sng">
                <a:solidFill>
                  <a:srgbClr val="385cf4"/>
                </a:solidFill>
                <a:uFillTx/>
                <a:latin typeface="Tempus Sans ITC"/>
              </a:rPr>
              <a:t>):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028880" y="4081320"/>
                <a:ext cx="6362640" cy="251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p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,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0,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p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/de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ersamaan BERNOULLY:</m:t>
                        </m:r>
                      </m:e>
                      <m:e>
                        <m:r>
                          <m:t xml:space="preserve">Δ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gΔh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2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ρ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sSup>
                                      <m:e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f>
                                      <m:num>
                                        <m:r>
                                          <m:t xml:space="preserve">L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h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sSup>
                                      <m:e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8305920" y="64008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B492-D3D0-4615-85A1-922775B17DDC}" type="slidenum"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1T08:59:38Z</dcterms:created>
  <dc:creator>Oos</dc:creator>
  <dc:description/>
  <dc:language>en-US</dc:language>
  <cp:lastModifiedBy>Bismillah</cp:lastModifiedBy>
  <dcterms:modified xsi:type="dcterms:W3CDTF">2004-03-30T05:19:02Z</dcterms:modified>
  <cp:revision>76</cp:revision>
  <dc:subject/>
  <dc:title>CH. 7 NERACA MOMENTUM MAKROSKOPIK</dc:title>
</cp:coreProperties>
</file>