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07D2-4B0E-4CF9-BFC9-16FCCCD63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quid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solute free liquid 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mole ratio of sol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as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solut free gas 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mol ratio of sol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as A yang larut dalam solven L ingin dipisahkan dari campuran gas l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ang tidak larut dalam cairan solven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5517-41E2-43E5-97BF-229A79DF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89B4-C579-4C9F-B27E-41ED4A15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7390-0D3D-450A-97C2-31958771E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8219-B3F8-42DF-9787-E29408E09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EE9A-F5F2-4299-A8D7-09DB47B9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0742-1002-48DE-BED7-DF03805C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6BE3-78D9-4A9D-8A2C-5A4066E9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DD13-32C2-4971-8298-54540FF6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8198-1483-460A-849B-3C7AD84C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E2D3-8D59-4559-8B1A-8F96B3CB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F2B0-106B-4E50-9029-4762D593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E519-3865-4680-9435-23F23D45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D193-A107-4D1D-A128-83969F4F8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Ch. 14. NERACA MAKROSKOPIK PAD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SISTEM MULTI-KOMP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267080"/>
            <a:ext cx="1524240" cy="11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eed (lbmol/jam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= 7,80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= 10,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= 81,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5394240"/>
            <a:ext cx="1219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1 = 440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1 = 1,05 a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6049800"/>
            <a:ext cx="94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nve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2575080"/>
            <a:ext cx="1524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2 = 1,00 a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2 =  ………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5394240"/>
            <a:ext cx="990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endin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 = ……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15000" y="1752480"/>
            <a:ext cx="3276720" cy="16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Reaksi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+  ½ 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S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 Kesetimbanga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5891040" y="2971800"/>
                <a:ext cx="26197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O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6" name=""/>
          <p:cNvGraphicFramePr/>
          <p:nvPr/>
        </p:nvGraphicFramePr>
        <p:xfrm>
          <a:off x="5181480" y="4160880"/>
          <a:ext cx="3581640" cy="695160"/>
        </p:xfrm>
        <a:graphic>
          <a:graphicData uri="http://schemas.openxmlformats.org/drawingml/2006/table">
            <a:tbl>
              <a:tblPr/>
              <a:tblGrid>
                <a:gridCol w="914400"/>
                <a:gridCol w="26672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1  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0         700          800          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p, at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-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00        880         69,5         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520200" y="1747800"/>
            <a:ext cx="4341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ntoh 22.5-1.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eraca Energi pd Converter S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33920" y="3352680"/>
            <a:ext cx="307800" cy="308160"/>
          </a:xfrm>
          <a:prstGeom prst="ellipse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4343400"/>
            <a:ext cx="307800" cy="307800"/>
          </a:xfrm>
          <a:prstGeom prst="ellipse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328920" y="5181480"/>
            <a:ext cx="175680" cy="198000"/>
            <a:chOff x="3328920" y="5181480"/>
            <a:chExt cx="175680" cy="198000"/>
          </a:xfrm>
        </p:grpSpPr>
        <p:sp>
          <p:nvSpPr>
            <p:cNvPr id="61" name=""/>
            <p:cNvSpPr/>
            <p:nvPr/>
          </p:nvSpPr>
          <p:spPr>
            <a:xfrm flipV="1">
              <a:off x="3413160" y="5241600"/>
              <a:ext cx="3960" cy="137880"/>
            </a:xfrm>
            <a:prstGeom prst="line">
              <a:avLst/>
            </a:prstGeom>
            <a:ln w="79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28920" y="5181480"/>
              <a:ext cx="175680" cy="6696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50" y="52"/>
                  </a:moveTo>
                  <a:lnTo>
                    <a:pt x="24" y="0"/>
                  </a:lnTo>
                  <a:lnTo>
                    <a:pt x="0" y="52"/>
                  </a:lnTo>
                  <a:lnTo>
                    <a:pt x="50" y="52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000160" y="4707000"/>
            <a:ext cx="280800" cy="91800"/>
            <a:chOff x="2000160" y="4707000"/>
            <a:chExt cx="280800" cy="91800"/>
          </a:xfrm>
        </p:grpSpPr>
        <p:sp>
          <p:nvSpPr>
            <p:cNvPr id="64" name=""/>
            <p:cNvSpPr/>
            <p:nvPr/>
          </p:nvSpPr>
          <p:spPr>
            <a:xfrm>
              <a:off x="2000160" y="4750920"/>
              <a:ext cx="1951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9520" y="4707000"/>
              <a:ext cx="91440" cy="918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50"/>
                  </a:moveTo>
                  <a:lnTo>
                    <a:pt x="50" y="24"/>
                  </a:lnTo>
                  <a:lnTo>
                    <a:pt x="0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4110120" y="3197160"/>
            <a:ext cx="280440" cy="90360"/>
            <a:chOff x="4110120" y="3197160"/>
            <a:chExt cx="280440" cy="90360"/>
          </a:xfrm>
        </p:grpSpPr>
        <p:sp>
          <p:nvSpPr>
            <p:cNvPr id="67" name=""/>
            <p:cNvSpPr/>
            <p:nvPr/>
          </p:nvSpPr>
          <p:spPr>
            <a:xfrm>
              <a:off x="4110120" y="3240360"/>
              <a:ext cx="1951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299480" y="3197160"/>
              <a:ext cx="91080" cy="903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50"/>
                  </a:moveTo>
                  <a:lnTo>
                    <a:pt x="50" y="24"/>
                  </a:lnTo>
                  <a:lnTo>
                    <a:pt x="0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 flipH="1" rot="16200000">
            <a:off x="3700440" y="2967120"/>
            <a:ext cx="193680" cy="536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d97ef"/>
              </a:gs>
              <a:gs pos="50000">
                <a:srgbClr val="ffffff"/>
              </a:gs>
              <a:gs pos="100000">
                <a:srgbClr val="cd97e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710800" y="2851200"/>
            <a:ext cx="942840" cy="2208240"/>
          </a:xfrm>
          <a:prstGeom prst="can">
            <a:avLst>
              <a:gd name="adj" fmla="val 6333"/>
            </a:avLst>
          </a:prstGeom>
          <a:gradFill rotWithShape="0">
            <a:gsLst>
              <a:gs pos="0">
                <a:srgbClr val="da8fef"/>
              </a:gs>
              <a:gs pos="50000">
                <a:srgbClr val="ffffff"/>
              </a:gs>
              <a:gs pos="100000">
                <a:srgbClr val="da8fe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rot="16200000">
            <a:off x="2461680" y="4523400"/>
            <a:ext cx="154080" cy="46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d97ef"/>
              </a:gs>
              <a:gs pos="50000">
                <a:srgbClr val="ffffff"/>
              </a:gs>
              <a:gs pos="100000">
                <a:srgbClr val="cd97e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919240" y="2773440"/>
            <a:ext cx="533520" cy="2361240"/>
            <a:chOff x="2919240" y="2773440"/>
            <a:chExt cx="533520" cy="2361240"/>
          </a:xfrm>
        </p:grpSpPr>
        <p:grpSp>
          <p:nvGrpSpPr>
            <p:cNvPr id="73" name=""/>
            <p:cNvGrpSpPr/>
            <p:nvPr/>
          </p:nvGrpSpPr>
          <p:grpSpPr>
            <a:xfrm>
              <a:off x="2919240" y="3084120"/>
              <a:ext cx="533520" cy="1740240"/>
              <a:chOff x="2919240" y="3084120"/>
              <a:chExt cx="533520" cy="1740240"/>
            </a:xfrm>
          </p:grpSpPr>
          <p:grpSp>
            <p:nvGrpSpPr>
              <p:cNvPr id="74" name=""/>
              <p:cNvGrpSpPr/>
              <p:nvPr/>
            </p:nvGrpSpPr>
            <p:grpSpPr>
              <a:xfrm>
                <a:off x="2919240" y="3301560"/>
                <a:ext cx="533520" cy="217440"/>
                <a:chOff x="2919240" y="3301560"/>
                <a:chExt cx="533520" cy="217440"/>
              </a:xfrm>
            </p:grpSpPr>
            <p:sp>
              <p:nvSpPr>
                <p:cNvPr id="75" name=""/>
                <p:cNvSpPr/>
                <p:nvPr/>
              </p:nvSpPr>
              <p:spPr>
                <a:xfrm rot="10800000">
                  <a:off x="3161880" y="3301560"/>
                  <a:ext cx="290880" cy="108720"/>
                </a:xfrm>
                <a:custGeom>
                  <a:avLst/>
                  <a:gdLst>
                    <a:gd name="textAreaLeft" fmla="*/ 85320 w 290880"/>
                    <a:gd name="textAreaRight" fmla="*/ 291240 w 290880"/>
                    <a:gd name="textAreaTop" fmla="*/ 19080 h 108720"/>
                    <a:gd name="textAreaBottom" fmla="*/ 89640 h 10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3825"/>
                        <a:pt x="0" y="7650"/>
                      </a:cubicBezTo>
                      <a:lnTo>
                        <a:pt x="0" y="13950"/>
                      </a:lnTo>
                      <a:cubicBezTo>
                        <a:pt x="0" y="17775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63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H="1" rot="10800000">
                  <a:off x="2919240" y="3410280"/>
                  <a:ext cx="290880" cy="108720"/>
                </a:xfrm>
                <a:custGeom>
                  <a:avLst/>
                  <a:gdLst>
                    <a:gd name="textAreaLeft" fmla="*/ 85320 w 290880"/>
                    <a:gd name="textAreaRight" fmla="*/ 291240 w 290880"/>
                    <a:gd name="textAreaTop" fmla="*/ 19080 h 108720"/>
                    <a:gd name="textAreaBottom" fmla="*/ 89640 h 10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3825"/>
                        <a:pt x="0" y="7650"/>
                      </a:cubicBezTo>
                      <a:lnTo>
                        <a:pt x="0" y="13950"/>
                      </a:lnTo>
                      <a:cubicBezTo>
                        <a:pt x="0" y="17775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63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919240" y="3736800"/>
                <a:ext cx="533520" cy="217440"/>
                <a:chOff x="2919240" y="3736800"/>
                <a:chExt cx="533520" cy="217440"/>
              </a:xfrm>
            </p:grpSpPr>
            <p:sp>
              <p:nvSpPr>
                <p:cNvPr id="78" name=""/>
                <p:cNvSpPr/>
                <p:nvPr/>
              </p:nvSpPr>
              <p:spPr>
                <a:xfrm rot="10800000">
                  <a:off x="3161880" y="3736800"/>
                  <a:ext cx="290880" cy="108720"/>
                </a:xfrm>
                <a:custGeom>
                  <a:avLst/>
                  <a:gdLst>
                    <a:gd name="textAreaLeft" fmla="*/ 85320 w 290880"/>
                    <a:gd name="textAreaRight" fmla="*/ 291240 w 290880"/>
                    <a:gd name="textAreaTop" fmla="*/ 19080 h 108720"/>
                    <a:gd name="textAreaBottom" fmla="*/ 89640 h 10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3825"/>
                        <a:pt x="0" y="7650"/>
                      </a:cubicBezTo>
                      <a:lnTo>
                        <a:pt x="0" y="13950"/>
                      </a:lnTo>
                      <a:cubicBezTo>
                        <a:pt x="0" y="17775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63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10800000">
                  <a:off x="2919240" y="3845520"/>
                  <a:ext cx="290880" cy="108720"/>
                </a:xfrm>
                <a:custGeom>
                  <a:avLst/>
                  <a:gdLst>
                    <a:gd name="textAreaLeft" fmla="*/ 85320 w 290880"/>
                    <a:gd name="textAreaRight" fmla="*/ 291240 w 290880"/>
                    <a:gd name="textAreaTop" fmla="*/ 19080 h 108720"/>
                    <a:gd name="textAreaBottom" fmla="*/ 89640 h 10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3825"/>
                        <a:pt x="0" y="7650"/>
                      </a:cubicBezTo>
                      <a:lnTo>
                        <a:pt x="0" y="13950"/>
                      </a:lnTo>
                      <a:cubicBezTo>
                        <a:pt x="0" y="17775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63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2919240" y="3519000"/>
                <a:ext cx="533520" cy="217440"/>
                <a:chOff x="2919240" y="3519000"/>
                <a:chExt cx="533520" cy="217440"/>
              </a:xfrm>
            </p:grpSpPr>
            <p:sp>
              <p:nvSpPr>
                <p:cNvPr id="81" name=""/>
                <p:cNvSpPr/>
                <p:nvPr/>
              </p:nvSpPr>
              <p:spPr>
                <a:xfrm rot="10800000">
                  <a:off x="3161880" y="3519000"/>
                  <a:ext cx="290880" cy="108720"/>
                </a:xfrm>
                <a:custGeom>
                  <a:avLst/>
                  <a:gdLst>
                    <a:gd name="textAreaLeft" fmla="*/ 85320 w 290880"/>
                    <a:gd name="textAreaRight" fmla="*/ 291240 w 290880"/>
                    <a:gd name="textAreaTop" fmla="*/ 19080 h 108720"/>
                    <a:gd name="textAreaBottom" fmla="*/ 89640 h 10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3825"/>
                        <a:pt x="0" y="7650"/>
                      </a:cubicBezTo>
                      <a:lnTo>
                        <a:pt x="0" y="13950"/>
                      </a:lnTo>
                      <a:cubicBezTo>
                        <a:pt x="0" y="17775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63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flipH="1" rot="10800000">
                  <a:off x="2919240" y="3627720"/>
                  <a:ext cx="290880" cy="108720"/>
                </a:xfrm>
                <a:custGeom>
                  <a:avLst/>
                  <a:gdLst>
                    <a:gd name="textAreaLeft" fmla="*/ 85320 w 290880"/>
                    <a:gd name="textAreaRight" fmla="*/ 291240 w 290880"/>
                    <a:gd name="textAreaTop" fmla="*/ 19080 h 108720"/>
                    <a:gd name="textAreaBottom" fmla="*/ 89640 h 10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3825"/>
                        <a:pt x="0" y="7650"/>
                      </a:cubicBezTo>
                      <a:lnTo>
                        <a:pt x="0" y="13950"/>
                      </a:lnTo>
                      <a:cubicBezTo>
                        <a:pt x="0" y="17775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63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919240" y="3954240"/>
                <a:ext cx="533520" cy="217440"/>
                <a:chOff x="2919240" y="3954240"/>
                <a:chExt cx="533520" cy="217440"/>
              </a:xfrm>
            </p:grpSpPr>
            <p:sp>
              <p:nvSpPr>
                <p:cNvPr id="84" name=""/>
                <p:cNvSpPr/>
                <p:nvPr/>
              </p:nvSpPr>
              <p:spPr>
                <a:xfrm rot="10800000">
                  <a:off x="3161880" y="3954240"/>
                  <a:ext cx="290880" cy="108720"/>
                </a:xfrm>
                <a:custGeom>
                  <a:avLst/>
                  <a:gdLst>
                    <a:gd name="textAreaLeft" fmla="*/ 85320 w 290880"/>
                    <a:gd name="textAreaRight" fmla="*/ 291240 w 290880"/>
                    <a:gd name="textAreaTop" fmla="*/ 19080 h 108720"/>
                    <a:gd name="textAreaBottom" fmla="*/ 89640 h 10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3825"/>
                        <a:pt x="0" y="7650"/>
                      </a:cubicBezTo>
                      <a:lnTo>
                        <a:pt x="0" y="13950"/>
                      </a:lnTo>
                      <a:cubicBezTo>
                        <a:pt x="0" y="17775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63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flipH="1" rot="10800000">
                  <a:off x="2919240" y="4062960"/>
                  <a:ext cx="290880" cy="108720"/>
                </a:xfrm>
                <a:custGeom>
                  <a:avLst/>
                  <a:gdLst>
                    <a:gd name="textAreaLeft" fmla="*/ 85320 w 290880"/>
                    <a:gd name="textAreaRight" fmla="*/ 291240 w 290880"/>
                    <a:gd name="textAreaTop" fmla="*/ 19080 h 108720"/>
                    <a:gd name="textAreaBottom" fmla="*/ 89640 h 10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3825"/>
                        <a:pt x="0" y="7650"/>
                      </a:cubicBezTo>
                      <a:lnTo>
                        <a:pt x="0" y="13950"/>
                      </a:lnTo>
                      <a:cubicBezTo>
                        <a:pt x="0" y="17775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63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919240" y="3084120"/>
                <a:ext cx="533520" cy="217440"/>
                <a:chOff x="2919240" y="3084120"/>
                <a:chExt cx="533520" cy="217440"/>
              </a:xfrm>
            </p:grpSpPr>
            <p:sp>
              <p:nvSpPr>
                <p:cNvPr id="87" name=""/>
                <p:cNvSpPr/>
                <p:nvPr/>
              </p:nvSpPr>
              <p:spPr>
                <a:xfrm rot="10800000">
                  <a:off x="3161880" y="3084120"/>
                  <a:ext cx="290880" cy="108720"/>
                </a:xfrm>
                <a:custGeom>
                  <a:avLst/>
                  <a:gdLst>
                    <a:gd name="textAreaLeft" fmla="*/ 85320 w 290880"/>
                    <a:gd name="textAreaRight" fmla="*/ 291240 w 290880"/>
                    <a:gd name="textAreaTop" fmla="*/ 19080 h 108720"/>
                    <a:gd name="textAreaBottom" fmla="*/ 89640 h 10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3825"/>
                        <a:pt x="0" y="7650"/>
                      </a:cubicBezTo>
                      <a:lnTo>
                        <a:pt x="0" y="13950"/>
                      </a:lnTo>
                      <a:cubicBezTo>
                        <a:pt x="0" y="17775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63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flipH="1" rot="10800000">
                  <a:off x="2919240" y="3192840"/>
                  <a:ext cx="290880" cy="108720"/>
                </a:xfrm>
                <a:custGeom>
                  <a:avLst/>
                  <a:gdLst>
                    <a:gd name="textAreaLeft" fmla="*/ 85320 w 290880"/>
                    <a:gd name="textAreaRight" fmla="*/ 291240 w 290880"/>
                    <a:gd name="textAreaTop" fmla="*/ 19080 h 108720"/>
                    <a:gd name="textAreaBottom" fmla="*/ 89640 h 10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3825"/>
                        <a:pt x="0" y="7650"/>
                      </a:cubicBezTo>
                      <a:lnTo>
                        <a:pt x="0" y="13950"/>
                      </a:lnTo>
                      <a:cubicBezTo>
                        <a:pt x="0" y="17775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63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919240" y="4171680"/>
                <a:ext cx="533520" cy="217440"/>
                <a:chOff x="2919240" y="4171680"/>
                <a:chExt cx="533520" cy="217440"/>
              </a:xfrm>
            </p:grpSpPr>
            <p:sp>
              <p:nvSpPr>
                <p:cNvPr id="90" name=""/>
                <p:cNvSpPr/>
                <p:nvPr/>
              </p:nvSpPr>
              <p:spPr>
                <a:xfrm rot="10800000">
                  <a:off x="3161880" y="4171680"/>
                  <a:ext cx="290880" cy="108720"/>
                </a:xfrm>
                <a:custGeom>
                  <a:avLst/>
                  <a:gdLst>
                    <a:gd name="textAreaLeft" fmla="*/ 85320 w 290880"/>
                    <a:gd name="textAreaRight" fmla="*/ 291240 w 290880"/>
                    <a:gd name="textAreaTop" fmla="*/ 19080 h 108720"/>
                    <a:gd name="textAreaBottom" fmla="*/ 89640 h 10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3825"/>
                        <a:pt x="0" y="7650"/>
                      </a:cubicBezTo>
                      <a:lnTo>
                        <a:pt x="0" y="13950"/>
                      </a:lnTo>
                      <a:cubicBezTo>
                        <a:pt x="0" y="17775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63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flipH="1" rot="10800000">
                  <a:off x="2919240" y="4280400"/>
                  <a:ext cx="290880" cy="108720"/>
                </a:xfrm>
                <a:custGeom>
                  <a:avLst/>
                  <a:gdLst>
                    <a:gd name="textAreaLeft" fmla="*/ 85320 w 290880"/>
                    <a:gd name="textAreaRight" fmla="*/ 291240 w 290880"/>
                    <a:gd name="textAreaTop" fmla="*/ 19080 h 108720"/>
                    <a:gd name="textAreaBottom" fmla="*/ 89640 h 10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3825"/>
                        <a:pt x="0" y="7650"/>
                      </a:cubicBezTo>
                      <a:lnTo>
                        <a:pt x="0" y="13950"/>
                      </a:lnTo>
                      <a:cubicBezTo>
                        <a:pt x="0" y="17775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63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2919240" y="4389480"/>
                <a:ext cx="533520" cy="217440"/>
                <a:chOff x="2919240" y="4389480"/>
                <a:chExt cx="533520" cy="217440"/>
              </a:xfrm>
            </p:grpSpPr>
            <p:sp>
              <p:nvSpPr>
                <p:cNvPr id="93" name=""/>
                <p:cNvSpPr/>
                <p:nvPr/>
              </p:nvSpPr>
              <p:spPr>
                <a:xfrm rot="10800000">
                  <a:off x="3161880" y="4389480"/>
                  <a:ext cx="290880" cy="108720"/>
                </a:xfrm>
                <a:custGeom>
                  <a:avLst/>
                  <a:gdLst>
                    <a:gd name="textAreaLeft" fmla="*/ 85320 w 290880"/>
                    <a:gd name="textAreaRight" fmla="*/ 291240 w 290880"/>
                    <a:gd name="textAreaTop" fmla="*/ 19080 h 108720"/>
                    <a:gd name="textAreaBottom" fmla="*/ 89640 h 10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3825"/>
                        <a:pt x="0" y="7650"/>
                      </a:cubicBezTo>
                      <a:lnTo>
                        <a:pt x="0" y="13950"/>
                      </a:lnTo>
                      <a:cubicBezTo>
                        <a:pt x="0" y="17775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63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flipH="1" rot="10800000">
                  <a:off x="2919240" y="4498200"/>
                  <a:ext cx="290880" cy="108720"/>
                </a:xfrm>
                <a:custGeom>
                  <a:avLst/>
                  <a:gdLst>
                    <a:gd name="textAreaLeft" fmla="*/ 85320 w 290880"/>
                    <a:gd name="textAreaRight" fmla="*/ 291240 w 290880"/>
                    <a:gd name="textAreaTop" fmla="*/ 19080 h 108720"/>
                    <a:gd name="textAreaBottom" fmla="*/ 89640 h 10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3825"/>
                        <a:pt x="0" y="7650"/>
                      </a:cubicBezTo>
                      <a:lnTo>
                        <a:pt x="0" y="13950"/>
                      </a:lnTo>
                      <a:cubicBezTo>
                        <a:pt x="0" y="17775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63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919240" y="4606920"/>
                <a:ext cx="533520" cy="217440"/>
                <a:chOff x="2919240" y="4606920"/>
                <a:chExt cx="533520" cy="217440"/>
              </a:xfrm>
            </p:grpSpPr>
            <p:sp>
              <p:nvSpPr>
                <p:cNvPr id="96" name=""/>
                <p:cNvSpPr/>
                <p:nvPr/>
              </p:nvSpPr>
              <p:spPr>
                <a:xfrm rot="10800000">
                  <a:off x="3161880" y="4606920"/>
                  <a:ext cx="290880" cy="108720"/>
                </a:xfrm>
                <a:custGeom>
                  <a:avLst/>
                  <a:gdLst>
                    <a:gd name="textAreaLeft" fmla="*/ 85320 w 290880"/>
                    <a:gd name="textAreaRight" fmla="*/ 291240 w 290880"/>
                    <a:gd name="textAreaTop" fmla="*/ 19080 h 108720"/>
                    <a:gd name="textAreaBottom" fmla="*/ 89640 h 10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3825"/>
                        <a:pt x="0" y="7650"/>
                      </a:cubicBezTo>
                      <a:lnTo>
                        <a:pt x="0" y="13950"/>
                      </a:lnTo>
                      <a:cubicBezTo>
                        <a:pt x="0" y="17775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63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 rot="10800000">
                  <a:off x="2919240" y="4715640"/>
                  <a:ext cx="290880" cy="108720"/>
                </a:xfrm>
                <a:custGeom>
                  <a:avLst/>
                  <a:gdLst>
                    <a:gd name="textAreaLeft" fmla="*/ 85320 w 290880"/>
                    <a:gd name="textAreaRight" fmla="*/ 291240 w 290880"/>
                    <a:gd name="textAreaTop" fmla="*/ 19080 h 108720"/>
                    <a:gd name="textAreaBottom" fmla="*/ 89640 h 10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3825"/>
                        <a:pt x="0" y="7650"/>
                      </a:cubicBezTo>
                      <a:lnTo>
                        <a:pt x="0" y="13950"/>
                      </a:lnTo>
                      <a:cubicBezTo>
                        <a:pt x="0" y="17775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63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" name=""/>
            <p:cNvSpPr/>
            <p:nvPr/>
          </p:nvSpPr>
          <p:spPr>
            <a:xfrm>
              <a:off x="2919240" y="2773440"/>
              <a:ext cx="236880" cy="322920"/>
            </a:xfrm>
            <a:custGeom>
              <a:avLst/>
              <a:gdLst/>
              <a:ahLst/>
              <a:rect l="l" t="t" r="r" b="b"/>
              <a:pathLst>
                <a:path w="200" h="312">
                  <a:moveTo>
                    <a:pt x="200" y="288"/>
                  </a:moveTo>
                  <a:cubicBezTo>
                    <a:pt x="144" y="300"/>
                    <a:pt x="88" y="312"/>
                    <a:pt x="56" y="288"/>
                  </a:cubicBezTo>
                  <a:cubicBezTo>
                    <a:pt x="24" y="264"/>
                    <a:pt x="16" y="192"/>
                    <a:pt x="8" y="144"/>
                  </a:cubicBezTo>
                  <a:cubicBezTo>
                    <a:pt x="0" y="96"/>
                    <a:pt x="24" y="48"/>
                    <a:pt x="8" y="0"/>
                  </a:cubicBezTo>
                </a:path>
              </a:pathLst>
            </a:custGeom>
            <a:noFill/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3184920" y="4811400"/>
              <a:ext cx="237240" cy="322920"/>
            </a:xfrm>
            <a:custGeom>
              <a:avLst/>
              <a:gdLst/>
              <a:ahLst/>
              <a:rect l="l" t="t" r="r" b="b"/>
              <a:pathLst>
                <a:path w="200" h="312">
                  <a:moveTo>
                    <a:pt x="200" y="288"/>
                  </a:moveTo>
                  <a:cubicBezTo>
                    <a:pt x="144" y="300"/>
                    <a:pt x="88" y="312"/>
                    <a:pt x="56" y="288"/>
                  </a:cubicBezTo>
                  <a:cubicBezTo>
                    <a:pt x="24" y="264"/>
                    <a:pt x="16" y="192"/>
                    <a:pt x="8" y="144"/>
                  </a:cubicBezTo>
                  <a:cubicBezTo>
                    <a:pt x="0" y="96"/>
                    <a:pt x="24" y="48"/>
                    <a:pt x="8" y="0"/>
                  </a:cubicBezTo>
                </a:path>
              </a:pathLst>
            </a:custGeom>
            <a:noFill/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843280" y="2543040"/>
            <a:ext cx="175320" cy="198000"/>
            <a:chOff x="2843280" y="2543040"/>
            <a:chExt cx="175320" cy="198000"/>
          </a:xfrm>
        </p:grpSpPr>
        <p:sp>
          <p:nvSpPr>
            <p:cNvPr id="101" name=""/>
            <p:cNvSpPr/>
            <p:nvPr/>
          </p:nvSpPr>
          <p:spPr>
            <a:xfrm flipV="1">
              <a:off x="2927160" y="2603160"/>
              <a:ext cx="3960" cy="137880"/>
            </a:xfrm>
            <a:prstGeom prst="line">
              <a:avLst/>
            </a:prstGeom>
            <a:ln w="79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43280" y="2543040"/>
              <a:ext cx="175320" cy="6696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50" y="52"/>
                  </a:moveTo>
                  <a:lnTo>
                    <a:pt x="24" y="0"/>
                  </a:lnTo>
                  <a:lnTo>
                    <a:pt x="0" y="52"/>
                  </a:lnTo>
                  <a:lnTo>
                    <a:pt x="50" y="52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037200" y="3840120"/>
            <a:ext cx="140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abel 1. Kp =  f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5181480"/>
            <a:ext cx="434340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AL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ntuk mendapatkan  konversi (X) = 95 %, berapa panas (Q) yang harus dipindahkan dari konverter ? Asumsikan bahwa gas keluar konverter mendekati kondisi setimba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600200" y="30492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380880"/>
            <a:ext cx="64767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). Membuat KURVA KESETIMBANGAN (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A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A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ri Hukum Roul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352680" y="1295280"/>
                <a:ext cx="30862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vap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60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5</m:t>
                                </m:r>
                              </m:e>
                            </m: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5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10" name=""/>
          <p:cNvGraphicFramePr/>
          <p:nvPr/>
        </p:nvGraphicFramePr>
        <p:xfrm>
          <a:off x="1143000" y="2590920"/>
          <a:ext cx="6858000" cy="3456000"/>
        </p:xfrm>
        <a:graphic>
          <a:graphicData uri="http://schemas.openxmlformats.org/drawingml/2006/table">
            <a:tbl>
              <a:tblPr/>
              <a:tblGrid>
                <a:gridCol w="1673280"/>
                <a:gridCol w="1839960"/>
                <a:gridCol w="1504800"/>
                <a:gridCol w="183996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19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39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59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79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9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6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6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9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65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6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3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6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0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5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69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4781520" y="2647800"/>
                <a:ext cx="123840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o</m:t>
                            </m:r>
                          </m:sub>
                        </m:sSub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5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819440" y="2886120"/>
                <a:ext cx="3427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114720" y="2657520"/>
                <a:ext cx="1219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o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438960" y="2638440"/>
                <a:ext cx="1276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o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219320" y="609480"/>
            <a:ext cx="678168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). Menentukan kondisi intefa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ri Persamaan 14-14 (Bird: 22.5-21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buat grafik 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v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gambarkan GARIS OPERASI dan KUR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ESETIMBANGAN, gambarkan garis peng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ubung antara garis operasi dan kurva ke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timbangan dg slop –(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/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ri grafik diperoleh komposisi interfac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). Menentukan Tinggi tower (dengan Persamaan 14-15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334120" y="930240"/>
                <a:ext cx="30049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225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7" name=""/>
          <p:cNvGraphicFramePr/>
          <p:nvPr/>
        </p:nvGraphicFramePr>
        <p:xfrm>
          <a:off x="2286000" y="3949560"/>
          <a:ext cx="3429000" cy="927000"/>
        </p:xfrm>
        <a:graphic>
          <a:graphicData uri="http://schemas.openxmlformats.org/drawingml/2006/table">
            <a:tbl>
              <a:tblPr/>
              <a:tblGrid>
                <a:gridCol w="990720"/>
                <a:gridCol w="1143000"/>
                <a:gridCol w="1295280"/>
              </a:tblGrid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i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p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ttom 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9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6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209680" y="5398920"/>
                <a:ext cx="242568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e>
                            </m:d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num>
                              <m:den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</m:den>
                            </m:f>
                          </m:e>
                        </m:nary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6</m:t>
                            </m:r>
                            <m:r>
                              <m:t xml:space="preserve">,</m:t>
                            </m:r>
                            <m:r>
                              <m:t xml:space="preserve">8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2,0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 flipH="1">
            <a:off x="3247200" y="5334120"/>
            <a:ext cx="1219320" cy="761760"/>
          </a:xfrm>
          <a:prstGeom prst="wedgeRoundRectCallout">
            <a:avLst>
              <a:gd name="adj1" fmla="val -114064"/>
              <a:gd name="adj2" fmla="val 57078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77000" y="5938920"/>
            <a:ext cx="32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Bradley Hand ITC"/>
              </a:rPr>
              <a:t>dicari dg integrasi nume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ag00050_" descr=""/>
          <p:cNvPicPr/>
          <p:nvPr/>
        </p:nvPicPr>
        <p:blipFill>
          <a:blip r:embed="rId1"/>
          <a:stretch/>
        </p:blipFill>
        <p:spPr>
          <a:xfrm>
            <a:off x="8077320" y="5972040"/>
            <a:ext cx="609480" cy="2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28600" y="1144440"/>
            <a:ext cx="5334120" cy="540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5638680" y="2014560"/>
          <a:ext cx="3276720" cy="3929040"/>
        </p:xfrm>
        <a:graphic>
          <a:graphicData uri="http://schemas.openxmlformats.org/drawingml/2006/table">
            <a:tbl>
              <a:tblPr/>
              <a:tblGrid>
                <a:gridCol w="819360"/>
                <a:gridCol w="857160"/>
                <a:gridCol w="781200"/>
                <a:gridCol w="819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Ao-X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(YA-YA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gra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gn simp-son r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0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1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1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2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2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7391520" y="6033960"/>
            <a:ext cx="14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 = 31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12193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tegrasi nume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24080" y="265896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685800"/>
            <a:ext cx="7620120" cy="62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JAWAB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unakan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Neraca Massa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n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data kesetimbangan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untuk mencari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unakan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Neraca energi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ntuk mencari Q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1). Dari Persamaan 22.1-3 (Bi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French Script MT"/>
                <a:ea typeface="Tahoma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i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 =   </a:t>
            </a:r>
            <a:r>
              <a:rPr b="0" lang="en-US" sz="1600" spc="-1" strike="noStrike">
                <a:solidFill>
                  <a:srgbClr val="000000"/>
                </a:solidFill>
                <a:latin typeface="French Script MT"/>
                <a:ea typeface="Tahoma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i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 + 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i,tot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……………………………………………..(14-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ari Korelasi stoikiometri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So2,tot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=   -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SO3,to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…. ….………………………  (14-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O2,tot   =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½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SO2,t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aju alir molar yang melalui titik 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rench Script MT"/>
                <a:ea typeface="Tahoma"/>
              </a:rPr>
              <a:t>W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,SO2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=     7.80 -   (0.95).(7.80)          =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0.38  lbmol/j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rench Script MT"/>
                <a:ea typeface="Tahoma"/>
              </a:rPr>
              <a:t>W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,SO3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=      0       +  (0.95).(7.80)       =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7.42   lbmol/j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rench Script MT"/>
                <a:ea typeface="Tahoma"/>
              </a:rPr>
              <a:t>W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,O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     =      10.8  -   ½  (0.95). (7.80)  =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7.09   lbmol/j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rench Script MT"/>
                <a:ea typeface="Tahoma"/>
              </a:rPr>
              <a:t>W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,N2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=      </a:t>
            </a:r>
            <a:r>
              <a:rPr b="0" lang="en-US" sz="1400" spc="-1" strike="noStrike">
                <a:solidFill>
                  <a:srgbClr val="000000"/>
                </a:solidFill>
                <a:latin typeface="French Script MT"/>
                <a:ea typeface="Tahoma"/>
              </a:rPr>
              <a:t>W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,N2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81.40 lbmol/ja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otal   =    </a:t>
            </a:r>
            <a:r>
              <a:rPr b="1" lang="en-US" sz="1400" spc="-1" strike="noStrike">
                <a:solidFill>
                  <a:srgbClr val="000000"/>
                </a:solidFill>
                <a:latin typeface="French Script MT"/>
                <a:ea typeface="Tahoma"/>
              </a:rPr>
              <a:t>W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96.29 lbmol/jam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4952880" y="2895480"/>
            <a:ext cx="228600" cy="533520"/>
          </a:xfrm>
          <a:custGeom>
            <a:avLst/>
            <a:gdLst>
              <a:gd name="textAreaLeft" fmla="*/ 0 w 228600"/>
              <a:gd name="textAreaRight" fmla="*/ 82440 w 22860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90720" y="316080"/>
            <a:ext cx="746748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ri persamaan (14-1)  maka Kp dapat dievaluasi sebagai beriku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ri Tabel 1 (Kp  =f(t))  diperoleh bahwa  Kp = 72 at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terletak pada T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510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2).  Jika energi kinetik dan potensial diabaikan maka neraca energi  dari persamaan  22.3-1 dapat ditulis  sebagai berikut 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talpi pembentukan satandar komponen-i pada temperatur ref. T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519280" y="685800"/>
                <a:ext cx="34768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p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7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9</m:t>
                                </m:r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m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52760" y="2666880"/>
                <a:ext cx="57657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~"/>
                                          </m:acc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~"/>
                                          </m:acc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g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 flipV="1">
            <a:off x="2971800" y="34286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371600" y="4495680"/>
          <a:ext cx="6553080" cy="2244960"/>
        </p:xfrm>
        <a:graphic>
          <a:graphicData uri="http://schemas.openxmlformats.org/drawingml/2006/table">
            <a:tbl>
              <a:tblPr/>
              <a:tblGrid>
                <a:gridCol w="1447920"/>
                <a:gridCol w="1371600"/>
                <a:gridCol w="685800"/>
                <a:gridCol w="761760"/>
                <a:gridCol w="1067040"/>
                <a:gridCol w="1218960"/>
              </a:tblGrid>
              <a:tr h="593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on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ada 25 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al/gmo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p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vg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i 25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al/gmol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French Script MT"/>
                        </a:rPr>
                        <a:t>W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tu/ja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French Script MT"/>
                        </a:rPr>
                        <a:t>W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tu/ja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0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0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09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4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31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4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58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38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47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1359720" y="414648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bel 2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14400" y="457200"/>
            <a:ext cx="60199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ri Tabel  2 dan persamaan (14-4) maka diperoleh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Q  = - 438800- (-647400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= 208600 btu/ja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ntoh 22.5-2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nentukan Tinggi kolom isian (absorb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3871800"/>
            <a:ext cx="2590560" cy="17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as A yang dapat larut dalam solven L ingin dipisahkan dari campuran gas lain yang tidak larut dalam cairan solven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023840" y="2666880"/>
            <a:ext cx="4614840" cy="3962160"/>
            <a:chOff x="1023840" y="2666880"/>
            <a:chExt cx="4614840" cy="3962160"/>
          </a:xfrm>
        </p:grpSpPr>
        <p:sp>
          <p:nvSpPr>
            <p:cNvPr id="121" name=""/>
            <p:cNvSpPr/>
            <p:nvPr/>
          </p:nvSpPr>
          <p:spPr>
            <a:xfrm>
              <a:off x="2666880" y="3640680"/>
              <a:ext cx="533520" cy="2091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00400" y="3640680"/>
              <a:ext cx="533520" cy="2091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71800" y="3242160"/>
              <a:ext cx="0" cy="39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429000" y="3242160"/>
              <a:ext cx="0" cy="39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3640680"/>
              <a:ext cx="0" cy="20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2320" y="3640680"/>
              <a:ext cx="0" cy="89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23840" y="2682000"/>
              <a:ext cx="1981440" cy="98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Liquid 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rench Script MT"/>
                </a:rPr>
                <a:t>W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ahoma"/>
                </a:rPr>
                <a:t>L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= solute-free liquid r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ahoma"/>
                </a:rPr>
                <a:t>A1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 =mole ratio of solu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29000" y="2666880"/>
              <a:ext cx="220968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as 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rench Script MT"/>
                </a:rPr>
                <a:t>W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ahoma"/>
                </a:rPr>
                <a:t>G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= solute-free gas r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ahoma"/>
                </a:rPr>
                <a:t>A1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 = mol ratio of solu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52480" y="4423320"/>
              <a:ext cx="30492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09680" y="3851280"/>
              <a:ext cx="22860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62320" y="45370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38280" y="483516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62320" y="4537080"/>
              <a:ext cx="2286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33720" y="5633280"/>
              <a:ext cx="838080" cy="99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rench Script MT"/>
                </a:rPr>
                <a:t>W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Liquid 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5320" y="5832360"/>
              <a:ext cx="685800" cy="69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rench Script MT"/>
                </a:rPr>
                <a:t>W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as 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3429000" y="4834800"/>
              <a:ext cx="0" cy="498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995560" y="4692240"/>
              <a:ext cx="380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429000" y="3939840"/>
              <a:ext cx="0" cy="496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505320" y="5732280"/>
              <a:ext cx="0" cy="39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71800" y="5732280"/>
              <a:ext cx="0" cy="39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52480" y="573048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52480" y="363708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48120" y="3463200"/>
              <a:ext cx="304920" cy="32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933720" y="5562000"/>
              <a:ext cx="304920" cy="32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62120" y="228600"/>
            <a:ext cx="807696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). Neraca massa makroskopik over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ri persamaan 22.1-3 (Bird) dapat dituliskan (untuk solute A) sebgai berikut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iquid stream ) 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French Script MT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Al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- </a:t>
            </a:r>
            <a:r>
              <a:rPr b="0" lang="en-US" sz="1600" spc="-1" strike="noStrike">
                <a:solidFill>
                  <a:srgbClr val="000000"/>
                </a:solidFill>
                <a:latin typeface="French Script MT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Al1            = </a:t>
            </a:r>
            <a:r>
              <a:rPr b="0" lang="en-US" sz="1600" spc="-1" strike="noStrike">
                <a:solidFill>
                  <a:srgbClr val="000000"/>
                </a:solidFill>
                <a:latin typeface="French Script MT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Al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(m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…………………………. (14-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Gas stream  )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………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French Script MT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Ag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- </a:t>
            </a:r>
            <a:r>
              <a:rPr b="0" lang="en-US" sz="1600" spc="-1" strike="noStrike">
                <a:solidFill>
                  <a:srgbClr val="000000"/>
                </a:solidFill>
                <a:latin typeface="French Script MT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Ag1            = </a:t>
            </a:r>
            <a:r>
              <a:rPr b="0" lang="en-US" sz="1600" spc="-1" strike="noStrike">
                <a:solidFill>
                  <a:srgbClr val="000000"/>
                </a:solidFill>
                <a:latin typeface="French Script MT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Ag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(m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………………………. (14-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leh karena    </a:t>
            </a:r>
            <a:r>
              <a:rPr b="0" lang="en-US" sz="1600" spc="-1" strike="noStrike">
                <a:solidFill>
                  <a:srgbClr val="000000"/>
                </a:solidFill>
                <a:latin typeface="French Script MT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Al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(m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= - </a:t>
            </a:r>
            <a:r>
              <a:rPr b="0" lang="en-US" sz="1600" spc="-1" strike="noStrike">
                <a:solidFill>
                  <a:srgbClr val="000000"/>
                </a:solidFill>
                <a:latin typeface="French Script MT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Ag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(m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, maka pers (22-6) dan (22-7) dpt digabung  sb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French Script MT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Al2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 </a:t>
            </a:r>
            <a:r>
              <a:rPr b="0" lang="en-US" sz="1600" spc="-1" strike="noStrike">
                <a:solidFill>
                  <a:srgbClr val="000000"/>
                </a:solidFill>
                <a:latin typeface="French Script MT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Al1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- (</a:t>
            </a:r>
            <a:r>
              <a:rPr b="0" lang="en-US" sz="1600" spc="-1" strike="noStrike">
                <a:solidFill>
                  <a:srgbClr val="000000"/>
                </a:solidFill>
                <a:latin typeface="French Script MT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Ag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en-US" sz="1600" spc="-1" strike="noStrike">
                <a:solidFill>
                  <a:srgbClr val="000000"/>
                </a:solidFill>
                <a:latin typeface="French Script MT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Ag1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  ………………….…………………………….…(14-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ench Script MT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French Script MT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Al2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</a:t>
            </a:r>
            <a:r>
              <a:rPr b="0" lang="en-US" sz="1600" spc="-1" strike="noStrike">
                <a:solidFill>
                  <a:srgbClr val="000000"/>
                </a:solidFill>
                <a:latin typeface="French Script MT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ench Script MT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French Script MT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Al1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French Script MT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ench Script MT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French Script MT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Ag2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French Script MT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ench Script MT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French Script MT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Ag1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French Script MT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320040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273480" y="3565440"/>
                <a:ext cx="56404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3301200" y="3124080"/>
            <a:ext cx="32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suk ke pers (22-8), diperoleh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2514600"/>
            <a:ext cx="320040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3505320"/>
            <a:ext cx="2361960" cy="6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04960" y="4630680"/>
            <a:ext cx="80200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alogi dengan persamaan (14-9),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di setiap titik di kolom Absorber dapat dicar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ri persamaan berik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516040" y="5486400"/>
                <a:ext cx="64724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2743200" y="5410080"/>
            <a:ext cx="2362320" cy="762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13640" y="617220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Garis opera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828800" y="53352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380880"/>
            <a:ext cx="708660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)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Aplikasi Neraca Massa Makroskopis dalam bentuk diferens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(i). Menentukan kondisi interfa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ri persamaan 21.3-2 dan 21.3-3 (Bird) sebagai berikut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=  interfacial area perunit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packed volume of T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 = Cross sectional area of T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l fraksi A pd fasa bulk cair dan gas ….(14-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216160" y="1676520"/>
                <a:ext cx="5952960" cy="13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d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l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a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)</m:t>
                        </m:r>
                      </m:e>
                      <m:e>
                        <m:sSubSup>
                          <m:e>
                            <m:r>
                              <m:t xml:space="preserve">d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g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a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938240" y="3962520"/>
                <a:ext cx="141444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352680" y="41148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5487840"/>
            <a:ext cx="60958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A0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l fraksi A pada interfacial, untuk fasa cair dan 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90920" y="5638680"/>
            <a:ext cx="304560" cy="533520"/>
          </a:xfrm>
          <a:custGeom>
            <a:avLst/>
            <a:gdLst>
              <a:gd name="textAreaLeft" fmla="*/ 0 w 304560"/>
              <a:gd name="textAreaRight" fmla="*/ 109800 w 3045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579"/>
                </a:lnTo>
                <a:cubicBezTo>
                  <a:pt x="10800" y="10479"/>
                  <a:pt x="16200" y="11379"/>
                  <a:pt x="21600" y="11379"/>
                </a:cubicBezTo>
                <a:cubicBezTo>
                  <a:pt x="16200" y="11379"/>
                  <a:pt x="10800" y="12279"/>
                  <a:pt x="10800" y="1317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3962520"/>
            <a:ext cx="144756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5120" y="4572000"/>
            <a:ext cx="144756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38080" y="228600"/>
            <a:ext cx="7925040" cy="47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tuk larutan yang sangat encer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da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&lt;&lt;&lt; 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leh karen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ka kombinasi dari pers (14-11), (14-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n ( 14-13) diperoleh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i) Menentukan Tinggi Kol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ngan asumsi bahwa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f (komposisi), yaitu untuk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arutan ence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maka tinggi kolom dapat dicari dengan persamaan berik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au Untuk larutan yang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angat ence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: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514760" y="3213000"/>
                <a:ext cx="114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YA</m:t>
                            </m:r>
                            <m:r>
                              <m:t xml:space="preserve">2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362320" y="612720"/>
                <a:ext cx="18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l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d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g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905120" y="1447920"/>
                <a:ext cx="628812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666800" y="3429000"/>
                <a:ext cx="61912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676520" y="5002200"/>
                <a:ext cx="22352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o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990720" y="5850000"/>
                <a:ext cx="32018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ngan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A</m:t>
                                            </m:r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A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A</m:t>
                                            </m:r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A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1828800" y="1447920"/>
            <a:ext cx="2209680" cy="6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4952880"/>
            <a:ext cx="2362320" cy="6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3429000"/>
            <a:ext cx="2362320" cy="762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13240" y="5084640"/>
            <a:ext cx="33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……………………………………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14-1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295280" y="83808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685800"/>
            <a:ext cx="7162920" cy="56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blem 22-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olom absorber digunakan untuk memisahkan 90% sikloheksana dari campuran sikloheksana –udara, menggunakan minyak ringan non-volatil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600200" y="2131920"/>
            <a:ext cx="4267080" cy="3783600"/>
            <a:chOff x="1600200" y="2131920"/>
            <a:chExt cx="4267080" cy="3783600"/>
          </a:xfrm>
        </p:grpSpPr>
        <p:sp>
          <p:nvSpPr>
            <p:cNvPr id="184" name=""/>
            <p:cNvSpPr/>
            <p:nvPr/>
          </p:nvSpPr>
          <p:spPr>
            <a:xfrm>
              <a:off x="2971800" y="2895480"/>
              <a:ext cx="914400" cy="190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24080" y="25905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2209680" y="25905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81280" y="25905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3580920" y="259056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124080" y="47242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33920" y="5181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057040" y="51051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33920" y="4800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09880" y="4800600"/>
              <a:ext cx="121932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A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ench Script MT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00200" y="4676760"/>
              <a:ext cx="2133720" cy="12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French Script MT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Y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aA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  G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Q=363 ft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/m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=30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kloheksana =1% v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86200" y="2666880"/>
              <a:ext cx="121932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inya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A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ench Script MT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05320" y="2131920"/>
              <a:ext cx="236196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kloheksana = 0.3% m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ench Script MT"/>
                </a:rPr>
                <a:t>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=20 lbmol/j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33720" y="2209680"/>
              <a:ext cx="121896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Y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A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ench Script MT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5410080" y="3124080"/>
            <a:ext cx="335304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ua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sikloheksana pada 30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121 mmH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rutan sikloheksana dlm minya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anggap mengikuti hk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Raoul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tanyaan: Hitung tinggi kol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sorber terseb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bd13727_" descr=""/>
          <p:cNvPicPr/>
          <p:nvPr/>
        </p:nvPicPr>
        <p:blipFill>
          <a:blip r:embed="rId1"/>
          <a:stretch/>
        </p:blipFill>
        <p:spPr>
          <a:xfrm>
            <a:off x="5715000" y="5715000"/>
            <a:ext cx="198108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171360"/>
            <a:ext cx="7010280" cy="64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`  a). Membuat garis opera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A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A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A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A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828800" y="952560"/>
                <a:ext cx="5518080" cy="22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100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3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301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0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010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jam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63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59</m:t>
                                </m:r>
                              </m:e>
                            </m:d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7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03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t xml:space="preserve">,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jam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905120" y="2986200"/>
                <a:ext cx="4876560" cy="22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au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5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7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psi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6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</m:e>
                            </m:d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t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j</m:t>
                                </m:r>
                              </m:den>
                            </m:f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3</m:t>
                            </m:r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t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psia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atmmol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46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30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6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4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010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10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8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2666880" y="5410080"/>
            <a:ext cx="152640" cy="533520"/>
          </a:xfrm>
          <a:custGeom>
            <a:avLst/>
            <a:gdLst>
              <a:gd name="textAreaLeft" fmla="*/ 0 w 152640"/>
              <a:gd name="textAreaRight" fmla="*/ 55080 w 15264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48120" y="55627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ARIS OPERA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1T07:39:23Z</dcterms:created>
  <dc:creator>RPFT</dc:creator>
  <dc:description/>
  <dc:language>en-US</dc:language>
  <cp:lastModifiedBy>Bismillah</cp:lastModifiedBy>
  <dcterms:modified xsi:type="dcterms:W3CDTF">2004-03-29T16:58:11Z</dcterms:modified>
  <cp:revision>39</cp:revision>
  <dc:subject/>
  <dc:title>Ch. 22 NERACA MAKROSKOPIK PADA SISTEM MULTIKOMPONEN</dc:title>
</cp:coreProperties>
</file>