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3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3472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729280"/>
            <a:ext cx="2973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9280"/>
            <a:ext cx="2973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ABC8-DEAA-4DD2-BA0C-456A60839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333-1F02-4A90-94C1-83E73252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EBB-2456-4DAF-B846-FFF5821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36A-3275-4136-999E-FDE8DEE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DA8-7A99-4912-A33C-5101BD91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E4B6-8D00-476E-9AC3-96036B59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361-3A50-402C-9DAE-4B455115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D08-28E4-416E-8A37-517B57E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C9FE-28C7-497F-888D-BDB684E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578-6150-49DB-B333-154F1C3A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931-93CC-4E4C-A4AD-07F45B47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A970-79AD-4A14-9516-206DEEF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8F3-BB9C-4533-AFED-A25D3FD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ED92-FC2C-4D6B-90CD-481A13B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4361-BB4D-47D5-80A3-B398CF6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7E7-42A8-46CC-B3B8-0258A6F8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AE0B-413E-48AA-91E8-9F802ECC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9FC4-AF95-4429-B85E-DFEFD13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2B3-5CAB-43AD-B629-F39B657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02E-4D3F-4A86-9315-3B5D547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668-83ED-4B77-9F2A-6C6D0139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F50-1900-453D-AE4C-24D00932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013-DAE4-4F8B-9ADE-6043DE2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E4F-B6B9-49A3-8072-A9377B6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4D7-4DF5-4E1B-8A88-F7E3BBF5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4C11-A28C-49C3-95E5-9E5428EAEF8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702-902E-4398-BFD1-95D3B493493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05360" y="60948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empus Sans ITC"/>
              </a:rPr>
              <a:t>Bahan Kuliah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52240" y="1143000"/>
            <a:ext cx="61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Dutch801 Rm BT"/>
              </a:rPr>
              <a:t>PERISTIWA PERPINDAHA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07440" y="1828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Bagian 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7320" y="4292640"/>
            <a:ext cx="242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Bradley Hand ITC"/>
              </a:rPr>
              <a:t>Oleh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Ir. SLAMET, M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3080" y="5213520"/>
            <a:ext cx="51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gram Studi Teknik Kim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akultas Teknik – Universitas Indones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Juni 200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590920"/>
            <a:ext cx="1447920" cy="1279440"/>
          </a:xfrm>
          <a:custGeom>
            <a:avLst/>
            <a:gdLst/>
            <a:ahLst/>
            <a:rect l="l" t="t" r="r" b="b"/>
            <a:pathLst>
              <a:path w="1032" h="1026">
                <a:moveTo>
                  <a:pt x="291" y="684"/>
                </a:moveTo>
                <a:lnTo>
                  <a:pt x="247" y="715"/>
                </a:lnTo>
                <a:lnTo>
                  <a:pt x="211" y="760"/>
                </a:lnTo>
                <a:lnTo>
                  <a:pt x="187" y="807"/>
                </a:lnTo>
                <a:lnTo>
                  <a:pt x="159" y="788"/>
                </a:lnTo>
                <a:lnTo>
                  <a:pt x="183" y="753"/>
                </a:lnTo>
                <a:lnTo>
                  <a:pt x="215" y="722"/>
                </a:lnTo>
                <a:lnTo>
                  <a:pt x="251" y="700"/>
                </a:lnTo>
                <a:lnTo>
                  <a:pt x="291" y="684"/>
                </a:lnTo>
                <a:close/>
                <a:moveTo>
                  <a:pt x="211" y="820"/>
                </a:moveTo>
                <a:lnTo>
                  <a:pt x="227" y="779"/>
                </a:lnTo>
                <a:lnTo>
                  <a:pt x="255" y="741"/>
                </a:lnTo>
                <a:lnTo>
                  <a:pt x="287" y="709"/>
                </a:lnTo>
                <a:lnTo>
                  <a:pt x="267" y="747"/>
                </a:lnTo>
                <a:lnTo>
                  <a:pt x="255" y="788"/>
                </a:lnTo>
                <a:lnTo>
                  <a:pt x="251" y="833"/>
                </a:lnTo>
                <a:lnTo>
                  <a:pt x="251" y="833"/>
                </a:lnTo>
                <a:lnTo>
                  <a:pt x="219" y="823"/>
                </a:lnTo>
                <a:lnTo>
                  <a:pt x="211" y="820"/>
                </a:lnTo>
                <a:close/>
                <a:moveTo>
                  <a:pt x="486" y="92"/>
                </a:moveTo>
                <a:lnTo>
                  <a:pt x="474" y="146"/>
                </a:lnTo>
                <a:lnTo>
                  <a:pt x="474" y="200"/>
                </a:lnTo>
                <a:lnTo>
                  <a:pt x="486" y="250"/>
                </a:lnTo>
                <a:lnTo>
                  <a:pt x="454" y="238"/>
                </a:lnTo>
                <a:lnTo>
                  <a:pt x="434" y="216"/>
                </a:lnTo>
                <a:lnTo>
                  <a:pt x="422" y="187"/>
                </a:lnTo>
                <a:lnTo>
                  <a:pt x="422" y="159"/>
                </a:lnTo>
                <a:lnTo>
                  <a:pt x="434" y="130"/>
                </a:lnTo>
                <a:lnTo>
                  <a:pt x="454" y="108"/>
                </a:lnTo>
                <a:lnTo>
                  <a:pt x="486" y="92"/>
                </a:lnTo>
                <a:close/>
                <a:moveTo>
                  <a:pt x="414" y="950"/>
                </a:moveTo>
                <a:lnTo>
                  <a:pt x="398" y="984"/>
                </a:lnTo>
                <a:lnTo>
                  <a:pt x="371" y="1013"/>
                </a:lnTo>
                <a:lnTo>
                  <a:pt x="406" y="1022"/>
                </a:lnTo>
                <a:lnTo>
                  <a:pt x="446" y="1022"/>
                </a:lnTo>
                <a:lnTo>
                  <a:pt x="426" y="1000"/>
                </a:lnTo>
                <a:lnTo>
                  <a:pt x="418" y="978"/>
                </a:lnTo>
                <a:lnTo>
                  <a:pt x="414" y="950"/>
                </a:lnTo>
                <a:close/>
                <a:moveTo>
                  <a:pt x="430" y="889"/>
                </a:moveTo>
                <a:lnTo>
                  <a:pt x="390" y="921"/>
                </a:lnTo>
                <a:lnTo>
                  <a:pt x="347" y="950"/>
                </a:lnTo>
                <a:lnTo>
                  <a:pt x="307" y="962"/>
                </a:lnTo>
                <a:lnTo>
                  <a:pt x="263" y="965"/>
                </a:lnTo>
                <a:lnTo>
                  <a:pt x="303" y="991"/>
                </a:lnTo>
                <a:lnTo>
                  <a:pt x="347" y="1007"/>
                </a:lnTo>
                <a:lnTo>
                  <a:pt x="386" y="975"/>
                </a:lnTo>
                <a:lnTo>
                  <a:pt x="414" y="934"/>
                </a:lnTo>
                <a:lnTo>
                  <a:pt x="430" y="889"/>
                </a:lnTo>
                <a:close/>
                <a:moveTo>
                  <a:pt x="139" y="709"/>
                </a:moveTo>
                <a:lnTo>
                  <a:pt x="127" y="731"/>
                </a:lnTo>
                <a:lnTo>
                  <a:pt x="108" y="744"/>
                </a:lnTo>
                <a:lnTo>
                  <a:pt x="84" y="744"/>
                </a:lnTo>
                <a:lnTo>
                  <a:pt x="60" y="734"/>
                </a:lnTo>
                <a:lnTo>
                  <a:pt x="68" y="760"/>
                </a:lnTo>
                <a:lnTo>
                  <a:pt x="92" y="772"/>
                </a:lnTo>
                <a:lnTo>
                  <a:pt x="116" y="772"/>
                </a:lnTo>
                <a:lnTo>
                  <a:pt x="139" y="757"/>
                </a:lnTo>
                <a:lnTo>
                  <a:pt x="147" y="734"/>
                </a:lnTo>
                <a:lnTo>
                  <a:pt x="139" y="709"/>
                </a:lnTo>
                <a:close/>
                <a:moveTo>
                  <a:pt x="32" y="671"/>
                </a:moveTo>
                <a:lnTo>
                  <a:pt x="36" y="696"/>
                </a:lnTo>
                <a:lnTo>
                  <a:pt x="56" y="719"/>
                </a:lnTo>
                <a:lnTo>
                  <a:pt x="84" y="728"/>
                </a:lnTo>
                <a:lnTo>
                  <a:pt x="112" y="722"/>
                </a:lnTo>
                <a:lnTo>
                  <a:pt x="131" y="703"/>
                </a:lnTo>
                <a:lnTo>
                  <a:pt x="139" y="678"/>
                </a:lnTo>
                <a:lnTo>
                  <a:pt x="135" y="652"/>
                </a:lnTo>
                <a:lnTo>
                  <a:pt x="116" y="674"/>
                </a:lnTo>
                <a:lnTo>
                  <a:pt x="88" y="687"/>
                </a:lnTo>
                <a:lnTo>
                  <a:pt x="56" y="687"/>
                </a:lnTo>
                <a:lnTo>
                  <a:pt x="32" y="671"/>
                </a:lnTo>
                <a:close/>
                <a:moveTo>
                  <a:pt x="135" y="598"/>
                </a:moveTo>
                <a:lnTo>
                  <a:pt x="104" y="617"/>
                </a:lnTo>
                <a:lnTo>
                  <a:pt x="72" y="624"/>
                </a:lnTo>
                <a:lnTo>
                  <a:pt x="36" y="614"/>
                </a:lnTo>
                <a:lnTo>
                  <a:pt x="12" y="592"/>
                </a:lnTo>
                <a:lnTo>
                  <a:pt x="8" y="621"/>
                </a:lnTo>
                <a:lnTo>
                  <a:pt x="20" y="646"/>
                </a:lnTo>
                <a:lnTo>
                  <a:pt x="40" y="665"/>
                </a:lnTo>
                <a:lnTo>
                  <a:pt x="68" y="671"/>
                </a:lnTo>
                <a:lnTo>
                  <a:pt x="96" y="668"/>
                </a:lnTo>
                <a:lnTo>
                  <a:pt x="120" y="652"/>
                </a:lnTo>
                <a:lnTo>
                  <a:pt x="131" y="627"/>
                </a:lnTo>
                <a:lnTo>
                  <a:pt x="135" y="598"/>
                </a:lnTo>
                <a:close/>
                <a:moveTo>
                  <a:pt x="386" y="583"/>
                </a:moveTo>
                <a:lnTo>
                  <a:pt x="379" y="567"/>
                </a:lnTo>
                <a:lnTo>
                  <a:pt x="367" y="560"/>
                </a:lnTo>
                <a:lnTo>
                  <a:pt x="351" y="567"/>
                </a:lnTo>
                <a:lnTo>
                  <a:pt x="347" y="583"/>
                </a:lnTo>
                <a:lnTo>
                  <a:pt x="351" y="598"/>
                </a:lnTo>
                <a:lnTo>
                  <a:pt x="367" y="602"/>
                </a:lnTo>
                <a:lnTo>
                  <a:pt x="379" y="598"/>
                </a:lnTo>
                <a:lnTo>
                  <a:pt x="386" y="583"/>
                </a:lnTo>
                <a:close/>
                <a:moveTo>
                  <a:pt x="24" y="412"/>
                </a:moveTo>
                <a:lnTo>
                  <a:pt x="12" y="437"/>
                </a:lnTo>
                <a:lnTo>
                  <a:pt x="8" y="469"/>
                </a:lnTo>
                <a:lnTo>
                  <a:pt x="20" y="497"/>
                </a:lnTo>
                <a:lnTo>
                  <a:pt x="40" y="519"/>
                </a:lnTo>
                <a:lnTo>
                  <a:pt x="68" y="532"/>
                </a:lnTo>
                <a:lnTo>
                  <a:pt x="100" y="532"/>
                </a:lnTo>
                <a:lnTo>
                  <a:pt x="127" y="519"/>
                </a:lnTo>
                <a:lnTo>
                  <a:pt x="151" y="497"/>
                </a:lnTo>
                <a:lnTo>
                  <a:pt x="159" y="469"/>
                </a:lnTo>
                <a:lnTo>
                  <a:pt x="127" y="481"/>
                </a:lnTo>
                <a:lnTo>
                  <a:pt x="96" y="478"/>
                </a:lnTo>
                <a:lnTo>
                  <a:pt x="64" y="466"/>
                </a:lnTo>
                <a:lnTo>
                  <a:pt x="40" y="440"/>
                </a:lnTo>
                <a:lnTo>
                  <a:pt x="24" y="412"/>
                </a:lnTo>
                <a:close/>
                <a:moveTo>
                  <a:pt x="275" y="333"/>
                </a:moveTo>
                <a:lnTo>
                  <a:pt x="235" y="317"/>
                </a:lnTo>
                <a:lnTo>
                  <a:pt x="207" y="285"/>
                </a:lnTo>
                <a:lnTo>
                  <a:pt x="187" y="247"/>
                </a:lnTo>
                <a:lnTo>
                  <a:pt x="183" y="206"/>
                </a:lnTo>
                <a:lnTo>
                  <a:pt x="195" y="165"/>
                </a:lnTo>
                <a:lnTo>
                  <a:pt x="159" y="181"/>
                </a:lnTo>
                <a:lnTo>
                  <a:pt x="131" y="206"/>
                </a:lnTo>
                <a:lnTo>
                  <a:pt x="112" y="238"/>
                </a:lnTo>
                <a:lnTo>
                  <a:pt x="108" y="276"/>
                </a:lnTo>
                <a:lnTo>
                  <a:pt x="120" y="314"/>
                </a:lnTo>
                <a:lnTo>
                  <a:pt x="143" y="339"/>
                </a:lnTo>
                <a:lnTo>
                  <a:pt x="175" y="355"/>
                </a:lnTo>
                <a:lnTo>
                  <a:pt x="211" y="361"/>
                </a:lnTo>
                <a:lnTo>
                  <a:pt x="247" y="352"/>
                </a:lnTo>
                <a:lnTo>
                  <a:pt x="275" y="333"/>
                </a:lnTo>
                <a:close/>
                <a:moveTo>
                  <a:pt x="514" y="684"/>
                </a:moveTo>
                <a:lnTo>
                  <a:pt x="510" y="684"/>
                </a:lnTo>
                <a:lnTo>
                  <a:pt x="506" y="690"/>
                </a:lnTo>
                <a:lnTo>
                  <a:pt x="494" y="731"/>
                </a:lnTo>
                <a:lnTo>
                  <a:pt x="474" y="769"/>
                </a:lnTo>
                <a:lnTo>
                  <a:pt x="446" y="801"/>
                </a:lnTo>
                <a:lnTo>
                  <a:pt x="406" y="823"/>
                </a:lnTo>
                <a:lnTo>
                  <a:pt x="363" y="833"/>
                </a:lnTo>
                <a:lnTo>
                  <a:pt x="319" y="839"/>
                </a:lnTo>
                <a:lnTo>
                  <a:pt x="271" y="836"/>
                </a:lnTo>
                <a:lnTo>
                  <a:pt x="271" y="836"/>
                </a:lnTo>
                <a:lnTo>
                  <a:pt x="271" y="791"/>
                </a:lnTo>
                <a:lnTo>
                  <a:pt x="287" y="747"/>
                </a:lnTo>
                <a:lnTo>
                  <a:pt x="315" y="709"/>
                </a:lnTo>
                <a:lnTo>
                  <a:pt x="355" y="681"/>
                </a:lnTo>
                <a:lnTo>
                  <a:pt x="363" y="696"/>
                </a:lnTo>
                <a:lnTo>
                  <a:pt x="379" y="703"/>
                </a:lnTo>
                <a:lnTo>
                  <a:pt x="394" y="700"/>
                </a:lnTo>
                <a:lnTo>
                  <a:pt x="402" y="687"/>
                </a:lnTo>
                <a:lnTo>
                  <a:pt x="402" y="671"/>
                </a:lnTo>
                <a:lnTo>
                  <a:pt x="390" y="662"/>
                </a:lnTo>
                <a:lnTo>
                  <a:pt x="347" y="659"/>
                </a:lnTo>
                <a:lnTo>
                  <a:pt x="303" y="665"/>
                </a:lnTo>
                <a:lnTo>
                  <a:pt x="247" y="684"/>
                </a:lnTo>
                <a:lnTo>
                  <a:pt x="199" y="712"/>
                </a:lnTo>
                <a:lnTo>
                  <a:pt x="155" y="750"/>
                </a:lnTo>
                <a:lnTo>
                  <a:pt x="123" y="791"/>
                </a:lnTo>
                <a:lnTo>
                  <a:pt x="163" y="826"/>
                </a:lnTo>
                <a:lnTo>
                  <a:pt x="211" y="848"/>
                </a:lnTo>
                <a:lnTo>
                  <a:pt x="263" y="861"/>
                </a:lnTo>
                <a:lnTo>
                  <a:pt x="307" y="864"/>
                </a:lnTo>
                <a:lnTo>
                  <a:pt x="347" y="858"/>
                </a:lnTo>
                <a:lnTo>
                  <a:pt x="390" y="842"/>
                </a:lnTo>
                <a:lnTo>
                  <a:pt x="450" y="820"/>
                </a:lnTo>
                <a:lnTo>
                  <a:pt x="514" y="814"/>
                </a:lnTo>
                <a:lnTo>
                  <a:pt x="582" y="820"/>
                </a:lnTo>
                <a:lnTo>
                  <a:pt x="642" y="842"/>
                </a:lnTo>
                <a:lnTo>
                  <a:pt x="681" y="858"/>
                </a:lnTo>
                <a:lnTo>
                  <a:pt x="725" y="864"/>
                </a:lnTo>
                <a:lnTo>
                  <a:pt x="769" y="861"/>
                </a:lnTo>
                <a:lnTo>
                  <a:pt x="821" y="848"/>
                </a:lnTo>
                <a:lnTo>
                  <a:pt x="869" y="826"/>
                </a:lnTo>
                <a:lnTo>
                  <a:pt x="909" y="791"/>
                </a:lnTo>
                <a:lnTo>
                  <a:pt x="873" y="750"/>
                </a:lnTo>
                <a:lnTo>
                  <a:pt x="829" y="712"/>
                </a:lnTo>
                <a:lnTo>
                  <a:pt x="781" y="684"/>
                </a:lnTo>
                <a:lnTo>
                  <a:pt x="729" y="665"/>
                </a:lnTo>
                <a:lnTo>
                  <a:pt x="685" y="659"/>
                </a:lnTo>
                <a:lnTo>
                  <a:pt x="642" y="662"/>
                </a:lnTo>
                <a:lnTo>
                  <a:pt x="630" y="671"/>
                </a:lnTo>
                <a:lnTo>
                  <a:pt x="626" y="687"/>
                </a:lnTo>
                <a:lnTo>
                  <a:pt x="638" y="700"/>
                </a:lnTo>
                <a:lnTo>
                  <a:pt x="653" y="703"/>
                </a:lnTo>
                <a:lnTo>
                  <a:pt x="669" y="696"/>
                </a:lnTo>
                <a:lnTo>
                  <a:pt x="673" y="681"/>
                </a:lnTo>
                <a:lnTo>
                  <a:pt x="713" y="709"/>
                </a:lnTo>
                <a:lnTo>
                  <a:pt x="741" y="747"/>
                </a:lnTo>
                <a:lnTo>
                  <a:pt x="757" y="791"/>
                </a:lnTo>
                <a:lnTo>
                  <a:pt x="757" y="836"/>
                </a:lnTo>
                <a:lnTo>
                  <a:pt x="757" y="836"/>
                </a:lnTo>
                <a:lnTo>
                  <a:pt x="713" y="839"/>
                </a:lnTo>
                <a:lnTo>
                  <a:pt x="665" y="833"/>
                </a:lnTo>
                <a:lnTo>
                  <a:pt x="622" y="823"/>
                </a:lnTo>
                <a:lnTo>
                  <a:pt x="586" y="801"/>
                </a:lnTo>
                <a:lnTo>
                  <a:pt x="554" y="769"/>
                </a:lnTo>
                <a:lnTo>
                  <a:pt x="534" y="731"/>
                </a:lnTo>
                <a:lnTo>
                  <a:pt x="526" y="690"/>
                </a:lnTo>
                <a:lnTo>
                  <a:pt x="522" y="684"/>
                </a:lnTo>
                <a:lnTo>
                  <a:pt x="514" y="684"/>
                </a:lnTo>
                <a:close/>
                <a:moveTo>
                  <a:pt x="845" y="807"/>
                </a:moveTo>
                <a:lnTo>
                  <a:pt x="817" y="760"/>
                </a:lnTo>
                <a:lnTo>
                  <a:pt x="781" y="715"/>
                </a:lnTo>
                <a:lnTo>
                  <a:pt x="737" y="684"/>
                </a:lnTo>
                <a:lnTo>
                  <a:pt x="781" y="700"/>
                </a:lnTo>
                <a:lnTo>
                  <a:pt x="817" y="722"/>
                </a:lnTo>
                <a:lnTo>
                  <a:pt x="845" y="753"/>
                </a:lnTo>
                <a:lnTo>
                  <a:pt x="869" y="788"/>
                </a:lnTo>
                <a:lnTo>
                  <a:pt x="845" y="807"/>
                </a:lnTo>
                <a:close/>
                <a:moveTo>
                  <a:pt x="777" y="833"/>
                </a:moveTo>
                <a:lnTo>
                  <a:pt x="777" y="833"/>
                </a:lnTo>
                <a:lnTo>
                  <a:pt x="777" y="788"/>
                </a:lnTo>
                <a:lnTo>
                  <a:pt x="765" y="747"/>
                </a:lnTo>
                <a:lnTo>
                  <a:pt x="741" y="709"/>
                </a:lnTo>
                <a:lnTo>
                  <a:pt x="777" y="741"/>
                </a:lnTo>
                <a:lnTo>
                  <a:pt x="801" y="779"/>
                </a:lnTo>
                <a:lnTo>
                  <a:pt x="821" y="820"/>
                </a:lnTo>
                <a:lnTo>
                  <a:pt x="813" y="823"/>
                </a:lnTo>
                <a:lnTo>
                  <a:pt x="777" y="833"/>
                </a:lnTo>
                <a:close/>
                <a:moveTo>
                  <a:pt x="514" y="0"/>
                </a:moveTo>
                <a:lnTo>
                  <a:pt x="466" y="35"/>
                </a:lnTo>
                <a:lnTo>
                  <a:pt x="414" y="67"/>
                </a:lnTo>
                <a:lnTo>
                  <a:pt x="383" y="89"/>
                </a:lnTo>
                <a:lnTo>
                  <a:pt x="359" y="124"/>
                </a:lnTo>
                <a:lnTo>
                  <a:pt x="351" y="159"/>
                </a:lnTo>
                <a:lnTo>
                  <a:pt x="351" y="190"/>
                </a:lnTo>
                <a:lnTo>
                  <a:pt x="363" y="225"/>
                </a:lnTo>
                <a:lnTo>
                  <a:pt x="383" y="250"/>
                </a:lnTo>
                <a:lnTo>
                  <a:pt x="410" y="273"/>
                </a:lnTo>
                <a:lnTo>
                  <a:pt x="442" y="288"/>
                </a:lnTo>
                <a:lnTo>
                  <a:pt x="466" y="301"/>
                </a:lnTo>
                <a:lnTo>
                  <a:pt x="474" y="323"/>
                </a:lnTo>
                <a:lnTo>
                  <a:pt x="474" y="323"/>
                </a:lnTo>
                <a:lnTo>
                  <a:pt x="426" y="314"/>
                </a:lnTo>
                <a:lnTo>
                  <a:pt x="383" y="292"/>
                </a:lnTo>
                <a:lnTo>
                  <a:pt x="351" y="260"/>
                </a:lnTo>
                <a:lnTo>
                  <a:pt x="327" y="219"/>
                </a:lnTo>
                <a:lnTo>
                  <a:pt x="319" y="171"/>
                </a:lnTo>
                <a:lnTo>
                  <a:pt x="327" y="127"/>
                </a:lnTo>
                <a:lnTo>
                  <a:pt x="351" y="86"/>
                </a:lnTo>
                <a:lnTo>
                  <a:pt x="311" y="89"/>
                </a:lnTo>
                <a:lnTo>
                  <a:pt x="271" y="105"/>
                </a:lnTo>
                <a:lnTo>
                  <a:pt x="239" y="130"/>
                </a:lnTo>
                <a:lnTo>
                  <a:pt x="215" y="159"/>
                </a:lnTo>
                <a:lnTo>
                  <a:pt x="203" y="190"/>
                </a:lnTo>
                <a:lnTo>
                  <a:pt x="207" y="225"/>
                </a:lnTo>
                <a:lnTo>
                  <a:pt x="219" y="257"/>
                </a:lnTo>
                <a:lnTo>
                  <a:pt x="243" y="282"/>
                </a:lnTo>
                <a:lnTo>
                  <a:pt x="283" y="301"/>
                </a:lnTo>
                <a:lnTo>
                  <a:pt x="331" y="307"/>
                </a:lnTo>
                <a:lnTo>
                  <a:pt x="363" y="311"/>
                </a:lnTo>
                <a:lnTo>
                  <a:pt x="390" y="320"/>
                </a:lnTo>
                <a:lnTo>
                  <a:pt x="418" y="336"/>
                </a:lnTo>
                <a:lnTo>
                  <a:pt x="450" y="374"/>
                </a:lnTo>
                <a:lnTo>
                  <a:pt x="466" y="418"/>
                </a:lnTo>
                <a:lnTo>
                  <a:pt x="470" y="462"/>
                </a:lnTo>
                <a:lnTo>
                  <a:pt x="466" y="485"/>
                </a:lnTo>
                <a:lnTo>
                  <a:pt x="454" y="500"/>
                </a:lnTo>
                <a:lnTo>
                  <a:pt x="438" y="516"/>
                </a:lnTo>
                <a:lnTo>
                  <a:pt x="438" y="488"/>
                </a:lnTo>
                <a:lnTo>
                  <a:pt x="434" y="462"/>
                </a:lnTo>
                <a:lnTo>
                  <a:pt x="410" y="428"/>
                </a:lnTo>
                <a:lnTo>
                  <a:pt x="379" y="396"/>
                </a:lnTo>
                <a:lnTo>
                  <a:pt x="339" y="377"/>
                </a:lnTo>
                <a:lnTo>
                  <a:pt x="295" y="371"/>
                </a:lnTo>
                <a:lnTo>
                  <a:pt x="247" y="377"/>
                </a:lnTo>
                <a:lnTo>
                  <a:pt x="215" y="383"/>
                </a:lnTo>
                <a:lnTo>
                  <a:pt x="183" y="386"/>
                </a:lnTo>
                <a:lnTo>
                  <a:pt x="159" y="383"/>
                </a:lnTo>
                <a:lnTo>
                  <a:pt x="135" y="371"/>
                </a:lnTo>
                <a:lnTo>
                  <a:pt x="112" y="345"/>
                </a:lnTo>
                <a:lnTo>
                  <a:pt x="96" y="314"/>
                </a:lnTo>
                <a:lnTo>
                  <a:pt x="92" y="279"/>
                </a:lnTo>
                <a:lnTo>
                  <a:pt x="60" y="301"/>
                </a:lnTo>
                <a:lnTo>
                  <a:pt x="40" y="333"/>
                </a:lnTo>
                <a:lnTo>
                  <a:pt x="36" y="371"/>
                </a:lnTo>
                <a:lnTo>
                  <a:pt x="44" y="409"/>
                </a:lnTo>
                <a:lnTo>
                  <a:pt x="64" y="434"/>
                </a:lnTo>
                <a:lnTo>
                  <a:pt x="92" y="450"/>
                </a:lnTo>
                <a:lnTo>
                  <a:pt x="123" y="459"/>
                </a:lnTo>
                <a:lnTo>
                  <a:pt x="155" y="456"/>
                </a:lnTo>
                <a:lnTo>
                  <a:pt x="191" y="443"/>
                </a:lnTo>
                <a:lnTo>
                  <a:pt x="219" y="421"/>
                </a:lnTo>
                <a:lnTo>
                  <a:pt x="235" y="409"/>
                </a:lnTo>
                <a:lnTo>
                  <a:pt x="259" y="399"/>
                </a:lnTo>
                <a:lnTo>
                  <a:pt x="295" y="393"/>
                </a:lnTo>
                <a:lnTo>
                  <a:pt x="335" y="399"/>
                </a:lnTo>
                <a:lnTo>
                  <a:pt x="371" y="412"/>
                </a:lnTo>
                <a:lnTo>
                  <a:pt x="394" y="431"/>
                </a:lnTo>
                <a:lnTo>
                  <a:pt x="410" y="456"/>
                </a:lnTo>
                <a:lnTo>
                  <a:pt x="418" y="485"/>
                </a:lnTo>
                <a:lnTo>
                  <a:pt x="418" y="516"/>
                </a:lnTo>
                <a:lnTo>
                  <a:pt x="414" y="519"/>
                </a:lnTo>
                <a:lnTo>
                  <a:pt x="406" y="516"/>
                </a:lnTo>
                <a:lnTo>
                  <a:pt x="402" y="488"/>
                </a:lnTo>
                <a:lnTo>
                  <a:pt x="386" y="462"/>
                </a:lnTo>
                <a:lnTo>
                  <a:pt x="363" y="447"/>
                </a:lnTo>
                <a:lnTo>
                  <a:pt x="323" y="434"/>
                </a:lnTo>
                <a:lnTo>
                  <a:pt x="275" y="434"/>
                </a:lnTo>
                <a:lnTo>
                  <a:pt x="235" y="453"/>
                </a:lnTo>
                <a:lnTo>
                  <a:pt x="199" y="481"/>
                </a:lnTo>
                <a:lnTo>
                  <a:pt x="147" y="532"/>
                </a:lnTo>
                <a:lnTo>
                  <a:pt x="112" y="545"/>
                </a:lnTo>
                <a:lnTo>
                  <a:pt x="72" y="548"/>
                </a:lnTo>
                <a:lnTo>
                  <a:pt x="36" y="535"/>
                </a:lnTo>
                <a:lnTo>
                  <a:pt x="8" y="510"/>
                </a:lnTo>
                <a:lnTo>
                  <a:pt x="0" y="532"/>
                </a:lnTo>
                <a:lnTo>
                  <a:pt x="0" y="554"/>
                </a:lnTo>
                <a:lnTo>
                  <a:pt x="8" y="576"/>
                </a:lnTo>
                <a:lnTo>
                  <a:pt x="28" y="592"/>
                </a:lnTo>
                <a:lnTo>
                  <a:pt x="60" y="605"/>
                </a:lnTo>
                <a:lnTo>
                  <a:pt x="96" y="602"/>
                </a:lnTo>
                <a:lnTo>
                  <a:pt x="127" y="589"/>
                </a:lnTo>
                <a:lnTo>
                  <a:pt x="155" y="567"/>
                </a:lnTo>
                <a:lnTo>
                  <a:pt x="219" y="494"/>
                </a:lnTo>
                <a:lnTo>
                  <a:pt x="235" y="478"/>
                </a:lnTo>
                <a:lnTo>
                  <a:pt x="251" y="462"/>
                </a:lnTo>
                <a:lnTo>
                  <a:pt x="283" y="453"/>
                </a:lnTo>
                <a:lnTo>
                  <a:pt x="315" y="450"/>
                </a:lnTo>
                <a:lnTo>
                  <a:pt x="347" y="456"/>
                </a:lnTo>
                <a:lnTo>
                  <a:pt x="371" y="472"/>
                </a:lnTo>
                <a:lnTo>
                  <a:pt x="390" y="497"/>
                </a:lnTo>
                <a:lnTo>
                  <a:pt x="398" y="545"/>
                </a:lnTo>
                <a:lnTo>
                  <a:pt x="394" y="592"/>
                </a:lnTo>
                <a:lnTo>
                  <a:pt x="383" y="608"/>
                </a:lnTo>
                <a:lnTo>
                  <a:pt x="367" y="614"/>
                </a:lnTo>
                <a:lnTo>
                  <a:pt x="351" y="608"/>
                </a:lnTo>
                <a:lnTo>
                  <a:pt x="339" y="595"/>
                </a:lnTo>
                <a:lnTo>
                  <a:pt x="335" y="570"/>
                </a:lnTo>
                <a:lnTo>
                  <a:pt x="339" y="541"/>
                </a:lnTo>
                <a:lnTo>
                  <a:pt x="339" y="529"/>
                </a:lnTo>
                <a:lnTo>
                  <a:pt x="339" y="516"/>
                </a:lnTo>
                <a:lnTo>
                  <a:pt x="327" y="500"/>
                </a:lnTo>
                <a:lnTo>
                  <a:pt x="311" y="497"/>
                </a:lnTo>
                <a:lnTo>
                  <a:pt x="295" y="504"/>
                </a:lnTo>
                <a:lnTo>
                  <a:pt x="291" y="519"/>
                </a:lnTo>
                <a:lnTo>
                  <a:pt x="303" y="532"/>
                </a:lnTo>
                <a:lnTo>
                  <a:pt x="319" y="535"/>
                </a:lnTo>
                <a:lnTo>
                  <a:pt x="307" y="570"/>
                </a:lnTo>
                <a:lnTo>
                  <a:pt x="291" y="605"/>
                </a:lnTo>
                <a:lnTo>
                  <a:pt x="283" y="624"/>
                </a:lnTo>
                <a:lnTo>
                  <a:pt x="291" y="643"/>
                </a:lnTo>
                <a:lnTo>
                  <a:pt x="311" y="652"/>
                </a:lnTo>
                <a:lnTo>
                  <a:pt x="331" y="652"/>
                </a:lnTo>
                <a:lnTo>
                  <a:pt x="379" y="646"/>
                </a:lnTo>
                <a:lnTo>
                  <a:pt x="394" y="646"/>
                </a:lnTo>
                <a:lnTo>
                  <a:pt x="406" y="652"/>
                </a:lnTo>
                <a:lnTo>
                  <a:pt x="422" y="665"/>
                </a:lnTo>
                <a:lnTo>
                  <a:pt x="422" y="681"/>
                </a:lnTo>
                <a:lnTo>
                  <a:pt x="414" y="696"/>
                </a:lnTo>
                <a:lnTo>
                  <a:pt x="379" y="712"/>
                </a:lnTo>
                <a:lnTo>
                  <a:pt x="343" y="712"/>
                </a:lnTo>
                <a:lnTo>
                  <a:pt x="327" y="722"/>
                </a:lnTo>
                <a:lnTo>
                  <a:pt x="319" y="741"/>
                </a:lnTo>
                <a:lnTo>
                  <a:pt x="327" y="760"/>
                </a:lnTo>
                <a:lnTo>
                  <a:pt x="343" y="769"/>
                </a:lnTo>
                <a:lnTo>
                  <a:pt x="375" y="766"/>
                </a:lnTo>
                <a:lnTo>
                  <a:pt x="406" y="753"/>
                </a:lnTo>
                <a:lnTo>
                  <a:pt x="402" y="760"/>
                </a:lnTo>
                <a:lnTo>
                  <a:pt x="394" y="776"/>
                </a:lnTo>
                <a:lnTo>
                  <a:pt x="398" y="791"/>
                </a:lnTo>
                <a:lnTo>
                  <a:pt x="414" y="798"/>
                </a:lnTo>
                <a:lnTo>
                  <a:pt x="434" y="791"/>
                </a:lnTo>
                <a:lnTo>
                  <a:pt x="462" y="763"/>
                </a:lnTo>
                <a:lnTo>
                  <a:pt x="482" y="728"/>
                </a:lnTo>
                <a:lnTo>
                  <a:pt x="494" y="687"/>
                </a:lnTo>
                <a:lnTo>
                  <a:pt x="498" y="678"/>
                </a:lnTo>
                <a:lnTo>
                  <a:pt x="506" y="671"/>
                </a:lnTo>
                <a:lnTo>
                  <a:pt x="526" y="671"/>
                </a:lnTo>
                <a:lnTo>
                  <a:pt x="534" y="678"/>
                </a:lnTo>
                <a:lnTo>
                  <a:pt x="538" y="687"/>
                </a:lnTo>
                <a:lnTo>
                  <a:pt x="550" y="728"/>
                </a:lnTo>
                <a:lnTo>
                  <a:pt x="570" y="763"/>
                </a:lnTo>
                <a:lnTo>
                  <a:pt x="598" y="791"/>
                </a:lnTo>
                <a:lnTo>
                  <a:pt x="614" y="798"/>
                </a:lnTo>
                <a:lnTo>
                  <a:pt x="630" y="791"/>
                </a:lnTo>
                <a:lnTo>
                  <a:pt x="638" y="776"/>
                </a:lnTo>
                <a:lnTo>
                  <a:pt x="630" y="760"/>
                </a:lnTo>
                <a:lnTo>
                  <a:pt x="626" y="753"/>
                </a:lnTo>
                <a:lnTo>
                  <a:pt x="653" y="766"/>
                </a:lnTo>
                <a:lnTo>
                  <a:pt x="689" y="769"/>
                </a:lnTo>
                <a:lnTo>
                  <a:pt x="705" y="760"/>
                </a:lnTo>
                <a:lnTo>
                  <a:pt x="713" y="741"/>
                </a:lnTo>
                <a:lnTo>
                  <a:pt x="705" y="722"/>
                </a:lnTo>
                <a:lnTo>
                  <a:pt x="689" y="712"/>
                </a:lnTo>
                <a:lnTo>
                  <a:pt x="649" y="712"/>
                </a:lnTo>
                <a:lnTo>
                  <a:pt x="618" y="696"/>
                </a:lnTo>
                <a:lnTo>
                  <a:pt x="606" y="681"/>
                </a:lnTo>
                <a:lnTo>
                  <a:pt x="610" y="665"/>
                </a:lnTo>
                <a:lnTo>
                  <a:pt x="622" y="652"/>
                </a:lnTo>
                <a:lnTo>
                  <a:pt x="638" y="646"/>
                </a:lnTo>
                <a:lnTo>
                  <a:pt x="649" y="646"/>
                </a:lnTo>
                <a:lnTo>
                  <a:pt x="701" y="652"/>
                </a:lnTo>
                <a:lnTo>
                  <a:pt x="721" y="652"/>
                </a:lnTo>
                <a:lnTo>
                  <a:pt x="737" y="643"/>
                </a:lnTo>
                <a:lnTo>
                  <a:pt x="745" y="624"/>
                </a:lnTo>
                <a:lnTo>
                  <a:pt x="741" y="605"/>
                </a:lnTo>
                <a:lnTo>
                  <a:pt x="725" y="570"/>
                </a:lnTo>
                <a:lnTo>
                  <a:pt x="713" y="535"/>
                </a:lnTo>
                <a:lnTo>
                  <a:pt x="729" y="532"/>
                </a:lnTo>
                <a:lnTo>
                  <a:pt x="737" y="519"/>
                </a:lnTo>
                <a:lnTo>
                  <a:pt x="733" y="504"/>
                </a:lnTo>
                <a:lnTo>
                  <a:pt x="717" y="497"/>
                </a:lnTo>
                <a:lnTo>
                  <a:pt x="701" y="500"/>
                </a:lnTo>
                <a:lnTo>
                  <a:pt x="693" y="516"/>
                </a:lnTo>
                <a:lnTo>
                  <a:pt x="689" y="529"/>
                </a:lnTo>
                <a:lnTo>
                  <a:pt x="693" y="541"/>
                </a:lnTo>
                <a:lnTo>
                  <a:pt x="693" y="570"/>
                </a:lnTo>
                <a:lnTo>
                  <a:pt x="693" y="595"/>
                </a:lnTo>
                <a:lnTo>
                  <a:pt x="681" y="608"/>
                </a:lnTo>
                <a:lnTo>
                  <a:pt x="665" y="614"/>
                </a:lnTo>
                <a:lnTo>
                  <a:pt x="646" y="608"/>
                </a:lnTo>
                <a:lnTo>
                  <a:pt x="638" y="592"/>
                </a:lnTo>
                <a:lnTo>
                  <a:pt x="634" y="545"/>
                </a:lnTo>
                <a:lnTo>
                  <a:pt x="642" y="497"/>
                </a:lnTo>
                <a:lnTo>
                  <a:pt x="657" y="472"/>
                </a:lnTo>
                <a:lnTo>
                  <a:pt x="685" y="456"/>
                </a:lnTo>
                <a:lnTo>
                  <a:pt x="717" y="450"/>
                </a:lnTo>
                <a:lnTo>
                  <a:pt x="749" y="453"/>
                </a:lnTo>
                <a:lnTo>
                  <a:pt x="777" y="462"/>
                </a:lnTo>
                <a:lnTo>
                  <a:pt x="797" y="478"/>
                </a:lnTo>
                <a:lnTo>
                  <a:pt x="813" y="494"/>
                </a:lnTo>
                <a:lnTo>
                  <a:pt x="873" y="567"/>
                </a:lnTo>
                <a:lnTo>
                  <a:pt x="901" y="589"/>
                </a:lnTo>
                <a:lnTo>
                  <a:pt x="932" y="602"/>
                </a:lnTo>
                <a:lnTo>
                  <a:pt x="968" y="605"/>
                </a:lnTo>
                <a:lnTo>
                  <a:pt x="1004" y="592"/>
                </a:lnTo>
                <a:lnTo>
                  <a:pt x="1020" y="576"/>
                </a:lnTo>
                <a:lnTo>
                  <a:pt x="1028" y="554"/>
                </a:lnTo>
                <a:lnTo>
                  <a:pt x="1032" y="532"/>
                </a:lnTo>
                <a:lnTo>
                  <a:pt x="1024" y="510"/>
                </a:lnTo>
                <a:lnTo>
                  <a:pt x="996" y="535"/>
                </a:lnTo>
                <a:lnTo>
                  <a:pt x="960" y="548"/>
                </a:lnTo>
                <a:lnTo>
                  <a:pt x="920" y="545"/>
                </a:lnTo>
                <a:lnTo>
                  <a:pt x="885" y="532"/>
                </a:lnTo>
                <a:lnTo>
                  <a:pt x="829" y="481"/>
                </a:lnTo>
                <a:lnTo>
                  <a:pt x="797" y="453"/>
                </a:lnTo>
                <a:lnTo>
                  <a:pt x="753" y="434"/>
                </a:lnTo>
                <a:lnTo>
                  <a:pt x="709" y="434"/>
                </a:lnTo>
                <a:lnTo>
                  <a:pt x="665" y="447"/>
                </a:lnTo>
                <a:lnTo>
                  <a:pt x="646" y="462"/>
                </a:lnTo>
                <a:lnTo>
                  <a:pt x="630" y="488"/>
                </a:lnTo>
                <a:lnTo>
                  <a:pt x="622" y="516"/>
                </a:lnTo>
                <a:lnTo>
                  <a:pt x="618" y="519"/>
                </a:lnTo>
                <a:lnTo>
                  <a:pt x="610" y="516"/>
                </a:lnTo>
                <a:lnTo>
                  <a:pt x="610" y="485"/>
                </a:lnTo>
                <a:lnTo>
                  <a:pt x="618" y="456"/>
                </a:lnTo>
                <a:lnTo>
                  <a:pt x="638" y="431"/>
                </a:lnTo>
                <a:lnTo>
                  <a:pt x="661" y="412"/>
                </a:lnTo>
                <a:lnTo>
                  <a:pt x="697" y="399"/>
                </a:lnTo>
                <a:lnTo>
                  <a:pt x="733" y="393"/>
                </a:lnTo>
                <a:lnTo>
                  <a:pt x="773" y="399"/>
                </a:lnTo>
                <a:lnTo>
                  <a:pt x="793" y="409"/>
                </a:lnTo>
                <a:lnTo>
                  <a:pt x="813" y="421"/>
                </a:lnTo>
                <a:lnTo>
                  <a:pt x="841" y="443"/>
                </a:lnTo>
                <a:lnTo>
                  <a:pt x="873" y="456"/>
                </a:lnTo>
                <a:lnTo>
                  <a:pt x="909" y="459"/>
                </a:lnTo>
                <a:lnTo>
                  <a:pt x="940" y="450"/>
                </a:lnTo>
                <a:lnTo>
                  <a:pt x="964" y="434"/>
                </a:lnTo>
                <a:lnTo>
                  <a:pt x="984" y="409"/>
                </a:lnTo>
                <a:lnTo>
                  <a:pt x="996" y="371"/>
                </a:lnTo>
                <a:lnTo>
                  <a:pt x="988" y="333"/>
                </a:lnTo>
                <a:lnTo>
                  <a:pt x="968" y="301"/>
                </a:lnTo>
                <a:lnTo>
                  <a:pt x="936" y="279"/>
                </a:lnTo>
                <a:lnTo>
                  <a:pt x="932" y="314"/>
                </a:lnTo>
                <a:lnTo>
                  <a:pt x="920" y="345"/>
                </a:lnTo>
                <a:lnTo>
                  <a:pt x="893" y="371"/>
                </a:lnTo>
                <a:lnTo>
                  <a:pt x="873" y="383"/>
                </a:lnTo>
                <a:lnTo>
                  <a:pt x="845" y="386"/>
                </a:lnTo>
                <a:lnTo>
                  <a:pt x="813" y="383"/>
                </a:lnTo>
                <a:lnTo>
                  <a:pt x="781" y="377"/>
                </a:lnTo>
                <a:lnTo>
                  <a:pt x="737" y="371"/>
                </a:lnTo>
                <a:lnTo>
                  <a:pt x="689" y="377"/>
                </a:lnTo>
                <a:lnTo>
                  <a:pt x="649" y="396"/>
                </a:lnTo>
                <a:lnTo>
                  <a:pt x="618" y="428"/>
                </a:lnTo>
                <a:lnTo>
                  <a:pt x="598" y="462"/>
                </a:lnTo>
                <a:lnTo>
                  <a:pt x="590" y="488"/>
                </a:lnTo>
                <a:lnTo>
                  <a:pt x="590" y="516"/>
                </a:lnTo>
                <a:lnTo>
                  <a:pt x="574" y="500"/>
                </a:lnTo>
                <a:lnTo>
                  <a:pt x="566" y="485"/>
                </a:lnTo>
                <a:lnTo>
                  <a:pt x="562" y="462"/>
                </a:lnTo>
                <a:lnTo>
                  <a:pt x="566" y="418"/>
                </a:lnTo>
                <a:lnTo>
                  <a:pt x="582" y="374"/>
                </a:lnTo>
                <a:lnTo>
                  <a:pt x="614" y="336"/>
                </a:lnTo>
                <a:lnTo>
                  <a:pt x="638" y="320"/>
                </a:lnTo>
                <a:lnTo>
                  <a:pt x="669" y="311"/>
                </a:lnTo>
                <a:lnTo>
                  <a:pt x="701" y="307"/>
                </a:lnTo>
                <a:lnTo>
                  <a:pt x="745" y="301"/>
                </a:lnTo>
                <a:lnTo>
                  <a:pt x="785" y="282"/>
                </a:lnTo>
                <a:lnTo>
                  <a:pt x="809" y="257"/>
                </a:lnTo>
                <a:lnTo>
                  <a:pt x="825" y="225"/>
                </a:lnTo>
                <a:lnTo>
                  <a:pt x="825" y="190"/>
                </a:lnTo>
                <a:lnTo>
                  <a:pt x="813" y="159"/>
                </a:lnTo>
                <a:lnTo>
                  <a:pt x="793" y="130"/>
                </a:lnTo>
                <a:lnTo>
                  <a:pt x="761" y="105"/>
                </a:lnTo>
                <a:lnTo>
                  <a:pt x="721" y="89"/>
                </a:lnTo>
                <a:lnTo>
                  <a:pt x="681" y="86"/>
                </a:lnTo>
                <a:lnTo>
                  <a:pt x="701" y="127"/>
                </a:lnTo>
                <a:lnTo>
                  <a:pt x="709" y="171"/>
                </a:lnTo>
                <a:lnTo>
                  <a:pt x="701" y="219"/>
                </a:lnTo>
                <a:lnTo>
                  <a:pt x="681" y="260"/>
                </a:lnTo>
                <a:lnTo>
                  <a:pt x="646" y="292"/>
                </a:lnTo>
                <a:lnTo>
                  <a:pt x="606" y="314"/>
                </a:lnTo>
                <a:lnTo>
                  <a:pt x="558" y="323"/>
                </a:lnTo>
                <a:lnTo>
                  <a:pt x="558" y="323"/>
                </a:lnTo>
                <a:lnTo>
                  <a:pt x="566" y="301"/>
                </a:lnTo>
                <a:lnTo>
                  <a:pt x="586" y="288"/>
                </a:lnTo>
                <a:lnTo>
                  <a:pt x="622" y="273"/>
                </a:lnTo>
                <a:lnTo>
                  <a:pt x="649" y="250"/>
                </a:lnTo>
                <a:lnTo>
                  <a:pt x="669" y="225"/>
                </a:lnTo>
                <a:lnTo>
                  <a:pt x="677" y="190"/>
                </a:lnTo>
                <a:lnTo>
                  <a:pt x="677" y="159"/>
                </a:lnTo>
                <a:lnTo>
                  <a:pt x="669" y="124"/>
                </a:lnTo>
                <a:lnTo>
                  <a:pt x="649" y="89"/>
                </a:lnTo>
                <a:lnTo>
                  <a:pt x="618" y="67"/>
                </a:lnTo>
                <a:lnTo>
                  <a:pt x="566" y="35"/>
                </a:lnTo>
                <a:lnTo>
                  <a:pt x="514" y="0"/>
                </a:lnTo>
                <a:close/>
                <a:moveTo>
                  <a:pt x="546" y="250"/>
                </a:moveTo>
                <a:lnTo>
                  <a:pt x="554" y="200"/>
                </a:lnTo>
                <a:lnTo>
                  <a:pt x="554" y="146"/>
                </a:lnTo>
                <a:lnTo>
                  <a:pt x="546" y="92"/>
                </a:lnTo>
                <a:lnTo>
                  <a:pt x="574" y="108"/>
                </a:lnTo>
                <a:lnTo>
                  <a:pt x="598" y="130"/>
                </a:lnTo>
                <a:lnTo>
                  <a:pt x="610" y="159"/>
                </a:lnTo>
                <a:lnTo>
                  <a:pt x="610" y="187"/>
                </a:lnTo>
                <a:lnTo>
                  <a:pt x="598" y="216"/>
                </a:lnTo>
                <a:lnTo>
                  <a:pt x="574" y="238"/>
                </a:lnTo>
                <a:lnTo>
                  <a:pt x="546" y="250"/>
                </a:lnTo>
                <a:close/>
                <a:moveTo>
                  <a:pt x="514" y="1007"/>
                </a:moveTo>
                <a:lnTo>
                  <a:pt x="514" y="1007"/>
                </a:lnTo>
                <a:lnTo>
                  <a:pt x="490" y="1003"/>
                </a:lnTo>
                <a:lnTo>
                  <a:pt x="466" y="991"/>
                </a:lnTo>
                <a:lnTo>
                  <a:pt x="450" y="969"/>
                </a:lnTo>
                <a:lnTo>
                  <a:pt x="450" y="962"/>
                </a:lnTo>
                <a:lnTo>
                  <a:pt x="458" y="959"/>
                </a:lnTo>
                <a:lnTo>
                  <a:pt x="482" y="975"/>
                </a:lnTo>
                <a:lnTo>
                  <a:pt x="514" y="978"/>
                </a:lnTo>
                <a:lnTo>
                  <a:pt x="514" y="978"/>
                </a:lnTo>
                <a:lnTo>
                  <a:pt x="514" y="978"/>
                </a:lnTo>
                <a:lnTo>
                  <a:pt x="546" y="975"/>
                </a:lnTo>
                <a:lnTo>
                  <a:pt x="574" y="959"/>
                </a:lnTo>
                <a:lnTo>
                  <a:pt x="582" y="962"/>
                </a:lnTo>
                <a:lnTo>
                  <a:pt x="582" y="969"/>
                </a:lnTo>
                <a:lnTo>
                  <a:pt x="566" y="991"/>
                </a:lnTo>
                <a:lnTo>
                  <a:pt x="542" y="1003"/>
                </a:lnTo>
                <a:lnTo>
                  <a:pt x="514" y="1007"/>
                </a:lnTo>
                <a:lnTo>
                  <a:pt x="514" y="1007"/>
                </a:lnTo>
                <a:close/>
                <a:moveTo>
                  <a:pt x="514" y="959"/>
                </a:moveTo>
                <a:lnTo>
                  <a:pt x="514" y="959"/>
                </a:lnTo>
                <a:lnTo>
                  <a:pt x="498" y="959"/>
                </a:lnTo>
                <a:lnTo>
                  <a:pt x="482" y="950"/>
                </a:lnTo>
                <a:lnTo>
                  <a:pt x="474" y="940"/>
                </a:lnTo>
                <a:lnTo>
                  <a:pt x="474" y="927"/>
                </a:lnTo>
                <a:lnTo>
                  <a:pt x="514" y="927"/>
                </a:lnTo>
                <a:lnTo>
                  <a:pt x="514" y="927"/>
                </a:lnTo>
                <a:lnTo>
                  <a:pt x="514" y="927"/>
                </a:lnTo>
                <a:lnTo>
                  <a:pt x="558" y="927"/>
                </a:lnTo>
                <a:lnTo>
                  <a:pt x="554" y="940"/>
                </a:lnTo>
                <a:lnTo>
                  <a:pt x="550" y="950"/>
                </a:lnTo>
                <a:lnTo>
                  <a:pt x="534" y="959"/>
                </a:lnTo>
                <a:lnTo>
                  <a:pt x="514" y="959"/>
                </a:lnTo>
                <a:lnTo>
                  <a:pt x="514" y="959"/>
                </a:lnTo>
                <a:close/>
                <a:moveTo>
                  <a:pt x="514" y="877"/>
                </a:moveTo>
                <a:lnTo>
                  <a:pt x="514" y="877"/>
                </a:lnTo>
                <a:lnTo>
                  <a:pt x="482" y="880"/>
                </a:lnTo>
                <a:lnTo>
                  <a:pt x="454" y="896"/>
                </a:lnTo>
                <a:lnTo>
                  <a:pt x="434" y="921"/>
                </a:lnTo>
                <a:lnTo>
                  <a:pt x="430" y="950"/>
                </a:lnTo>
                <a:lnTo>
                  <a:pt x="434" y="978"/>
                </a:lnTo>
                <a:lnTo>
                  <a:pt x="454" y="1003"/>
                </a:lnTo>
                <a:lnTo>
                  <a:pt x="482" y="1019"/>
                </a:lnTo>
                <a:lnTo>
                  <a:pt x="514" y="1026"/>
                </a:lnTo>
                <a:lnTo>
                  <a:pt x="514" y="1026"/>
                </a:lnTo>
                <a:lnTo>
                  <a:pt x="514" y="1026"/>
                </a:lnTo>
                <a:lnTo>
                  <a:pt x="546" y="1019"/>
                </a:lnTo>
                <a:lnTo>
                  <a:pt x="574" y="1003"/>
                </a:lnTo>
                <a:lnTo>
                  <a:pt x="594" y="978"/>
                </a:lnTo>
                <a:lnTo>
                  <a:pt x="602" y="950"/>
                </a:lnTo>
                <a:lnTo>
                  <a:pt x="594" y="921"/>
                </a:lnTo>
                <a:lnTo>
                  <a:pt x="574" y="896"/>
                </a:lnTo>
                <a:lnTo>
                  <a:pt x="546" y="880"/>
                </a:lnTo>
                <a:lnTo>
                  <a:pt x="514" y="877"/>
                </a:lnTo>
                <a:lnTo>
                  <a:pt x="514" y="877"/>
                </a:lnTo>
                <a:close/>
                <a:moveTo>
                  <a:pt x="614" y="950"/>
                </a:moveTo>
                <a:lnTo>
                  <a:pt x="614" y="978"/>
                </a:lnTo>
                <a:lnTo>
                  <a:pt x="602" y="1000"/>
                </a:lnTo>
                <a:lnTo>
                  <a:pt x="582" y="1022"/>
                </a:lnTo>
                <a:lnTo>
                  <a:pt x="622" y="1022"/>
                </a:lnTo>
                <a:lnTo>
                  <a:pt x="661" y="1013"/>
                </a:lnTo>
                <a:lnTo>
                  <a:pt x="634" y="984"/>
                </a:lnTo>
                <a:lnTo>
                  <a:pt x="614" y="950"/>
                </a:lnTo>
                <a:close/>
                <a:moveTo>
                  <a:pt x="602" y="889"/>
                </a:moveTo>
                <a:lnTo>
                  <a:pt x="618" y="934"/>
                </a:lnTo>
                <a:lnTo>
                  <a:pt x="646" y="975"/>
                </a:lnTo>
                <a:lnTo>
                  <a:pt x="681" y="1007"/>
                </a:lnTo>
                <a:lnTo>
                  <a:pt x="725" y="991"/>
                </a:lnTo>
                <a:lnTo>
                  <a:pt x="765" y="965"/>
                </a:lnTo>
                <a:lnTo>
                  <a:pt x="725" y="962"/>
                </a:lnTo>
                <a:lnTo>
                  <a:pt x="681" y="950"/>
                </a:lnTo>
                <a:lnTo>
                  <a:pt x="638" y="921"/>
                </a:lnTo>
                <a:lnTo>
                  <a:pt x="602" y="889"/>
                </a:lnTo>
                <a:close/>
                <a:moveTo>
                  <a:pt x="514" y="823"/>
                </a:moveTo>
                <a:lnTo>
                  <a:pt x="514" y="823"/>
                </a:lnTo>
                <a:lnTo>
                  <a:pt x="470" y="829"/>
                </a:lnTo>
                <a:lnTo>
                  <a:pt x="430" y="842"/>
                </a:lnTo>
                <a:lnTo>
                  <a:pt x="398" y="861"/>
                </a:lnTo>
                <a:lnTo>
                  <a:pt x="367" y="874"/>
                </a:lnTo>
                <a:lnTo>
                  <a:pt x="319" y="880"/>
                </a:lnTo>
                <a:lnTo>
                  <a:pt x="271" y="883"/>
                </a:lnTo>
                <a:lnTo>
                  <a:pt x="223" y="877"/>
                </a:lnTo>
                <a:lnTo>
                  <a:pt x="183" y="858"/>
                </a:lnTo>
                <a:lnTo>
                  <a:pt x="143" y="836"/>
                </a:lnTo>
                <a:lnTo>
                  <a:pt x="127" y="829"/>
                </a:lnTo>
                <a:lnTo>
                  <a:pt x="112" y="829"/>
                </a:lnTo>
                <a:lnTo>
                  <a:pt x="92" y="839"/>
                </a:lnTo>
                <a:lnTo>
                  <a:pt x="76" y="858"/>
                </a:lnTo>
                <a:lnTo>
                  <a:pt x="76" y="883"/>
                </a:lnTo>
                <a:lnTo>
                  <a:pt x="88" y="899"/>
                </a:lnTo>
                <a:lnTo>
                  <a:pt x="108" y="905"/>
                </a:lnTo>
                <a:lnTo>
                  <a:pt x="127" y="899"/>
                </a:lnTo>
                <a:lnTo>
                  <a:pt x="139" y="883"/>
                </a:lnTo>
                <a:lnTo>
                  <a:pt x="163" y="915"/>
                </a:lnTo>
                <a:lnTo>
                  <a:pt x="195" y="940"/>
                </a:lnTo>
                <a:lnTo>
                  <a:pt x="231" y="953"/>
                </a:lnTo>
                <a:lnTo>
                  <a:pt x="275" y="953"/>
                </a:lnTo>
                <a:lnTo>
                  <a:pt x="327" y="940"/>
                </a:lnTo>
                <a:lnTo>
                  <a:pt x="375" y="915"/>
                </a:lnTo>
                <a:lnTo>
                  <a:pt x="414" y="880"/>
                </a:lnTo>
                <a:lnTo>
                  <a:pt x="446" y="858"/>
                </a:lnTo>
                <a:lnTo>
                  <a:pt x="478" y="845"/>
                </a:lnTo>
                <a:lnTo>
                  <a:pt x="514" y="839"/>
                </a:lnTo>
                <a:lnTo>
                  <a:pt x="514" y="839"/>
                </a:lnTo>
                <a:lnTo>
                  <a:pt x="514" y="839"/>
                </a:lnTo>
                <a:lnTo>
                  <a:pt x="550" y="845"/>
                </a:lnTo>
                <a:lnTo>
                  <a:pt x="586" y="858"/>
                </a:lnTo>
                <a:lnTo>
                  <a:pt x="614" y="880"/>
                </a:lnTo>
                <a:lnTo>
                  <a:pt x="653" y="915"/>
                </a:lnTo>
                <a:lnTo>
                  <a:pt x="705" y="940"/>
                </a:lnTo>
                <a:lnTo>
                  <a:pt x="757" y="953"/>
                </a:lnTo>
                <a:lnTo>
                  <a:pt x="797" y="953"/>
                </a:lnTo>
                <a:lnTo>
                  <a:pt x="837" y="940"/>
                </a:lnTo>
                <a:lnTo>
                  <a:pt x="869" y="915"/>
                </a:lnTo>
                <a:lnTo>
                  <a:pt x="889" y="883"/>
                </a:lnTo>
                <a:lnTo>
                  <a:pt x="901" y="899"/>
                </a:lnTo>
                <a:lnTo>
                  <a:pt x="920" y="905"/>
                </a:lnTo>
                <a:lnTo>
                  <a:pt x="940" y="899"/>
                </a:lnTo>
                <a:lnTo>
                  <a:pt x="952" y="883"/>
                </a:lnTo>
                <a:lnTo>
                  <a:pt x="952" y="858"/>
                </a:lnTo>
                <a:lnTo>
                  <a:pt x="940" y="839"/>
                </a:lnTo>
                <a:lnTo>
                  <a:pt x="916" y="829"/>
                </a:lnTo>
                <a:lnTo>
                  <a:pt x="901" y="829"/>
                </a:lnTo>
                <a:lnTo>
                  <a:pt x="885" y="836"/>
                </a:lnTo>
                <a:lnTo>
                  <a:pt x="849" y="858"/>
                </a:lnTo>
                <a:lnTo>
                  <a:pt x="809" y="877"/>
                </a:lnTo>
                <a:lnTo>
                  <a:pt x="761" y="883"/>
                </a:lnTo>
                <a:lnTo>
                  <a:pt x="713" y="880"/>
                </a:lnTo>
                <a:lnTo>
                  <a:pt x="665" y="874"/>
                </a:lnTo>
                <a:lnTo>
                  <a:pt x="634" y="861"/>
                </a:lnTo>
                <a:lnTo>
                  <a:pt x="602" y="842"/>
                </a:lnTo>
                <a:lnTo>
                  <a:pt x="558" y="829"/>
                </a:lnTo>
                <a:lnTo>
                  <a:pt x="514" y="823"/>
                </a:lnTo>
                <a:lnTo>
                  <a:pt x="514" y="823"/>
                </a:lnTo>
                <a:close/>
                <a:moveTo>
                  <a:pt x="889" y="709"/>
                </a:moveTo>
                <a:lnTo>
                  <a:pt x="885" y="734"/>
                </a:lnTo>
                <a:lnTo>
                  <a:pt x="893" y="757"/>
                </a:lnTo>
                <a:lnTo>
                  <a:pt x="912" y="772"/>
                </a:lnTo>
                <a:lnTo>
                  <a:pt x="940" y="772"/>
                </a:lnTo>
                <a:lnTo>
                  <a:pt x="960" y="760"/>
                </a:lnTo>
                <a:lnTo>
                  <a:pt x="972" y="734"/>
                </a:lnTo>
                <a:lnTo>
                  <a:pt x="948" y="744"/>
                </a:lnTo>
                <a:lnTo>
                  <a:pt x="924" y="744"/>
                </a:lnTo>
                <a:lnTo>
                  <a:pt x="901" y="731"/>
                </a:lnTo>
                <a:lnTo>
                  <a:pt x="889" y="709"/>
                </a:lnTo>
                <a:close/>
                <a:moveTo>
                  <a:pt x="1000" y="671"/>
                </a:moveTo>
                <a:lnTo>
                  <a:pt x="972" y="687"/>
                </a:lnTo>
                <a:lnTo>
                  <a:pt x="940" y="687"/>
                </a:lnTo>
                <a:lnTo>
                  <a:pt x="912" y="674"/>
                </a:lnTo>
                <a:lnTo>
                  <a:pt x="897" y="652"/>
                </a:lnTo>
                <a:lnTo>
                  <a:pt x="889" y="678"/>
                </a:lnTo>
                <a:lnTo>
                  <a:pt x="901" y="703"/>
                </a:lnTo>
                <a:lnTo>
                  <a:pt x="920" y="722"/>
                </a:lnTo>
                <a:lnTo>
                  <a:pt x="948" y="728"/>
                </a:lnTo>
                <a:lnTo>
                  <a:pt x="976" y="719"/>
                </a:lnTo>
                <a:lnTo>
                  <a:pt x="992" y="696"/>
                </a:lnTo>
                <a:lnTo>
                  <a:pt x="1000" y="671"/>
                </a:lnTo>
                <a:close/>
                <a:moveTo>
                  <a:pt x="897" y="598"/>
                </a:moveTo>
                <a:lnTo>
                  <a:pt x="897" y="627"/>
                </a:lnTo>
                <a:lnTo>
                  <a:pt x="912" y="652"/>
                </a:lnTo>
                <a:lnTo>
                  <a:pt x="932" y="668"/>
                </a:lnTo>
                <a:lnTo>
                  <a:pt x="960" y="671"/>
                </a:lnTo>
                <a:lnTo>
                  <a:pt x="988" y="665"/>
                </a:lnTo>
                <a:lnTo>
                  <a:pt x="1012" y="646"/>
                </a:lnTo>
                <a:lnTo>
                  <a:pt x="1020" y="621"/>
                </a:lnTo>
                <a:lnTo>
                  <a:pt x="1020" y="592"/>
                </a:lnTo>
                <a:lnTo>
                  <a:pt x="992" y="614"/>
                </a:lnTo>
                <a:lnTo>
                  <a:pt x="960" y="624"/>
                </a:lnTo>
                <a:lnTo>
                  <a:pt x="924" y="617"/>
                </a:lnTo>
                <a:lnTo>
                  <a:pt x="897" y="598"/>
                </a:lnTo>
                <a:close/>
                <a:moveTo>
                  <a:pt x="646" y="583"/>
                </a:moveTo>
                <a:lnTo>
                  <a:pt x="649" y="598"/>
                </a:lnTo>
                <a:lnTo>
                  <a:pt x="665" y="602"/>
                </a:lnTo>
                <a:lnTo>
                  <a:pt x="677" y="598"/>
                </a:lnTo>
                <a:lnTo>
                  <a:pt x="685" y="583"/>
                </a:lnTo>
                <a:lnTo>
                  <a:pt x="677" y="567"/>
                </a:lnTo>
                <a:lnTo>
                  <a:pt x="665" y="560"/>
                </a:lnTo>
                <a:lnTo>
                  <a:pt x="649" y="567"/>
                </a:lnTo>
                <a:lnTo>
                  <a:pt x="646" y="583"/>
                </a:lnTo>
                <a:close/>
                <a:moveTo>
                  <a:pt x="1004" y="412"/>
                </a:moveTo>
                <a:lnTo>
                  <a:pt x="992" y="440"/>
                </a:lnTo>
                <a:lnTo>
                  <a:pt x="968" y="466"/>
                </a:lnTo>
                <a:lnTo>
                  <a:pt x="936" y="478"/>
                </a:lnTo>
                <a:lnTo>
                  <a:pt x="901" y="481"/>
                </a:lnTo>
                <a:lnTo>
                  <a:pt x="869" y="469"/>
                </a:lnTo>
                <a:lnTo>
                  <a:pt x="881" y="497"/>
                </a:lnTo>
                <a:lnTo>
                  <a:pt x="901" y="519"/>
                </a:lnTo>
                <a:lnTo>
                  <a:pt x="932" y="532"/>
                </a:lnTo>
                <a:lnTo>
                  <a:pt x="960" y="532"/>
                </a:lnTo>
                <a:lnTo>
                  <a:pt x="992" y="519"/>
                </a:lnTo>
                <a:lnTo>
                  <a:pt x="1012" y="497"/>
                </a:lnTo>
                <a:lnTo>
                  <a:pt x="1024" y="469"/>
                </a:lnTo>
                <a:lnTo>
                  <a:pt x="1020" y="437"/>
                </a:lnTo>
                <a:lnTo>
                  <a:pt x="1004" y="412"/>
                </a:lnTo>
                <a:close/>
                <a:moveTo>
                  <a:pt x="753" y="333"/>
                </a:moveTo>
                <a:lnTo>
                  <a:pt x="785" y="352"/>
                </a:lnTo>
                <a:lnTo>
                  <a:pt x="817" y="361"/>
                </a:lnTo>
                <a:lnTo>
                  <a:pt x="853" y="355"/>
                </a:lnTo>
                <a:lnTo>
                  <a:pt x="885" y="339"/>
                </a:lnTo>
                <a:lnTo>
                  <a:pt x="909" y="314"/>
                </a:lnTo>
                <a:lnTo>
                  <a:pt x="920" y="276"/>
                </a:lnTo>
                <a:lnTo>
                  <a:pt x="916" y="238"/>
                </a:lnTo>
                <a:lnTo>
                  <a:pt x="897" y="206"/>
                </a:lnTo>
                <a:lnTo>
                  <a:pt x="869" y="181"/>
                </a:lnTo>
                <a:lnTo>
                  <a:pt x="837" y="165"/>
                </a:lnTo>
                <a:lnTo>
                  <a:pt x="849" y="206"/>
                </a:lnTo>
                <a:lnTo>
                  <a:pt x="845" y="247"/>
                </a:lnTo>
                <a:lnTo>
                  <a:pt x="825" y="285"/>
                </a:lnTo>
                <a:lnTo>
                  <a:pt x="793" y="317"/>
                </a:lnTo>
                <a:lnTo>
                  <a:pt x="753" y="333"/>
                </a:lnTo>
                <a:close/>
                <a:moveTo>
                  <a:pt x="514" y="323"/>
                </a:moveTo>
                <a:lnTo>
                  <a:pt x="530" y="330"/>
                </a:lnTo>
                <a:lnTo>
                  <a:pt x="538" y="348"/>
                </a:lnTo>
                <a:lnTo>
                  <a:pt x="542" y="415"/>
                </a:lnTo>
                <a:lnTo>
                  <a:pt x="538" y="481"/>
                </a:lnTo>
                <a:lnTo>
                  <a:pt x="530" y="497"/>
                </a:lnTo>
                <a:lnTo>
                  <a:pt x="514" y="507"/>
                </a:lnTo>
                <a:lnTo>
                  <a:pt x="498" y="497"/>
                </a:lnTo>
                <a:lnTo>
                  <a:pt x="490" y="481"/>
                </a:lnTo>
                <a:lnTo>
                  <a:pt x="486" y="415"/>
                </a:lnTo>
                <a:lnTo>
                  <a:pt x="490" y="348"/>
                </a:lnTo>
                <a:lnTo>
                  <a:pt x="498" y="330"/>
                </a:lnTo>
                <a:lnTo>
                  <a:pt x="514" y="323"/>
                </a:lnTo>
                <a:close/>
                <a:moveTo>
                  <a:pt x="566" y="595"/>
                </a:moveTo>
                <a:lnTo>
                  <a:pt x="566" y="570"/>
                </a:lnTo>
                <a:lnTo>
                  <a:pt x="554" y="548"/>
                </a:lnTo>
                <a:lnTo>
                  <a:pt x="538" y="529"/>
                </a:lnTo>
                <a:lnTo>
                  <a:pt x="514" y="519"/>
                </a:lnTo>
                <a:lnTo>
                  <a:pt x="494" y="529"/>
                </a:lnTo>
                <a:lnTo>
                  <a:pt x="478" y="548"/>
                </a:lnTo>
                <a:lnTo>
                  <a:pt x="466" y="570"/>
                </a:lnTo>
                <a:lnTo>
                  <a:pt x="462" y="595"/>
                </a:lnTo>
                <a:lnTo>
                  <a:pt x="466" y="624"/>
                </a:lnTo>
                <a:lnTo>
                  <a:pt x="478" y="649"/>
                </a:lnTo>
                <a:lnTo>
                  <a:pt x="490" y="655"/>
                </a:lnTo>
                <a:lnTo>
                  <a:pt x="498" y="649"/>
                </a:lnTo>
                <a:lnTo>
                  <a:pt x="506" y="627"/>
                </a:lnTo>
                <a:lnTo>
                  <a:pt x="506" y="605"/>
                </a:lnTo>
                <a:lnTo>
                  <a:pt x="498" y="589"/>
                </a:lnTo>
                <a:lnTo>
                  <a:pt x="498" y="576"/>
                </a:lnTo>
                <a:lnTo>
                  <a:pt x="502" y="567"/>
                </a:lnTo>
                <a:lnTo>
                  <a:pt x="510" y="557"/>
                </a:lnTo>
                <a:lnTo>
                  <a:pt x="522" y="557"/>
                </a:lnTo>
                <a:lnTo>
                  <a:pt x="530" y="567"/>
                </a:lnTo>
                <a:lnTo>
                  <a:pt x="530" y="576"/>
                </a:lnTo>
                <a:lnTo>
                  <a:pt x="530" y="589"/>
                </a:lnTo>
                <a:lnTo>
                  <a:pt x="526" y="605"/>
                </a:lnTo>
                <a:lnTo>
                  <a:pt x="526" y="627"/>
                </a:lnTo>
                <a:lnTo>
                  <a:pt x="530" y="649"/>
                </a:lnTo>
                <a:lnTo>
                  <a:pt x="542" y="655"/>
                </a:lnTo>
                <a:lnTo>
                  <a:pt x="550" y="649"/>
                </a:lnTo>
                <a:lnTo>
                  <a:pt x="562" y="624"/>
                </a:lnTo>
                <a:lnTo>
                  <a:pt x="566" y="595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380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Untuk aliran dalam tabung aksial simetris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46160" y="934920"/>
                <a:ext cx="1135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902040" y="103176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Persamaan (8.11) menjadi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75040" y="1695600"/>
                <a:ext cx="34448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r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r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r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</m:e>
                    </m:d>
                    <m:r>
                      <m:t xml:space="preserve">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643880" y="24033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1.a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91440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57320" y="4170240"/>
                <a:ext cx="1112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902040" y="42670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Persamaan (8.11) menjadi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60720" y="4991040"/>
                <a:ext cx="40845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t xml:space="preserve">rθ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r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r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</m:e>
                    </m:d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7639920" y="5638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1.b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1497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6576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Untuk aliran tangensial antara 2 silinder yg berputar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5936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(4). Deissler’s Empirical Formula (untuk daerah dekat dinding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905120" y="1066680"/>
                <a:ext cx="50544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sSup>
                          <m:e>
                            <m:r>
                              <m:t xml:space="preserve">ρ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24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k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viskositas</m:t>
                        </m:r>
                        <m:r>
                          <m:rPr>
                            <m:lit/>
                            <m:nor/>
                          </m:rPr>
                          <m:t xml:space="preserve">kinemati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779600" y="133668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2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505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660066"/>
                </a:solidFill>
                <a:uFillTx/>
                <a:latin typeface="Tahoma"/>
              </a:rPr>
              <a:t>Contoh 1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(Distribusi kecepatan utk daerah jauh dari dinding)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76520" y="4114800"/>
            <a:ext cx="1218960" cy="2362320"/>
            <a:chOff x="1676520" y="4114800"/>
            <a:chExt cx="1218960" cy="2362320"/>
          </a:xfrm>
        </p:grpSpPr>
        <p:sp>
          <p:nvSpPr>
            <p:cNvPr id="208" name=""/>
            <p:cNvSpPr/>
            <p:nvPr/>
          </p:nvSpPr>
          <p:spPr>
            <a:xfrm>
              <a:off x="1676520" y="4114800"/>
              <a:ext cx="7596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4191120"/>
              <a:ext cx="0" cy="2286000"/>
            </a:xfrm>
            <a:prstGeom prst="line">
              <a:avLst/>
            </a:prstGeom>
            <a:ln w="9360">
              <a:solidFill>
                <a:srgbClr val="66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2480" y="5638680"/>
              <a:ext cx="114300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2480" y="5105520"/>
              <a:ext cx="45720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361960" y="5105520"/>
              <a:ext cx="53316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7196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14760" y="4689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6040" y="4689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400560" y="4038480"/>
            <a:ext cx="4863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 = (R - r) = jarak dari dinding tabung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660066"/>
                </a:solidFill>
                <a:latin typeface="Brush Script MT"/>
              </a:rPr>
              <a:t>K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Brush Script MT"/>
              </a:rPr>
              <a:t>1</a:t>
            </a:r>
            <a:r>
              <a:rPr b="0" lang="en-US" sz="2000" spc="-1" strike="noStrike">
                <a:solidFill>
                  <a:srgbClr val="660066"/>
                </a:solidFill>
                <a:latin typeface="Brush Script MT"/>
              </a:rPr>
              <a:t>.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Untuk aliran aksial dalam tabung, pers (8.10)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menjadi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788000" y="5145120"/>
                <a:ext cx="297000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</m:e>
                      <m:e>
                        <m:r>
                          <m:t xml:space="preserve">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7938360" y="60609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3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10240" y="380880"/>
            <a:ext cx="770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ers gerak dari pers (8.8), utk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          dan fluida incompressible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lihat Tabel 3.4-3 atau pers. 2.3-10 pada buku ‘Bird’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8320" y="403200"/>
                <a:ext cx="1066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22360" y="1120680"/>
                <a:ext cx="30970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t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z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7557480" y="12603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4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10600" y="2576520"/>
            <a:ext cx="75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ers (8.14) diintegrasikan dg kondisi batas : r=0  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    =0, maka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iperoleh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10280" y="2590920"/>
                <a:ext cx="349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11280" y="3276720"/>
                <a:ext cx="38718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47920" y="4191120"/>
                <a:ext cx="1137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7633800" y="34704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5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63000" y="4724280"/>
            <a:ext cx="77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Untuk aliran turbulen 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 transport momentum oleh molekul &lt;&lt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transport momentum oleh arus edd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683160" y="5410080"/>
                <a:ext cx="1955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&lt;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073880" y="578952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Maka jika pers (8.13) digabung dengan pers (8.15), diperoleh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03240" y="316080"/>
                <a:ext cx="29307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7703640" y="47952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6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53720" y="1219320"/>
            <a:ext cx="79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enyederhanaan dari Prandtl  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 s &lt;&lt; R , maka pers (16) menjadi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51120" y="1535040"/>
                <a:ext cx="2101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7702560" y="1752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6.a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70000" y="2514600"/>
            <a:ext cx="54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ila v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= (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en-US" sz="2000" spc="-1" strike="noStrike" baseline="30000">
                <a:solidFill>
                  <a:srgbClr val="660066"/>
                </a:solidFill>
                <a:latin typeface="Tahoma"/>
              </a:rPr>
              <a:t>0,5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, maka pers (8.16.a) menjadi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685880" y="3038400"/>
                <a:ext cx="20811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817760" y="312408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7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4240" y="3886200"/>
            <a:ext cx="747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ila pers (8.17) diintegrasi dengan kondisi batas s=s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=v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Tahoma"/>
              </a:rPr>
              <a:t>z1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5440" y="4191120"/>
                <a:ext cx="36446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s</m:t>
                    </m:r>
                    <m:r>
                      <m:t xml:space="preserve">³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7817760" y="43434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8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852560" y="5040360"/>
                <a:ext cx="61023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³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  <m:e/>
                      <m:e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Menurut</m:t>
                        </m:r>
                        <m:r>
                          <m:rPr>
                            <m:lit/>
                            <m:nor/>
                          </m:rPr>
                          <m:t xml:space="preserve">Deissler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752480" y="5029200"/>
            <a:ext cx="373392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86080" y="5165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8.19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867280"/>
            <a:ext cx="1143000" cy="76212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867280"/>
            <a:ext cx="1600200" cy="76212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2438280"/>
            <a:ext cx="1523880" cy="609840"/>
          </a:xfrm>
          <a:prstGeom prst="ellipse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8f3515"/>
                </a:solidFill>
                <a:latin typeface="Tahoma"/>
              </a:rPr>
              <a:t>Hasil Eksperimen Deissler (1955), diperoleh :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s</a:t>
            </a:r>
            <a:r>
              <a:rPr b="0" lang="id-ID" sz="20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= 26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id-ID" sz="20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= 12,85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;  s+ </a:t>
            </a:r>
            <a:r>
              <a:rPr b="1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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26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(8.20)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8f3515"/>
                </a:solidFill>
                <a:latin typeface="Tahoma"/>
              </a:rPr>
              <a:t>Pers. (8.20) menggambarkan profil kecepatan pd aliran TURBULEN, terutama pada Re&gt;20000, dan bukan utk daerah dekat dinding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d-ID" sz="2000" spc="-1" strike="noStrike" u="sng">
                <a:solidFill>
                  <a:srgbClr val="660066"/>
                </a:solidFill>
                <a:uFillTx/>
                <a:latin typeface="Tahoma"/>
              </a:rPr>
              <a:t>Contoh 2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(Distribusi kecepatan utk daerah dekat dinding)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Hukum Newton + hukum Deissler :   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(8.21)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68583c"/>
                </a:solidFill>
                <a:latin typeface="Tahoma"/>
              </a:rPr>
              <a:t>Dari pers (8.15) dan (8.21), dengan (1-s/R) = 1, diperoleh :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(8.22)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371600" y="1676520"/>
                <a:ext cx="2895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562720" y="4083120"/>
                <a:ext cx="2361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498680" y="4565520"/>
                <a:ext cx="6121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ρ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υ</m:t>
                                </m:r>
                              </m:den>
                            </m:f>
                          </m:e>
                        </m:d>
                      </m:e>
                    </m:d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82640" y="5937120"/>
                <a:ext cx="4695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ρ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υ</m:t>
                                </m:r>
                              </m:den>
                            </m:f>
                          </m:e>
                        </m:d>
                      </m:e>
                    </m:d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1219320" y="1676520"/>
            <a:ext cx="3200400" cy="838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217520" y="838080"/>
                <a:ext cx="129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495680" y="99072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7240" y="99684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ers. (8.19) menjadi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834b21"/>
                </a:solidFill>
                <a:latin typeface="Tahoma"/>
              </a:rPr>
              <a:t>8.22) diintegrasi dari s=0 s/d s=s, diperoleh pers. dlm </a:t>
            </a:r>
            <a:r>
              <a:rPr b="0" lang="id-ID" sz="2000" spc="-1" strike="noStrike">
                <a:solidFill>
                  <a:srgbClr val="834b21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834b21"/>
                </a:solidFill>
                <a:latin typeface="Tahoma"/>
              </a:rPr>
              <a:t>variabel tak berdimensi sbb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; 0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s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26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(8.23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# Untuk pipa panjang dan halus 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n = 0,124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# Utk   s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&lt;&lt;    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  Pers (8.23) menjadi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i="1" lang="id-ID" sz="2000" spc="-1" strike="noStrike">
                <a:solidFill>
                  <a:srgbClr val="660066"/>
                </a:solidFill>
                <a:latin typeface="Tahoma"/>
              </a:rPr>
              <a:t>v </a:t>
            </a:r>
            <a:r>
              <a:rPr b="1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=  s</a:t>
            </a:r>
            <a:r>
              <a:rPr b="1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;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0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s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+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5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    (8.24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Lihat Fig. 5.3-1 (Bird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d-ID" sz="2000" spc="-1" strike="noStrike" u="sng">
                <a:solidFill>
                  <a:srgbClr val="660066"/>
                </a:solidFill>
                <a:uFillTx/>
                <a:latin typeface="Tahoma"/>
              </a:rPr>
              <a:t>Contoh 3</a:t>
            </a:r>
            <a:r>
              <a:rPr b="1" lang="id-ID" sz="2000" spc="-1" strike="noStrike">
                <a:solidFill>
                  <a:srgbClr val="660066"/>
                </a:solidFill>
                <a:latin typeface="Tahoma"/>
              </a:rPr>
              <a:t> (Perbandingan antara viskositas molekuler &amp; ‘Eddy’)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Hitung rasio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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(t)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/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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pada s = R/2 untuk aliran air pada pipa panjang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&amp; halus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Diketahui :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R = 3”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</a:t>
            </a:r>
            <a:r>
              <a:rPr b="0" lang="id-ID" sz="2000" spc="-1" strike="noStrike" baseline="-25000">
                <a:solidFill>
                  <a:srgbClr val="660066"/>
                </a:solidFill>
                <a:latin typeface="Tahoma"/>
              </a:rPr>
              <a:t>0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= 2,36 x 10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-5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lbf/in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= 62,4 lbm/ft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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=  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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/</a:t>
            </a:r>
            <a:r>
              <a:rPr b="0" lang="id-ID" sz="20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= 1,1 x 10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-5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 ft</a:t>
            </a:r>
            <a:r>
              <a:rPr b="0" lang="id-ID" sz="20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0" lang="id-ID" sz="2000" spc="-1" strike="noStrike">
                <a:solidFill>
                  <a:srgbClr val="660066"/>
                </a:solidFill>
                <a:latin typeface="Tahoma"/>
              </a:rPr>
              <a:t>/det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23880" y="99684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p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600200" y="2819520"/>
            <a:ext cx="1371600" cy="380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19320" y="609480"/>
            <a:ext cx="79246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Viskositas Eddy didefinisikan sbb: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1528920" indent="-152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660066"/>
                </a:solidFill>
                <a:latin typeface="Tempus Sans ITC"/>
              </a:rPr>
              <a:t>Kesimpulan</a:t>
            </a: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  : Pd daerah jauh dari dinding tabung, transport </a:t>
            </a: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	</a:t>
            </a: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momentum MOLEKULER dpt diabaikan thd </a:t>
            </a: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	</a:t>
            </a:r>
            <a:r>
              <a:rPr b="0" lang="id-ID" sz="2400" spc="-1" strike="noStrike">
                <a:solidFill>
                  <a:srgbClr val="660066"/>
                </a:solidFill>
                <a:latin typeface="Tempus Sans ITC"/>
              </a:rPr>
              <a:t>transport momentum EDD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295280" y="1143000"/>
                <a:ext cx="54104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</m:sSup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τ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314360" y="2820960"/>
                <a:ext cx="537228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ρ</m:t>
                                    </m:r>
                                  </m:den>
                                </m:f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arena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hitu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,8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556240" y="4267080"/>
                <a:ext cx="1149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95280" y="1905120"/>
                <a:ext cx="7010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τ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d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29200" y="1752480"/>
                <a:ext cx="2133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211400" y="198108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1. Prengle &amp; Rothfus (1955)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86720" y="2690640"/>
            <a:ext cx="17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Re = 10</a:t>
            </a:r>
            <a:r>
              <a:rPr b="0" lang="en-US" sz="2200" spc="-1" strike="noStrike" baseline="30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- 10</a:t>
            </a:r>
            <a:r>
              <a:rPr b="0" lang="en-US" sz="2200" spc="-1" strike="noStrike" baseline="30000">
                <a:solidFill>
                  <a:srgbClr val="0033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419720" y="3276720"/>
                <a:ext cx="2895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143000" y="5486400"/>
            <a:ext cx="7481880" cy="612360"/>
            <a:chOff x="1143000" y="5486400"/>
            <a:chExt cx="7481880" cy="612360"/>
          </a:xfrm>
        </p:grpSpPr>
        <p:sp>
          <p:nvSpPr>
            <p:cNvPr id="270" name=""/>
            <p:cNvSpPr/>
            <p:nvPr/>
          </p:nvSpPr>
          <p:spPr>
            <a:xfrm>
              <a:off x="1290240" y="5515200"/>
              <a:ext cx="267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68040" y="551520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024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2160" y="5515200"/>
              <a:ext cx="78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.3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580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49280" y="5515200"/>
              <a:ext cx="78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.1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256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96960" y="5515200"/>
              <a:ext cx="78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.1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24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1880" y="5515200"/>
              <a:ext cx="78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.0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372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19400" y="5515200"/>
              <a:ext cx="78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.2 x 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92680" y="5486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300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300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00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57400" y="5491440"/>
              <a:ext cx="5223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57400" y="5491440"/>
              <a:ext cx="52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9760" y="5491440"/>
              <a:ext cx="1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7976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5491440"/>
              <a:ext cx="1020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2360" y="5491440"/>
              <a:ext cx="102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1296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12960" y="54914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27360" y="5491440"/>
              <a:ext cx="11602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27360" y="5491440"/>
              <a:ext cx="116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7640" y="54914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764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87640" y="54914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02040" y="5491440"/>
              <a:ext cx="1147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02040" y="5491440"/>
              <a:ext cx="1147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49720" y="54914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972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49720" y="54914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64120" y="5491440"/>
              <a:ext cx="11145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64120" y="5491440"/>
              <a:ext cx="111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8680" y="54914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8680" y="5491440"/>
              <a:ext cx="14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868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92720" y="5491440"/>
              <a:ext cx="1266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720" y="5491440"/>
              <a:ext cx="126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59560" y="54914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59560" y="54914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73960" y="5491440"/>
              <a:ext cx="11383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73960" y="5491440"/>
              <a:ext cx="11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12280" y="5491440"/>
              <a:ext cx="1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1228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12280" y="5491440"/>
              <a:ext cx="1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612280" y="5491440"/>
              <a:ext cx="14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3000" y="550548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9760" y="550548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12960" y="550548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87640" y="5505480"/>
              <a:ext cx="1440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87640" y="550548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9720" y="5505480"/>
              <a:ext cx="1440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49720" y="550548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8680" y="5505480"/>
              <a:ext cx="1404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8680" y="550548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59560" y="550548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612280" y="550548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65120" y="5808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52360" y="5808960"/>
              <a:ext cx="30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6.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57200" y="5808960"/>
              <a:ext cx="30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6.6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23960" y="5808960"/>
              <a:ext cx="30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.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71640" y="5808960"/>
              <a:ext cx="30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8.8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05720" y="58089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23240" y="58089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9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43000" y="57848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3000" y="5784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57400" y="5784840"/>
              <a:ext cx="5223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57400" y="5784840"/>
              <a:ext cx="52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79760" y="5784840"/>
              <a:ext cx="12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9760" y="5784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2360" y="5784840"/>
              <a:ext cx="1020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92360" y="5784840"/>
              <a:ext cx="10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12960" y="57848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2960" y="578484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27360" y="5784840"/>
              <a:ext cx="11602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27360" y="5784840"/>
              <a:ext cx="1160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7640" y="5784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87640" y="57848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87640" y="578484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02040" y="5784840"/>
              <a:ext cx="11476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02040" y="5784840"/>
              <a:ext cx="1147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49720" y="5784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49720" y="57848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720" y="578484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64120" y="5784840"/>
              <a:ext cx="1114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64120" y="5784840"/>
              <a:ext cx="111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8680" y="5784840"/>
              <a:ext cx="14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8680" y="5784840"/>
              <a:ext cx="14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78680" y="5784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92720" y="5784840"/>
              <a:ext cx="126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92720" y="5784840"/>
              <a:ext cx="1266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9560" y="57848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59560" y="578484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73960" y="5784840"/>
              <a:ext cx="11383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73960" y="5784840"/>
              <a:ext cx="113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12280" y="5784840"/>
              <a:ext cx="12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12280" y="5784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579924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4300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4300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4300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4300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57400" y="6078600"/>
              <a:ext cx="5223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7400" y="6078600"/>
              <a:ext cx="52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9760" y="579924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79760" y="6078600"/>
              <a:ext cx="12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976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92360" y="6078600"/>
              <a:ext cx="1020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92360" y="6078600"/>
              <a:ext cx="10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12960" y="579924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1296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12960" y="60786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27360" y="6078600"/>
              <a:ext cx="11602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7360" y="6078600"/>
              <a:ext cx="1160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7640" y="5799240"/>
              <a:ext cx="1440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579924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7640" y="60786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8764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7640" y="60786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02040" y="6078600"/>
              <a:ext cx="11476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02040" y="6078600"/>
              <a:ext cx="1147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49720" y="5799240"/>
              <a:ext cx="1440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49720" y="579924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49720" y="60786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4972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49720" y="60786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64120" y="6078600"/>
              <a:ext cx="1114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4120" y="6078600"/>
              <a:ext cx="111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78680" y="5799240"/>
              <a:ext cx="1404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78680" y="579924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78680" y="6078600"/>
              <a:ext cx="14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8680" y="6078600"/>
              <a:ext cx="14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7868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92720" y="6078600"/>
              <a:ext cx="126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92720" y="6078600"/>
              <a:ext cx="1266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59560" y="579924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59560" y="60786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59560" y="607860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3960" y="6078600"/>
              <a:ext cx="11383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73960" y="6078600"/>
              <a:ext cx="113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12280" y="579924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12280" y="6078600"/>
              <a:ext cx="12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1228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612280" y="6078600"/>
              <a:ext cx="12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12280" y="607860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213560" y="3581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2. Schlichting (1951)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6200" y="68580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GulimChe"/>
              </a:rPr>
              <a:t>Korelasi sederhana dari data eksperimen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GulimChe"/>
              </a:rPr>
              <a:t>untuk aliran TURBULEN dalam pip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4406760" y="4371840"/>
                <a:ext cx="26798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219320" y="654120"/>
            <a:ext cx="76197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7594200" y="1522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Lucida Handwriting"/>
              </a:rPr>
              <a:t>Eksperimen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-568800" y="3224520"/>
            <a:ext cx="363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ping Diagram of Velocity Profile Apparatus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09600" y="299880"/>
            <a:ext cx="394668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463760" y="304920"/>
            <a:ext cx="3794040" cy="59436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03080" y="676440"/>
            <a:ext cx="37954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Analisis data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i data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, hitung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itung mass flowrate, (v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r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itung profil kecepatan,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lot:        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vs  r/R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tegrasikan profil kecep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utk hitung mass flowrate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itung v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rt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dan Re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i data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dan Fig 5.3-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itung v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, bandingka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engan v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data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itung n pd pers.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Schlichting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715000" y="1614600"/>
                <a:ext cx="2286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324480" y="2987640"/>
                <a:ext cx="1295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/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080" y="76320"/>
            <a:ext cx="652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hapter 8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ISTRIBUSI KECEPATAN PADA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LIRAN TURBULE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57600" y="2438280"/>
                <a:ext cx="3859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00360" y="4356000"/>
                <a:ext cx="4135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430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1. Lamin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rofil kecepatan aliran fluida dalam tabung 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2. Turbule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17760" y="3494160"/>
                <a:ext cx="3435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miner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D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895480" y="28195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6483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48240" y="2590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1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4360" y="4495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2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81640"/>
            <a:ext cx="716292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Pers. (8.2) terutama untuk Re = 10</a:t>
            </a:r>
            <a:r>
              <a:rPr b="0" lang="en-US" sz="20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- 10</a:t>
            </a:r>
            <a:r>
              <a:rPr b="0" lang="en-US" sz="2000" spc="-1" strike="noStrike" baseline="30000">
                <a:solidFill>
                  <a:srgbClr val="660066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Pers  yg lebih akurat akan dibahas kemudia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ecara grafis, pers (8.1) dan (8.2) dapat dilihat pada 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gambar berikut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334120"/>
            <a:ext cx="7391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981080" y="1268280"/>
            <a:ext cx="6177240" cy="528984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990800" y="1273320"/>
            <a:ext cx="6172200" cy="5275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643120" y="4048200"/>
            <a:ext cx="150840" cy="280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25240" y="6094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Lucida Sans Unicode"/>
              </a:rPr>
              <a:t>Impact tube (Pitot tub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94200" y="1522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Lucida Handwriting"/>
              </a:rPr>
              <a:t>Eksperimen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74880" y="892080"/>
            <a:ext cx="7940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id-ID" sz="1800" spc="-1" strike="noStrike">
                <a:solidFill>
                  <a:srgbClr val="a00804"/>
                </a:solidFill>
                <a:latin typeface="Arial"/>
              </a:rPr>
              <a:t>(5.A). Presssure drop yg diperlukan utk Transisi Laminer-Turbulen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Pada Daerah Transisi  :  Re =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Hk. Poiseuille  :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id-ID" sz="1800" spc="-1" strike="noStrike">
                <a:solidFill>
                  <a:srgbClr val="0066ff"/>
                </a:solidFill>
                <a:latin typeface="Arial"/>
              </a:rPr>
              <a:t>(5.B). Distribusi Kecepatan dlm Aliran Pipa Turbulen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(a)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660066"/>
              </a:buClr>
              <a:buFont typeface="Symbol" charset="2"/>
              <a:buAutoNum type="alphaLcParenR" startAt="2"/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= 1,0 gr/cc  =  62,4 lb/ft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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= 0,01 gr.cm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-1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.det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= </a:t>
            </a: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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/</a:t>
            </a: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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=  0,01 cm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/det  =  1,1 x 10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-5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ft</a:t>
            </a:r>
            <a:r>
              <a:rPr b="0" lang="id-ID" sz="18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/det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24480" y="15238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33920" y="34290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797360" y="1290600"/>
                <a:ext cx="1606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ν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719520" y="1930320"/>
                <a:ext cx="261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ΔP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686640" y="1501920"/>
                <a:ext cx="1695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ρ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609560" y="3238560"/>
                <a:ext cx="72946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,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le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ΔΡ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,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28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`````````````````````````````````````````````````````````=``4,</m:t>
                        </m:r>
                        <m: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`x`</m:t>
                        </m:r>
                        <m: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rSup { size 8{ - 5} } `` ital </m:t>
                        </m:r>
                        <m:r>
                          <m:t xml:space="preserve">psi</m:t>
                        </m:r>
                        <m:r>
                          <m:rPr>
                            <m:lit/>
                            <m:nor/>
                          </m:rPr>
                          <m:t xml:space="preserve">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753240" y="4572000"/>
                <a:ext cx="1503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248520" y="44956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096920" y="5486400"/>
                <a:ext cx="7481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b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4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t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b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/d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8160" y="21747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1628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6920" y="3049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empus Sans ITC"/>
              </a:rPr>
              <a:t>Latihan Soal-soal (Bird, Chapter.5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050840" y="1447920"/>
            <a:ext cx="7483680" cy="26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Pd. Pusat Tabung   </a:t>
            </a:r>
            <a:r>
              <a:rPr b="0" lang="id-ID" sz="18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r  =  0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               s</a:t>
            </a:r>
            <a:r>
              <a:rPr b="0" lang="id-ID" sz="1800" spc="-1" strike="noStrike" baseline="30000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|</a:t>
            </a:r>
            <a:r>
              <a:rPr b="0" lang="id-ID" sz="1800" spc="-1" strike="noStrike" baseline="-25000">
                <a:solidFill>
                  <a:srgbClr val="660066"/>
                </a:solidFill>
                <a:latin typeface="Times New Roman"/>
              </a:rPr>
              <a:t>s=R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=  (5390).(0,5)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s = R = 0,5 ft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0" lang="id-ID" sz="1800" spc="-1" strike="noStrike" baseline="30000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|</a:t>
            </a:r>
            <a:r>
              <a:rPr b="0" lang="id-ID" sz="1800" spc="-1" strike="noStrike" baseline="-25000">
                <a:solidFill>
                  <a:srgbClr val="660066"/>
                </a:solidFill>
                <a:latin typeface="Times New Roman"/>
              </a:rPr>
              <a:t>s=R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  =  2695</a:t>
            </a:r>
            <a:r>
              <a:rPr b="0" lang="id-ID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20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0" lang="id-ID" sz="2000" spc="-1" strike="noStrike" baseline="-25000">
                <a:solidFill>
                  <a:srgbClr val="660066"/>
                </a:solidFill>
                <a:latin typeface="Times New Roman"/>
              </a:rPr>
              <a:t>fig 5.3-1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v</a:t>
            </a:r>
            <a:r>
              <a:rPr b="0" lang="id-ID" sz="1800" spc="-1" strike="noStrike" baseline="30000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|</a:t>
            </a:r>
            <a:r>
              <a:rPr b="0" lang="id-ID" sz="1800" spc="-1" strike="noStrike" baseline="-25000">
                <a:solidFill>
                  <a:srgbClr val="660066"/>
                </a:solidFill>
                <a:latin typeface="Times New Roman"/>
              </a:rPr>
              <a:t>s=R</a:t>
            </a: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= 25,8          </a:t>
            </a:r>
            <a:r>
              <a:rPr b="0" lang="id-ID" sz="1800" spc="-1" strike="noStrike">
                <a:solidFill>
                  <a:srgbClr val="1d8a1a"/>
                </a:solidFill>
                <a:latin typeface="Times New Roman"/>
              </a:rPr>
              <a:t>(= v</a:t>
            </a:r>
            <a:r>
              <a:rPr b="0" lang="id-ID" sz="1800" spc="-1" strike="noStrike" baseline="30000">
                <a:solidFill>
                  <a:srgbClr val="1d8a1a"/>
                </a:solidFill>
                <a:latin typeface="Times New Roman"/>
              </a:rPr>
              <a:t>+</a:t>
            </a:r>
            <a:r>
              <a:rPr b="0" lang="id-ID" sz="1800" spc="-1" strike="noStrike" baseline="-25000">
                <a:solidFill>
                  <a:srgbClr val="1d8a1a"/>
                </a:solidFill>
                <a:latin typeface="Times New Roman"/>
              </a:rPr>
              <a:t>max</a:t>
            </a:r>
            <a:r>
              <a:rPr b="0" lang="id-ID" sz="1800" spc="-1" strike="noStrike">
                <a:solidFill>
                  <a:srgbClr val="1d8a1a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Times New Roman"/>
              </a:rPr>
              <a:t>(c)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755720" y="477720"/>
                <a:ext cx="5249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3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105520" y="1523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90960" y="241776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2133720"/>
            <a:ext cx="1981080" cy="609480"/>
          </a:xfrm>
          <a:prstGeom prst="rect">
            <a:avLst/>
          </a:prstGeom>
          <a:noFill/>
          <a:ln w="9360">
            <a:solidFill>
              <a:srgbClr val="f8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2133720"/>
            <a:ext cx="1523880" cy="609480"/>
          </a:xfrm>
          <a:prstGeom prst="rect">
            <a:avLst/>
          </a:prstGeom>
          <a:noFill/>
          <a:ln w="9360">
            <a:solidFill>
              <a:srgbClr val="f8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80880"/>
            <a:ext cx="2361960" cy="914400"/>
          </a:xfrm>
          <a:prstGeom prst="rect">
            <a:avLst/>
          </a:prstGeom>
          <a:noFill/>
          <a:ln w="9360">
            <a:solidFill>
              <a:srgbClr val="f8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880"/>
            <a:ext cx="2514600" cy="838440"/>
          </a:xfrm>
          <a:prstGeom prst="rect">
            <a:avLst/>
          </a:prstGeom>
          <a:noFill/>
          <a:ln w="9360">
            <a:solidFill>
              <a:srgbClr val="f8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144960" y="2971800"/>
                <a:ext cx="2016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828800" y="32004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571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9260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8880" y="3124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61" name="Gr6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731520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Gr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140360" cy="5943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691160" y="380880"/>
            <a:ext cx="445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(e). Q = ?   </a:t>
            </a:r>
            <a:r>
              <a:rPr b="0" lang="id-ID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0" lang="id-ID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diperoleh dg mengin-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 tegrasi profil kecep.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diselesaikan dg integrasi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numeris (Simpson Rule)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660066"/>
                </a:solidFill>
                <a:latin typeface="Arial"/>
              </a:rPr>
              <a:t>Utk N buah increment (N genap)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129280" y="1295280"/>
                <a:ext cx="3633840" cy="23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ma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425840" y="4495680"/>
                <a:ext cx="471816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o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cremen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324480" y="228600"/>
                <a:ext cx="16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261120" y="609480"/>
                <a:ext cx="596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066680" y="1219320"/>
                <a:ext cx="805500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max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4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299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9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8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awaban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sum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urbulen</m:t>
                            </m:r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9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,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628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66680" y="380880"/>
                <a:ext cx="32814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905120" y="4038480"/>
            <a:ext cx="4038480" cy="5335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219320" y="623880"/>
                <a:ext cx="7704000" cy="34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max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max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MINER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100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00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,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15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968400" y="22860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empus Sans ITC"/>
              </a:rPr>
              <a:t>Jika alirannya LAMINER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066680" y="4343400"/>
                <a:ext cx="7925040" cy="24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ukum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iseuille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64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 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/det</m:t>
                                </m:r>
                              </m:e>
                            </m:d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(</m:t>
                            </m:r>
                            <m:r>
                              <m:t xml:space="preserve">0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8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l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,9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l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p-sl1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933960" cy="5662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388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fil kecepatan aliran fluida dalam tabung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Tiga zone ‘arbitrary ’ dalam tabung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43000" y="914400"/>
            <a:ext cx="7009920" cy="5682600"/>
            <a:chOff x="1143000" y="914400"/>
            <a:chExt cx="7009920" cy="5682600"/>
          </a:xfrm>
        </p:grpSpPr>
        <p:pic>
          <p:nvPicPr>
            <p:cNvPr id="130" name="pp-sl2" descr=""/>
            <p:cNvPicPr/>
            <p:nvPr/>
          </p:nvPicPr>
          <p:blipFill>
            <a:blip r:embed="rId1"/>
            <a:stretch/>
          </p:blipFill>
          <p:spPr>
            <a:xfrm>
              <a:off x="1143000" y="914400"/>
              <a:ext cx="70099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559240" y="61372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62080" y="43434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56120" y="17524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2286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057400" y="304920"/>
            <a:ext cx="5486400" cy="479160"/>
            <a:chOff x="2057400" y="304920"/>
            <a:chExt cx="5486400" cy="479160"/>
          </a:xfrm>
        </p:grpSpPr>
        <p:sp>
          <p:nvSpPr>
            <p:cNvPr id="136" name=""/>
            <p:cNvSpPr/>
            <p:nvPr/>
          </p:nvSpPr>
          <p:spPr>
            <a:xfrm>
              <a:off x="2057400" y="30492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Comic Sans MS"/>
                </a:rPr>
                <a:t>Time-smoothed velocity (       )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248520" y="304920"/>
                  <a:ext cx="62712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V</m:t>
                              </m:r>
                            </m:e>
                          </m:ba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1523880" y="1066680"/>
            <a:ext cx="6629400" cy="3690720"/>
            <a:chOff x="1523880" y="1066680"/>
            <a:chExt cx="6629400" cy="3690720"/>
          </a:xfrm>
        </p:grpSpPr>
        <p:pic>
          <p:nvPicPr>
            <p:cNvPr id="139" name="pp-sl3" descr=""/>
            <p:cNvPicPr/>
            <p:nvPr/>
          </p:nvPicPr>
          <p:blipFill>
            <a:blip r:embed="rId1"/>
            <a:stretch/>
          </p:blipFill>
          <p:spPr>
            <a:xfrm>
              <a:off x="1523880" y="1066680"/>
              <a:ext cx="6629400" cy="36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39160" y="323820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Times New Roman"/>
                </a:rPr>
                <a:t>(Fluktuasi kecepatan)</a:t>
              </a:r>
              <a:endParaRPr b="0" lang="en-US" sz="1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05120" y="5102280"/>
                <a:ext cx="2095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'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'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38480" y="5380200"/>
                <a:ext cx="137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t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sSup>
                                  <m:e>
                                    <m:r>
                                      <m:t xml:space="preserve"> 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</m:e>
                        </m:ra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85320" y="56386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Intensity of turbulence 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54360" y="1219320"/>
                <a:ext cx="1827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8071920" y="1143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3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6680" y="5486400"/>
            <a:ext cx="230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Ukuran besarnya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gangguan turbulensi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7400" y="6248520"/>
            <a:ext cx="49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Pada aliran pipa, </a:t>
            </a:r>
            <a:r>
              <a:rPr b="1" i="1" lang="en-US" sz="2000" spc="-1" strike="noStrike">
                <a:solidFill>
                  <a:srgbClr val="660066"/>
                </a:solidFill>
                <a:latin typeface="Times New Roman"/>
              </a:rPr>
              <a:t>It</a:t>
            </a:r>
            <a:r>
              <a:rPr b="0" i="1" lang="en-US" sz="2000" spc="-1" strike="noStrike">
                <a:solidFill>
                  <a:srgbClr val="660066"/>
                </a:solidFill>
                <a:latin typeface="Times New Roman"/>
              </a:rPr>
              <a:t> berkisar antara 1 - 10 %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56386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p-sl4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76520" y="533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Turbulent fluctuation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    Reynold str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135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944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773760" y="2017800"/>
                <a:ext cx="1608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76520" y="2286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Time-smoothing pada persamaan perubahan utk fluida incompressib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1668600"/>
                <a:ext cx="25146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23880" y="2971800"/>
                <a:ext cx="662940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'</m:t>
                                </m:r>
                              </m:e>
                            </m:ba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43360" y="1181160"/>
            <a:ext cx="37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Pers kontinuitas (time-smoothed)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2640" y="2681280"/>
            <a:ext cx="31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Pers gerak (time-smoothed)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0520" y="1143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4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76840" y="37339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5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6960" y="54244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Turbulent momentum flux         (Reynold stress)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114800" y="5424480"/>
                <a:ext cx="3682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66880" y="5913360"/>
                <a:ext cx="5257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8307000" y="5867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6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616280"/>
            <a:ext cx="4419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533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alam notasi vektor, pers (8.4) dan (8.5) dapat ditulis sbb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360" y="1181160"/>
            <a:ext cx="37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Pers kontinuitas (time-smoothed)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2640" y="2438280"/>
            <a:ext cx="31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Pers gerak (time-smoothed) 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133720" y="1474920"/>
                <a:ext cx="1218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09680" y="2981160"/>
                <a:ext cx="44960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7697160" y="16002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7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3480" y="2971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8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77840" y="3990960"/>
            <a:ext cx="7908840" cy="2589120"/>
            <a:chOff x="1077840" y="3990960"/>
            <a:chExt cx="7908840" cy="2589120"/>
          </a:xfrm>
        </p:grpSpPr>
        <p:sp>
          <p:nvSpPr>
            <p:cNvPr id="174" name=""/>
            <p:cNvSpPr/>
            <p:nvPr/>
          </p:nvSpPr>
          <p:spPr>
            <a:xfrm>
              <a:off x="1077840" y="4038480"/>
              <a:ext cx="79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0066"/>
                </a:buClr>
                <a:buFont typeface="Times New Roman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Catatan : (1).            diberikan pada Tabel 3.4-5, 3.4-6, dan 3.4-7 dari ‘BIRD’,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                           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dengan mengganti      dengan 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(2). Pers.-pers pada Tabel 3.4-2, 3.4-3, dan 3.4-4 dari BIRD dapat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dipakai utk problem </a:t>
              </a:r>
              <a:r>
                <a:rPr b="1" lang="en-US" sz="1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660066"/>
                  </a:solidFill>
                  <a:latin typeface="Times New Roman"/>
                </a:rPr>
                <a:t> aliran turbulen, dg mengganti :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2762280" y="399096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τ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715000" y="4343400"/>
                  <a:ext cx="38088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4648320" y="4365720"/>
                  <a:ext cx="231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819520" y="5256360"/>
                  <a:ext cx="1828800" cy="13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v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e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τ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l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τ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676520" y="228600"/>
            <a:ext cx="6476760" cy="1066680"/>
            <a:chOff x="1676520" y="228600"/>
            <a:chExt cx="6476760" cy="1066680"/>
          </a:xfrm>
        </p:grpSpPr>
        <p:sp>
          <p:nvSpPr>
            <p:cNvPr id="180" name=""/>
            <p:cNvSpPr/>
            <p:nvPr/>
          </p:nvSpPr>
          <p:spPr>
            <a:xfrm>
              <a:off x="1676520" y="228600"/>
              <a:ext cx="6476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Comic Sans MS"/>
                </a:rPr>
                <a:t>Persamaan-persamaan semi-empiri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Comic Sans MS"/>
                </a:rPr>
                <a:t>untuk (          )</a:t>
              </a:r>
              <a:r>
                <a:rPr b="0" lang="en-US" sz="2400" spc="-1" strike="noStrike">
                  <a:solidFill>
                    <a:srgbClr val="ffcc99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660066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946760" y="636480"/>
                  <a:ext cx="8445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τ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x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990000" y="16002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1). Boussinesq’s Eddy Viscosit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60720" y="2071800"/>
                <a:ext cx="2232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88200" y="31240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2). Prandtl’s Mixing Length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03560" y="3594240"/>
                <a:ext cx="47307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986760" y="46846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3). Von Karman’s Similarity Hypothesi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179800" y="5167440"/>
                <a:ext cx="4257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κ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7697160" y="2209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9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0" y="37339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10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14720" y="54100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8.11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08:51:07Z</dcterms:created>
  <dc:creator>wahid</dc:creator>
  <dc:description/>
  <dc:language>en-US</dc:language>
  <cp:lastModifiedBy>Bismillah</cp:lastModifiedBy>
  <cp:lastPrinted>1999-10-20T08:55:44Z</cp:lastPrinted>
  <dcterms:modified xsi:type="dcterms:W3CDTF">2004-03-29T15:19:03Z</dcterms:modified>
  <cp:revision>60</cp:revision>
  <dc:subject/>
  <dc:title>No Slide Title</dc:title>
</cp:coreProperties>
</file>